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19.gif" ContentType="image/gif"/>
  <Override PartName="/ppt/media/image1.gif" ContentType="image/gif"/>
  <Override PartName="/ppt/media/image5.png" ContentType="image/png"/>
  <Override PartName="/ppt/media/image10.png" ContentType="image/png"/>
  <Override PartName="/ppt/media/image18.jpeg" ContentType="image/jpeg"/>
  <Override PartName="/ppt/media/image3.gif" ContentType="image/gif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DFA-9B29-4020-8097-0DF559F1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C60-ADAE-45A6-A176-B06B5793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498-2E79-4DF4-B030-1C7C670F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89F-175E-4756-86E4-13796105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85E-1108-4852-88B4-1EA0DFCA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80C-58FA-4075-9EDF-B795C418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F93-E0B9-4C4A-90EC-D67ABB02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FE4-ED2E-4937-8129-6FE5350B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96C-7F4B-4F35-8ED5-5D73C02B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6CB-6C96-4CE0-89A1-2E6F551D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412-5A5A-4ECA-BC90-1D6BA192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973-D761-40A4-89CC-4FC32597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4A92-A3C6-40A2-9257-CAF7EDACE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 математики 2класс. Площадь закрашенной фиг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55"/>
          <p:cNvPicPr/>
          <p:nvPr/>
        </p:nvPicPr>
        <p:blipFill>
          <a:blip r:embed="rId1"/>
          <a:stretch/>
        </p:blipFill>
        <p:spPr>
          <a:xfrm>
            <a:off x="611280" y="2133720"/>
            <a:ext cx="2016000" cy="3582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-colors"/>
          <p:cNvPicPr/>
          <p:nvPr/>
        </p:nvPicPr>
        <p:blipFill>
          <a:blip r:embed="rId2"/>
          <a:stretch/>
        </p:blipFill>
        <p:spPr>
          <a:xfrm>
            <a:off x="3357720" y="1916280"/>
            <a:ext cx="5329080" cy="34113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2794680" y="5516640"/>
            <a:ext cx="49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идухина Л.Г .МОБУ СОШ№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03280" y="4653000"/>
            <a:ext cx="64087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47640" y="5157720"/>
          <a:ext cx="5400720" cy="1368360"/>
        </p:xfrm>
        <a:graphic>
          <a:graphicData uri="http://schemas.openxmlformats.org/drawingml/2006/table">
            <a:tbl>
              <a:tblPr/>
              <a:tblGrid>
                <a:gridCol w="771840"/>
                <a:gridCol w="771480"/>
                <a:gridCol w="771480"/>
                <a:gridCol w="771480"/>
                <a:gridCol w="771480"/>
                <a:gridCol w="771480"/>
                <a:gridCol w="7714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130" descr="rect%C3%A1ngulo+coloreado"/>
          <p:cNvPicPr/>
          <p:nvPr/>
        </p:nvPicPr>
        <p:blipFill>
          <a:blip r:embed="rId1"/>
          <a:stretch/>
        </p:blipFill>
        <p:spPr>
          <a:xfrm>
            <a:off x="1403280" y="1341360"/>
            <a:ext cx="5335560" cy="3627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3"/>
          <p:cNvSpPr/>
          <p:nvPr/>
        </p:nvSpPr>
        <p:spPr>
          <a:xfrm>
            <a:off x="1763640" y="260280"/>
            <a:ext cx="396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ощадь Белорецка 41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3" descr="10"/>
          <p:cNvPicPr/>
          <p:nvPr/>
        </p:nvPicPr>
        <p:blipFill>
          <a:blip r:embed="rId2"/>
          <a:stretch/>
        </p:blipFill>
        <p:spPr>
          <a:xfrm>
            <a:off x="6400800" y="189000"/>
            <a:ext cx="27432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476280"/>
          <a:ext cx="8229600" cy="5291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34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 успешности _____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сё получилось, было интерес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были неточности, но я справил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е понял, нужна помощь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2" name="Овал 7"/>
          <p:cNvSpPr/>
          <p:nvPr/>
        </p:nvSpPr>
        <p:spPr>
          <a:xfrm>
            <a:off x="971640" y="4292640"/>
            <a:ext cx="419040" cy="365040"/>
          </a:xfrm>
          <a:prstGeom prst="ellipse">
            <a:avLst/>
          </a:prstGeom>
          <a:solidFill>
            <a:srgbClr val="99cc00"/>
          </a:solidFill>
          <a:ln w="55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0"/>
          <p:cNvSpPr/>
          <p:nvPr/>
        </p:nvSpPr>
        <p:spPr>
          <a:xfrm>
            <a:off x="971640" y="4869000"/>
            <a:ext cx="420480" cy="3650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8"/>
          <p:cNvSpPr/>
          <p:nvPr/>
        </p:nvSpPr>
        <p:spPr>
          <a:xfrm>
            <a:off x="971640" y="5373720"/>
            <a:ext cx="419040" cy="36684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0"/>
          <p:cNvSpPr/>
          <p:nvPr/>
        </p:nvSpPr>
        <p:spPr>
          <a:xfrm>
            <a:off x="971640" y="4869000"/>
            <a:ext cx="420480" cy="365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41767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ощади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rect%C3%A1ngulo+coloreado"/>
          <p:cNvPicPr/>
          <p:nvPr/>
        </p:nvPicPr>
        <p:blipFill>
          <a:blip r:embed="rId1"/>
          <a:stretch/>
        </p:blipFill>
        <p:spPr>
          <a:xfrm rot="268800">
            <a:off x="4788000" y="1773360"/>
            <a:ext cx="4039920" cy="3120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059280" y="2349360"/>
            <a:ext cx="1131840" cy="105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rot="20691600">
            <a:off x="1042560" y="2997000"/>
            <a:ext cx="1368360" cy="2160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 rot="20930400">
            <a:off x="2195640" y="5229360"/>
            <a:ext cx="2376360" cy="720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 rot="1653600">
            <a:off x="468360" y="1197000"/>
            <a:ext cx="1511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419640" y="620640"/>
            <a:ext cx="511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рашенных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горитм площади закрашенно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г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йти площадь  первой фигур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Найти площадь второй фиг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Найти раз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643280" y="4149720"/>
            <a:ext cx="4176720" cy="201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508720" y="4653000"/>
            <a:ext cx="237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5516640"/>
            <a:ext cx="771516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8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4= 32 (с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5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= 10 (с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3) 32 - 10 = 22(с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g4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2"/>
          <p:cNvSpPr/>
          <p:nvPr/>
        </p:nvSpPr>
        <p:spPr>
          <a:xfrm>
            <a:off x="539640" y="2276640"/>
            <a:ext cx="3024360" cy="2376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1187280" y="2997360"/>
            <a:ext cx="1368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5640" y="1700280"/>
            <a:ext cx="1871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д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3419640" y="306864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д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1332000" y="2565360"/>
            <a:ext cx="17287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д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1"/>
          <p:cNvSpPr/>
          <p:nvPr/>
        </p:nvSpPr>
        <p:spPr>
          <a:xfrm>
            <a:off x="2556000" y="3141720"/>
            <a:ext cx="1006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4572000" y="5445000"/>
            <a:ext cx="33847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=6д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4716360" y="6093000"/>
            <a:ext cx="3384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)24-6=18д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5076720" y="981000"/>
            <a:ext cx="17287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1332000" y="476280"/>
            <a:ext cx="6553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дите площадь закрашенной фиг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4716360" y="4869000"/>
            <a:ext cx="3384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=24д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rect%C3%A1ngulo+coloreado"/>
          <p:cNvPicPr/>
          <p:nvPr/>
        </p:nvPicPr>
        <p:blipFill>
          <a:blip r:embed="rId1"/>
          <a:stretch/>
        </p:blipFill>
        <p:spPr>
          <a:xfrm rot="268800">
            <a:off x="6227280" y="980640"/>
            <a:ext cx="24703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иц-турни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исать решение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rect%C3%A1ngulo+coloreado"/>
          <p:cNvPicPr/>
          <p:nvPr/>
        </p:nvPicPr>
        <p:blipFill>
          <a:blip r:embed="rId1"/>
          <a:stretch/>
        </p:blipFill>
        <p:spPr>
          <a:xfrm>
            <a:off x="2700360" y="2421000"/>
            <a:ext cx="4032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8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ревнованиях по горным лыжам принимали участие 5 команд из разных городов по 7 человек в каждой. Сколько всего спортсме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%D0%BC%D1%80%D0%B0%D1%82%D0%BA%D0%B8%D0%BD%D0%BE"/>
          <p:cNvPicPr/>
          <p:nvPr/>
        </p:nvPicPr>
        <p:blipFill>
          <a:blip r:embed="rId1"/>
          <a:stretch/>
        </p:blipFill>
        <p:spPr>
          <a:xfrm>
            <a:off x="539640" y="2349360"/>
            <a:ext cx="7993080" cy="31100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1763640" y="5157720"/>
            <a:ext cx="612144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∙5=35(спортсмен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еся 2 В класса заняли 2 ряда по 8 мест в каждом и ещё 5 мест. Сколько всего учащихся 2В пришли на спектак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71280" y="5589720"/>
            <a:ext cx="42483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∙ 2 + 5=21(учен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11274420"/>
          <p:cNvPicPr/>
          <p:nvPr/>
        </p:nvPicPr>
        <p:blipFill>
          <a:blip r:embed="rId1"/>
          <a:stretch/>
        </p:blipFill>
        <p:spPr>
          <a:xfrm>
            <a:off x="2124000" y="1628640"/>
            <a:ext cx="50738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 дней музей посещало по 4 группы каждый день.Сколько всего групп посетило музей за эти д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Краеведческий музей"/>
          <p:cNvPicPr/>
          <p:nvPr/>
        </p:nvPicPr>
        <p:blipFill>
          <a:blip r:embed="rId1"/>
          <a:stretch/>
        </p:blipFill>
        <p:spPr>
          <a:xfrm>
            <a:off x="1332000" y="2565360"/>
            <a:ext cx="6264360" cy="2925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9144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 ∙ 5=20(груп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ылает нам солнце тёплые лучи св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мы друг другу дари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ку, дружбу 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ечно, добро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7c79124a5e04d0c2f059cea080829af"/>
          <p:cNvPicPr/>
          <p:nvPr/>
        </p:nvPicPr>
        <p:blipFill>
          <a:blip r:embed="rId1"/>
          <a:stretch/>
        </p:blipFill>
        <p:spPr>
          <a:xfrm>
            <a:off x="1979640" y="0"/>
            <a:ext cx="540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два стакана чая заплатили 18 руб. Сколько стоит 1 стакан ч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738480_stock-photo-glass-of-tea"/>
          <p:cNvPicPr/>
          <p:nvPr/>
        </p:nvPicPr>
        <p:blipFill>
          <a:blip r:embed="rId1"/>
          <a:stretch/>
        </p:blipFill>
        <p:spPr>
          <a:xfrm>
            <a:off x="900000" y="2492280"/>
            <a:ext cx="2806920" cy="18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738480_stock-photo-glass-of-tea"/>
          <p:cNvPicPr/>
          <p:nvPr/>
        </p:nvPicPr>
        <p:blipFill>
          <a:blip r:embed="rId2"/>
          <a:stretch/>
        </p:blipFill>
        <p:spPr>
          <a:xfrm>
            <a:off x="5724360" y="2276640"/>
            <a:ext cx="2843280" cy="1895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3059280" y="544500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:2=9(рубле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97423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ди площадь фигур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=a·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rect%C3%A1ngulo+coloreado"/>
          <p:cNvPicPr/>
          <p:nvPr/>
        </p:nvPicPr>
        <p:blipFill>
          <a:blip r:embed="rId1"/>
          <a:stretch/>
        </p:blipFill>
        <p:spPr>
          <a:xfrm>
            <a:off x="324000" y="260280"/>
            <a:ext cx="2771640" cy="1486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684360" y="2924280"/>
            <a:ext cx="1295280" cy="115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276720" y="2852640"/>
            <a:ext cx="2447640" cy="1152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см                         5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156360" y="3203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50920" y="4508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=16с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4572000" y="4581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=10с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124000" y="2637000"/>
            <a:ext cx="5112000" cy="252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124000" y="2637000"/>
            <a:ext cx="144000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5003640" y="2133720"/>
            <a:ext cx="1751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95280" y="4437000"/>
            <a:ext cx="1751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7236000" y="3573360"/>
            <a:ext cx="115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211640" y="5300640"/>
            <a:ext cx="1751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195640" y="3357720"/>
            <a:ext cx="136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1258920" y="5877000"/>
            <a:ext cx="259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3-2=1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1476360" y="5445000"/>
            <a:ext cx="2233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1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5+2=7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1332000" y="6308640"/>
            <a:ext cx="25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=21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292720" y="5445000"/>
            <a:ext cx="27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=2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364000" y="6237360"/>
            <a:ext cx="273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21-2=19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332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252360" y="1412640"/>
            <a:ext cx="813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нчен урок, и выполнен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, ребята, огромное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то, что упорно и дружно труд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знания точно уж вам пригод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rect%C3%A1ngulo+coloreado"/>
          <p:cNvPicPr/>
          <p:nvPr/>
        </p:nvPicPr>
        <p:blipFill>
          <a:blip r:embed="rId1"/>
          <a:stretch/>
        </p:blipFill>
        <p:spPr>
          <a:xfrm>
            <a:off x="6588000" y="0"/>
            <a:ext cx="2987640" cy="237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56e2753993bb9"/>
          <p:cNvPicPr/>
          <p:nvPr/>
        </p:nvPicPr>
        <p:blipFill>
          <a:blip r:embed="rId2"/>
          <a:stretch/>
        </p:blipFill>
        <p:spPr>
          <a:xfrm>
            <a:off x="1258920" y="3860640"/>
            <a:ext cx="6049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ушать внимате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ботать      старате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полнять то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поминать проч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nfgi-math (1)"/>
          <p:cNvPicPr/>
          <p:nvPr/>
        </p:nvPicPr>
        <p:blipFill>
          <a:blip r:embed="rId1"/>
          <a:stretch/>
        </p:blipFill>
        <p:spPr>
          <a:xfrm>
            <a:off x="4932360" y="3422520"/>
            <a:ext cx="389088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0244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691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Математическая разми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ение изуче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Открываем новые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рименяем новые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971640" y="4292640"/>
            <a:ext cx="419040" cy="365040"/>
          </a:xfrm>
          <a:prstGeom prst="ellipse">
            <a:avLst/>
          </a:prstGeom>
          <a:solidFill>
            <a:srgbClr val="99cc00"/>
          </a:solidFill>
          <a:ln w="55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0"/>
          <p:cNvSpPr/>
          <p:nvPr/>
        </p:nvSpPr>
        <p:spPr>
          <a:xfrm>
            <a:off x="971640" y="4869000"/>
            <a:ext cx="420480" cy="365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8"/>
          <p:cNvSpPr/>
          <p:nvPr/>
        </p:nvSpPr>
        <p:spPr>
          <a:xfrm>
            <a:off x="971640" y="5445000"/>
            <a:ext cx="419040" cy="36684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1908000" y="4221000"/>
            <a:ext cx="59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всё получилось, было интерес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5"/>
          <p:cNvSpPr/>
          <p:nvPr/>
        </p:nvSpPr>
        <p:spPr>
          <a:xfrm>
            <a:off x="1983600" y="4807080"/>
            <a:ext cx="578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были неточности, но я справилс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2127600" y="5454720"/>
            <a:ext cx="443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е понял, нужна помощь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ческ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яем таблицу умно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на внимание и смека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ёлые и серьёз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41346_html_6d2cab6f"/>
          <p:cNvPicPr/>
          <p:nvPr/>
        </p:nvPicPr>
        <p:blipFill>
          <a:blip r:embed="rId1"/>
          <a:stretch/>
        </p:blipFill>
        <p:spPr>
          <a:xfrm>
            <a:off x="6084720" y="3762360"/>
            <a:ext cx="2700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ОЛЬКО ХВОСТОВ У ШЕСТИ ОСЛ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D:\мамина папка\единая коллекция цифровых технологий\шаблоны для презентаций\Сказочные персонажи\283785144.gif"/>
          <p:cNvPicPr/>
          <p:nvPr/>
        </p:nvPicPr>
        <p:blipFill>
          <a:blip r:embed="rId1"/>
          <a:stretch/>
        </p:blipFill>
        <p:spPr>
          <a:xfrm>
            <a:off x="1214280" y="4838760"/>
            <a:ext cx="155268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мамина папка\единая коллекция цифровых технологий\шаблоны для презентаций\Сказочные персонажи\283785144.gif"/>
          <p:cNvPicPr/>
          <p:nvPr/>
        </p:nvPicPr>
        <p:blipFill>
          <a:blip r:embed="rId2"/>
          <a:stretch/>
        </p:blipFill>
        <p:spPr>
          <a:xfrm>
            <a:off x="-142920" y="4838760"/>
            <a:ext cx="1552680" cy="2019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:\мамина папка\единая коллекция цифровых технологий\шаблоны для презентаций\Сказочные персонажи\283785144.gif"/>
          <p:cNvPicPr/>
          <p:nvPr/>
        </p:nvPicPr>
        <p:blipFill>
          <a:blip r:embed="rId3"/>
          <a:stretch/>
        </p:blipFill>
        <p:spPr>
          <a:xfrm>
            <a:off x="2714760" y="4838760"/>
            <a:ext cx="1552320" cy="2019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:\мамина папка\единая коллекция цифровых технологий\шаблоны для презентаций\Сказочные персонажи\283785144.gif"/>
          <p:cNvPicPr/>
          <p:nvPr/>
        </p:nvPicPr>
        <p:blipFill>
          <a:blip r:embed="rId4"/>
          <a:stretch/>
        </p:blipFill>
        <p:spPr>
          <a:xfrm>
            <a:off x="4357800" y="4838760"/>
            <a:ext cx="155232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:\мамина папка\единая коллекция цифровых технологий\шаблоны для презентаций\Сказочные персонажи\283785144.gif"/>
          <p:cNvPicPr/>
          <p:nvPr/>
        </p:nvPicPr>
        <p:blipFill>
          <a:blip r:embed="rId5"/>
          <a:stretch/>
        </p:blipFill>
        <p:spPr>
          <a:xfrm>
            <a:off x="5715000" y="4838760"/>
            <a:ext cx="1552680" cy="2019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:\мамина папка\единая коллекция цифровых технологий\шаблоны для презентаций\Сказочные персонажи\283785144.gif"/>
          <p:cNvPicPr/>
          <p:nvPr/>
        </p:nvPicPr>
        <p:blipFill>
          <a:blip r:embed="rId6"/>
          <a:stretch/>
        </p:blipFill>
        <p:spPr>
          <a:xfrm>
            <a:off x="7143840" y="4838760"/>
            <a:ext cx="1552320" cy="20192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9"/>
          <p:cNvSpPr/>
          <p:nvPr/>
        </p:nvSpPr>
        <p:spPr>
          <a:xfrm>
            <a:off x="3201120" y="3286080"/>
            <a:ext cx="34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1∙ 6= 6 хво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правляющая кнопка: домой 10">
            <a:hlinkClick r:id="rId7" action="ppaction://hlinksldjump"/>
          </p:cNvPr>
          <p:cNvSpPr/>
          <p:nvPr/>
        </p:nvSpPr>
        <p:spPr>
          <a:xfrm>
            <a:off x="8786880" y="65008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92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ОЛЬКО РОГОВ У ДЕСЯТИ КОР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D:\мамина папка\единая коллекция цифровых технологий\шаблоны для презентаций\Сказочные персонажи\1937.gif"/>
          <p:cNvPicPr/>
          <p:nvPr/>
        </p:nvPicPr>
        <p:blipFill>
          <a:blip r:embed="rId1"/>
          <a:stretch/>
        </p:blipFill>
        <p:spPr>
          <a:xfrm>
            <a:off x="928800" y="44290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амина папка\единая коллекция цифровых технологий\шаблоны для презентаций\Сказочные персонажи\1941.gif"/>
          <p:cNvPicPr/>
          <p:nvPr/>
        </p:nvPicPr>
        <p:blipFill>
          <a:blip r:embed="rId2"/>
          <a:stretch/>
        </p:blipFill>
        <p:spPr>
          <a:xfrm>
            <a:off x="-14292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D:\мамина папка\единая коллекция цифровых технологий\шаблоны для презентаций\Сказочные персонажи\1937.gif"/>
          <p:cNvPicPr/>
          <p:nvPr/>
        </p:nvPicPr>
        <p:blipFill>
          <a:blip r:embed="rId3"/>
          <a:stretch/>
        </p:blipFill>
        <p:spPr>
          <a:xfrm>
            <a:off x="592920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мамина папка\единая коллекция цифровых технологий\шаблоны для презентаций\Сказочные персонажи\1937.gif"/>
          <p:cNvPicPr/>
          <p:nvPr/>
        </p:nvPicPr>
        <p:blipFill>
          <a:blip r:embed="rId4"/>
          <a:stretch/>
        </p:blipFill>
        <p:spPr>
          <a:xfrm>
            <a:off x="2357280" y="4572000"/>
            <a:ext cx="1352880" cy="135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D:\мамина папка\единая коллекция цифровых технологий\шаблоны для презентаций\Сказочные персонажи\1937.gif"/>
          <p:cNvPicPr/>
          <p:nvPr/>
        </p:nvPicPr>
        <p:blipFill>
          <a:blip r:embed="rId5"/>
          <a:stretch/>
        </p:blipFill>
        <p:spPr>
          <a:xfrm>
            <a:off x="4643280" y="5505480"/>
            <a:ext cx="1352880" cy="135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D:\мамина папка\единая коллекция цифровых технологий\шаблоны для презентаций\Сказочные персонажи\1937.gif"/>
          <p:cNvPicPr/>
          <p:nvPr/>
        </p:nvPicPr>
        <p:blipFill>
          <a:blip r:embed="rId6"/>
          <a:stretch/>
        </p:blipFill>
        <p:spPr>
          <a:xfrm>
            <a:off x="3643200" y="43578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D:\мамина папка\единая коллекция цифровых технологий\шаблоны для презентаций\Сказочные персонажи\1937.gif"/>
          <p:cNvPicPr/>
          <p:nvPr/>
        </p:nvPicPr>
        <p:blipFill>
          <a:blip r:embed="rId7"/>
          <a:stretch/>
        </p:blipFill>
        <p:spPr>
          <a:xfrm>
            <a:off x="5143680" y="42861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мамина папка\единая коллекция цифровых технологий\шаблоны для презентаций\Сказочные персонажи\1937.gif"/>
          <p:cNvPicPr/>
          <p:nvPr/>
        </p:nvPicPr>
        <p:blipFill>
          <a:blip r:embed="rId8"/>
          <a:stretch/>
        </p:blipFill>
        <p:spPr>
          <a:xfrm>
            <a:off x="4286160" y="45720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D:\мамина папка\единая коллекция цифровых технологий\шаблоны для презентаций\Сказочные персонажи\1937.gif"/>
          <p:cNvPicPr/>
          <p:nvPr/>
        </p:nvPicPr>
        <p:blipFill>
          <a:blip r:embed="rId9"/>
          <a:stretch/>
        </p:blipFill>
        <p:spPr>
          <a:xfrm>
            <a:off x="164304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:\мамина папка\единая коллекция цифровых технологий\шаблоны для презентаций\Сказочные персонажи\1937.gif"/>
          <p:cNvPicPr/>
          <p:nvPr/>
        </p:nvPicPr>
        <p:blipFill>
          <a:blip r:embed="rId10"/>
          <a:stretch/>
        </p:blipFill>
        <p:spPr>
          <a:xfrm>
            <a:off x="3143160" y="55054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:\мамина папка\единая коллекция цифровых технологий\шаблоны для презентаций\Сказочные персонажи\1938.gif"/>
          <p:cNvPicPr/>
          <p:nvPr/>
        </p:nvPicPr>
        <p:blipFill>
          <a:blip r:embed="rId11"/>
          <a:stretch/>
        </p:blipFill>
        <p:spPr>
          <a:xfrm>
            <a:off x="7500960" y="4786200"/>
            <a:ext cx="1852560" cy="1852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8"/>
          <p:cNvSpPr/>
          <p:nvPr/>
        </p:nvSpPr>
        <p:spPr>
          <a:xfrm>
            <a:off x="3200040" y="3286080"/>
            <a:ext cx="339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2∙ 10=20 р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правляющая кнопка: домой 19">
            <a:hlinkClick r:id="rId12" action="ppaction://hlinksldjump"/>
          </p:cNvPr>
          <p:cNvSpPr/>
          <p:nvPr/>
        </p:nvSpPr>
        <p:spPr>
          <a:xfrm>
            <a:off x="8858160" y="650088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ставить знаки действи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  5   5  =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+ 5 : 5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,  3,  6,  7,  14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,  3,  6,  7,  14,  15,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 «лишнее» чис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4, 48,  66,  255,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3 4 6 8 12 16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*2 3*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41346_html_6d2cab6f"/>
          <p:cNvPicPr/>
          <p:nvPr/>
        </p:nvPicPr>
        <p:blipFill>
          <a:blip r:embed="rId1"/>
          <a:stretch/>
        </p:blipFill>
        <p:spPr>
          <a:xfrm>
            <a:off x="6443640" y="1341360"/>
            <a:ext cx="2700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лорецк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6516720" cy="3786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4500360" cy="2924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1836360" y="532296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55 л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6:31:21Z</dcterms:created>
  <dc:creator>FuckYouBill</dc:creator>
  <dc:description/>
  <dc:language>en-US</dc:language>
  <cp:lastModifiedBy>User</cp:lastModifiedBy>
  <dcterms:modified xsi:type="dcterms:W3CDTF">2021-10-31T15:47:07Z</dcterms:modified>
  <cp:revision>71</cp:revision>
  <dc:subject/>
  <dc:title>Слайд 1</dc:title>
</cp:coreProperties>
</file>