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media/image4.png" ContentType="image/png"/>
  <Override PartName="/ppt/media/image5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9FB7B-13DB-4F2A-8039-AD92676C2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62429-D2D5-4B88-AB58-B193FBC51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C2EF4-FDCD-4103-9B83-8EC000B42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F221A-373D-456E-A69F-ADE87618C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9E082-7349-4523-9050-D9092D9F2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FFD32-6D24-4895-A192-E5BC27B42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EA228-B368-4D5F-AED7-4FD5A2A6D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9C22F-7359-4331-9674-D76DC4292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A2553-62C2-402F-B247-4BE0DE73A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6BCA3-8CA9-4FDA-AC72-1CA190D95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7A65C-AF57-4DFD-B23A-6DF46FDD7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41E4A-EB73-4985-BED3-639DA70B2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8C686-5AEA-4EF3-B84A-231BE9E22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29EE1-02A2-4DA3-ADAE-9D01224A3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55C57-BAA6-4CD8-A571-A56293201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B48BA-E458-44DD-9D89-8874AE750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9C683-870B-4FCF-9034-1EFAAE2DE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71045-E242-4921-AFF7-279F38831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446DB-6864-47AD-835C-AE74D5EC9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016B9-97F0-4B18-85F8-6CFD25EF5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37175-9640-494F-B981-1ACB33CDF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D5BAB-9A70-46A9-A827-884EE6CED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9CD65-A89F-443E-9370-AE78A8BDC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7B7B6-BA54-42F3-8186-FE333282E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Line 3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Picture 4" descr="minispir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5" descr="minispir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B77C0-841F-479E-ACD3-BFE26E245341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Миронова Валентина Вячеславовн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onachishich@mail.r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4AFC0-E062-4EDE-BD1E-6BA0566EFC4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3" descr="minispir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5" descr="minispir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86CC0-3A82-4162-A95D-D791E57CE57F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Миронова Валентина Вячеславовн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onachishich@mail.r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A23B7-626D-404E-9DD3-4EDBD0579A2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9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10"/>
          <p:cNvSpPr/>
          <p:nvPr/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98C98-C16D-474D-AE94-E74FFC62640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Номер слайда 3"/>
          <p:cNvSpPr/>
          <p:nvPr/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A8529-36EA-4314-AD00-9671CC54323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WordArt 3"/>
          <p:cNvSpPr txBox="1"/>
          <p:nvPr/>
        </p:nvSpPr>
        <p:spPr>
          <a:xfrm>
            <a:off x="2666880" y="380880"/>
            <a:ext cx="475308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endParaRPr b="1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94" name="Прямоугольник 6"/>
          <p:cNvSpPr/>
          <p:nvPr/>
        </p:nvSpPr>
        <p:spPr>
          <a:xfrm>
            <a:off x="2558880" y="380880"/>
            <a:ext cx="4408200" cy="396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99"/>
                </a:solidFill>
                <a:latin typeface="Times New Roman"/>
              </a:rPr>
              <a:t>Открытый урок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99"/>
                </a:solidFill>
                <a:latin typeface="Times New Roman"/>
              </a:rPr>
              <a:t>по русскому языку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99"/>
                </a:solidFill>
                <a:latin typeface="Times New Roman"/>
              </a:rPr>
              <a:t>в</a:t>
            </a:r>
            <a:r>
              <a:rPr b="1" i="1" lang="ru-RU" sz="5400" spc="-1" strike="noStrike">
                <a:solidFill>
                  <a:srgbClr val="000099"/>
                </a:solidFill>
                <a:latin typeface="Times New Roman"/>
              </a:rPr>
              <a:t> 4 </a:t>
            </a:r>
            <a:r>
              <a:rPr b="1" i="1" lang="ru-RU" sz="4000" spc="-1" strike="noStrike">
                <a:solidFill>
                  <a:srgbClr val="000099"/>
                </a:solidFill>
                <a:latin typeface="Times New Roman"/>
              </a:rPr>
              <a:t>класс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99"/>
                </a:solidFill>
                <a:latin typeface="Times New Roman"/>
              </a:rPr>
              <a:t>Тема: «Наречие»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90720" y="3805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Times New Roman"/>
              </a:rPr>
              <a:t>Физкультминутка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1066680" y="19051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Влево наклонись, вправо наклонись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Вниз опустись, вверх поднимись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А теперь чуть-чуть попрыгай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Влево, вправо повернись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И тихонечко садись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Нижний колонтитул 3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Номер слайда 4"/>
          <p:cNvSpPr/>
          <p:nvPr/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72828-7381-4126-A954-2256052BB38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ПРОВЕРЬ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467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И.п.    яйцо  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всмятк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Р.п.     яйца  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всмятк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Д.п.    яйцу  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всмятк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В.п.    яйцо  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всмятк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Т.п.    яйцом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всмятк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П.п.    о яйце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всмятк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Номер слайда 6"/>
          <p:cNvSpPr/>
          <p:nvPr/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C4D43-ADE7-4622-BFF9-5B1ED06582A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1" dur="20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4" dur="20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7" dur="20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0" dur="2000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3" dur="2000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6" dur="2000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л.- прилечу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рано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     прилетим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ран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2л.- прилетишь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рано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прилетите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ран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3л.- прилетит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рано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  прилетят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ран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Номер слайда 6"/>
          <p:cNvSpPr/>
          <p:nvPr/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9C56D-4278-442F-8DE6-35D96B61BCA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1371240" y="99072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м.р. – пришёл 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рано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ж.р –  пришла 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рано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ср.р – пришло 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рано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Номер слайда 6"/>
          <p:cNvSpPr/>
          <p:nvPr/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A7553-58BD-4F8A-9C83-15D23029D38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1752480" y="15238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н.в. – цветут 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рано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п.в. – появились 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рано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б.в. – разольются 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рано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Номер слайда 6"/>
          <p:cNvSpPr/>
          <p:nvPr/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7E396-0BB4-434B-9CDD-BA5B0F0D8B1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21304"/>
                </a:solidFill>
                <a:latin typeface="Times New Roman"/>
              </a:rPr>
              <a:t>Вывод: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о падежам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о рода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о временам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о лицам и числа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               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НЕ  ИЗМЕНЯЕТС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Номер слайда 6"/>
          <p:cNvSpPr/>
          <p:nvPr/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FE26D-A667-41C8-A9D5-EAF695F13C1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8" dur="50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50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Times New Roman"/>
              </a:rPr>
              <a:t>Синквейн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066320" y="1295280"/>
            <a:ext cx="76201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93560" indent="-49356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дно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существительное (тема синквейна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93560" indent="-4935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Дв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прилагательных, раскрывающих тему синквейн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93560" indent="-4935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Тр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глагола, описывающих действия, относящиеся к теме синквейн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93560" indent="-4935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4. Фраза из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четырех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слов, содержащая основную мысль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93560" indent="-4935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5. Синоним к тем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Нижний колонтитул 3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Номер слайда 4"/>
          <p:cNvSpPr/>
          <p:nvPr/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BA248-FBA6-4BEC-B596-05BD97467A0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Times New Roman"/>
              </a:rPr>
              <a:t>Синквейн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066320" y="1523520"/>
            <a:ext cx="76201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речи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амостоятельная, неизменяемая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мыкает, выполняет, конкретизирует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речие обозначает признак действия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Часть реч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Нижний колонтитул 3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Номер слайда 4"/>
          <p:cNvSpPr/>
          <p:nvPr/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8EE79-BE7D-4977-BE71-A2A8ECA356B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Times New Roman"/>
              </a:rPr>
              <a:t>Алгоритм изучения части речи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142640" y="9140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. Часть речи – наречие.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2. Отвечает на вопросы – Где? Куда? Когда? Откуда? Как?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3. Роль – наречия делают нашу речь точной, образной, выразительной.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4. Обозначает – признак действия.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5. Изменяемая или неизменяемая часть речи – неизменяемая часть речи.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6. В предложении является – обстоятельством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Нижний колонтитул 3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Номер слайда 4"/>
          <p:cNvSpPr/>
          <p:nvPr/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AF662-94F1-4DB2-93F5-B226C3DED84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1066320" y="17524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Я сегодня неожиданно для себя сделал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Сегодня не напрасно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Я непременно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Номер слайда 6"/>
          <p:cNvSpPr/>
          <p:nvPr/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54631-299C-4DBF-A2A1-B552D1E4461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Нижний колонтитул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Номер слайда 2"/>
          <p:cNvSpPr/>
          <p:nvPr/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BBC5C-68F2-4D26-9D8E-CED539758D7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Picture 2" descr="BD05095_"/>
          <p:cNvPicPr/>
          <p:nvPr/>
        </p:nvPicPr>
        <p:blipFill>
          <a:blip r:embed="rId1"/>
          <a:stretch/>
        </p:blipFill>
        <p:spPr>
          <a:xfrm>
            <a:off x="0" y="112680"/>
            <a:ext cx="9144000" cy="6745320"/>
          </a:xfrm>
          <a:prstGeom prst="rect">
            <a:avLst/>
          </a:prstGeom>
          <a:ln w="0">
            <a:noFill/>
          </a:ln>
        </p:spPr>
      </p:pic>
      <p:pic>
        <p:nvPicPr>
          <p:cNvPr id="98" name="Прямоугольник 4" descr=""/>
          <p:cNvPicPr/>
          <p:nvPr/>
        </p:nvPicPr>
        <p:blipFill>
          <a:blip r:embed="rId2"/>
          <a:stretch/>
        </p:blipFill>
        <p:spPr>
          <a:xfrm>
            <a:off x="2657520" y="324000"/>
            <a:ext cx="4981680" cy="74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1066320" y="17524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Номер слайда 6"/>
          <p:cNvSpPr/>
          <p:nvPr/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D8921-19F1-417A-8E0D-4837F241868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Picture 2" descr=""/>
          <p:cNvPicPr/>
          <p:nvPr/>
        </p:nvPicPr>
        <p:blipFill>
          <a:blip r:embed="rId1"/>
          <a:stretch/>
        </p:blipFill>
        <p:spPr>
          <a:xfrm>
            <a:off x="4462560" y="3098880"/>
            <a:ext cx="3924360" cy="156996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2" descr=""/>
          <p:cNvPicPr/>
          <p:nvPr/>
        </p:nvPicPr>
        <p:blipFill>
          <a:blip r:embed="rId2"/>
          <a:stretch/>
        </p:blipFill>
        <p:spPr>
          <a:xfrm>
            <a:off x="2500200" y="1577880"/>
            <a:ext cx="3924360" cy="1568520"/>
          </a:xfrm>
          <a:prstGeom prst="rect">
            <a:avLst/>
          </a:prstGeom>
          <a:ln w="0">
            <a:noFill/>
          </a:ln>
        </p:spPr>
      </p:pic>
      <p:pic>
        <p:nvPicPr>
          <p:cNvPr id="218" name="Прямоугольник 6" descr=""/>
          <p:cNvPicPr/>
          <p:nvPr/>
        </p:nvPicPr>
        <p:blipFill>
          <a:blip r:embed="rId3"/>
          <a:stretch/>
        </p:blipFill>
        <p:spPr>
          <a:xfrm>
            <a:off x="987480" y="1517760"/>
            <a:ext cx="3651120" cy="1255680"/>
          </a:xfrm>
          <a:prstGeom prst="rect">
            <a:avLst/>
          </a:prstGeom>
          <a:ln w="0">
            <a:noFill/>
          </a:ln>
        </p:spPr>
      </p:pic>
      <p:pic>
        <p:nvPicPr>
          <p:cNvPr id="219" name="Прямоугольник 8" descr=""/>
          <p:cNvPicPr/>
          <p:nvPr/>
        </p:nvPicPr>
        <p:blipFill>
          <a:blip r:embed="rId4"/>
          <a:stretch/>
        </p:blipFill>
        <p:spPr>
          <a:xfrm>
            <a:off x="3359160" y="3017880"/>
            <a:ext cx="3340080" cy="1682640"/>
          </a:xfrm>
          <a:prstGeom prst="rect">
            <a:avLst/>
          </a:prstGeom>
          <a:ln w="0">
            <a:noFill/>
          </a:ln>
        </p:spPr>
      </p:pic>
      <p:pic>
        <p:nvPicPr>
          <p:cNvPr id="220" name="Прямоугольник 9" descr=""/>
          <p:cNvPicPr/>
          <p:nvPr/>
        </p:nvPicPr>
        <p:blipFill>
          <a:blip r:embed="rId5"/>
          <a:stretch/>
        </p:blipFill>
        <p:spPr>
          <a:xfrm>
            <a:off x="6072120" y="4578480"/>
            <a:ext cx="2747880" cy="1676160"/>
          </a:xfrm>
          <a:prstGeom prst="rect">
            <a:avLst/>
          </a:prstGeom>
          <a:ln w="0">
            <a:noFill/>
          </a:ln>
        </p:spPr>
      </p:pic>
      <p:pic>
        <p:nvPicPr>
          <p:cNvPr id="221" name="Прямоугольник 10" descr=""/>
          <p:cNvPicPr/>
          <p:nvPr/>
        </p:nvPicPr>
        <p:blipFill>
          <a:blip r:embed="rId6"/>
          <a:stretch/>
        </p:blipFill>
        <p:spPr>
          <a:xfrm>
            <a:off x="6656400" y="3260880"/>
            <a:ext cx="1579680" cy="1712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10"/>
          <p:cNvSpPr/>
          <p:nvPr/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9EDE9-5FC4-44E9-982E-7944AD17EDB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Номер слайда 7"/>
          <p:cNvSpPr/>
          <p:nvPr/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D0469-46D6-4E30-9CC5-2A97428F7C9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6096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694b6"/>
                </a:solidFill>
                <a:latin typeface="Times New Roman"/>
              </a:rPr>
              <a:t>Словарная работа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7720" y="1752120"/>
            <a:ext cx="807732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А     УРАТНО, Т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ВАРИЩ,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КЛА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НЫЙ,  Х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Р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ШО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Т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ТРАДЬ , ПРАЗ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НОВАТЬ,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Б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РЁЗОВАЯ,  МЕДЛЕ       О,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К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РТОФЕЛЬНЫЙ, М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РОЗ ,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БЕДАТЬ,  П 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НАЛ.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Прямоугольник 8"/>
          <p:cNvSpPr/>
          <p:nvPr/>
        </p:nvSpPr>
        <p:spPr>
          <a:xfrm>
            <a:off x="1447920" y="175248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К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Прямоугольник 9"/>
          <p:cNvSpPr/>
          <p:nvPr/>
        </p:nvSpPr>
        <p:spPr>
          <a:xfrm>
            <a:off x="4572000" y="175248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Прямоугольник 10"/>
          <p:cNvSpPr/>
          <p:nvPr/>
        </p:nvSpPr>
        <p:spPr>
          <a:xfrm>
            <a:off x="2057400" y="243828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СС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Прямоугольник 11"/>
          <p:cNvSpPr/>
          <p:nvPr/>
        </p:nvSpPr>
        <p:spPr>
          <a:xfrm>
            <a:off x="4572000" y="2438280"/>
            <a:ext cx="53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Прямоугольник 12"/>
          <p:cNvSpPr/>
          <p:nvPr/>
        </p:nvSpPr>
        <p:spPr>
          <a:xfrm>
            <a:off x="5257800" y="2438280"/>
            <a:ext cx="53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Прямоугольник 14"/>
          <p:cNvSpPr/>
          <p:nvPr/>
        </p:nvSpPr>
        <p:spPr>
          <a:xfrm>
            <a:off x="1371600" y="304812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Прямоугольник 15"/>
          <p:cNvSpPr/>
          <p:nvPr/>
        </p:nvSpPr>
        <p:spPr>
          <a:xfrm>
            <a:off x="4876920" y="304812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Д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Прямоугольник 16"/>
          <p:cNvSpPr/>
          <p:nvPr/>
        </p:nvSpPr>
        <p:spPr>
          <a:xfrm>
            <a:off x="1371600" y="373392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Прямоугольник 17"/>
          <p:cNvSpPr/>
          <p:nvPr/>
        </p:nvSpPr>
        <p:spPr>
          <a:xfrm>
            <a:off x="5943600" y="373392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НН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Прямоугольник 18"/>
          <p:cNvSpPr/>
          <p:nvPr/>
        </p:nvSpPr>
        <p:spPr>
          <a:xfrm>
            <a:off x="1371600" y="441972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Прямоугольник 19"/>
          <p:cNvSpPr/>
          <p:nvPr/>
        </p:nvSpPr>
        <p:spPr>
          <a:xfrm>
            <a:off x="5867280" y="441972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Прямоугольник 20"/>
          <p:cNvSpPr/>
          <p:nvPr/>
        </p:nvSpPr>
        <p:spPr>
          <a:xfrm>
            <a:off x="1066680" y="502920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О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Прямоугольник 21"/>
          <p:cNvSpPr/>
          <p:nvPr/>
        </p:nvSpPr>
        <p:spPr>
          <a:xfrm>
            <a:off x="3962520" y="502920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Минус 22"/>
          <p:cNvSpPr/>
          <p:nvPr/>
        </p:nvSpPr>
        <p:spPr>
          <a:xfrm>
            <a:off x="1447920" y="2209680"/>
            <a:ext cx="838080" cy="228600"/>
          </a:xfrm>
          <a:custGeom>
            <a:avLst/>
            <a:gdLst/>
            <a:ahLst/>
            <a:rect l="l" t="t" r="r" b="b"/>
            <a:pathLst>
              <a:path w="838200" h="228600">
                <a:moveTo>
                  <a:pt x="111103" y="87417"/>
                </a:moveTo>
                <a:lnTo>
                  <a:pt x="727097" y="87417"/>
                </a:lnTo>
                <a:lnTo>
                  <a:pt x="727097" y="141183"/>
                </a:lnTo>
                <a:lnTo>
                  <a:pt x="111103" y="141183"/>
                </a:lnTo>
                <a:lnTo>
                  <a:pt x="111103" y="87417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Минус 25"/>
          <p:cNvSpPr/>
          <p:nvPr/>
        </p:nvSpPr>
        <p:spPr>
          <a:xfrm>
            <a:off x="5181480" y="2895480"/>
            <a:ext cx="685800" cy="228600"/>
          </a:xfrm>
          <a:custGeom>
            <a:avLst/>
            <a:gdLst/>
            <a:ahLst/>
            <a:rect l="l" t="t" r="r" b="b"/>
            <a:pathLst>
              <a:path w="685800" h="228600">
                <a:moveTo>
                  <a:pt x="90903" y="87417"/>
                </a:moveTo>
                <a:lnTo>
                  <a:pt x="594897" y="87417"/>
                </a:lnTo>
                <a:lnTo>
                  <a:pt x="594897" y="141183"/>
                </a:lnTo>
                <a:lnTo>
                  <a:pt x="90903" y="141183"/>
                </a:lnTo>
                <a:lnTo>
                  <a:pt x="90903" y="87417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Минус 26"/>
          <p:cNvSpPr/>
          <p:nvPr/>
        </p:nvSpPr>
        <p:spPr>
          <a:xfrm>
            <a:off x="5943600" y="4191120"/>
            <a:ext cx="838080" cy="228600"/>
          </a:xfrm>
          <a:custGeom>
            <a:avLst/>
            <a:gdLst/>
            <a:ahLst/>
            <a:rect l="l" t="t" r="r" b="b"/>
            <a:pathLst>
              <a:path w="838200" h="228600">
                <a:moveTo>
                  <a:pt x="111103" y="87417"/>
                </a:moveTo>
                <a:lnTo>
                  <a:pt x="727097" y="87417"/>
                </a:lnTo>
                <a:lnTo>
                  <a:pt x="727097" y="141183"/>
                </a:lnTo>
                <a:lnTo>
                  <a:pt x="111103" y="141183"/>
                </a:lnTo>
                <a:lnTo>
                  <a:pt x="111103" y="87417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Минус 27"/>
          <p:cNvSpPr/>
          <p:nvPr/>
        </p:nvSpPr>
        <p:spPr>
          <a:xfrm>
            <a:off x="2057400" y="2895480"/>
            <a:ext cx="838080" cy="228600"/>
          </a:xfrm>
          <a:custGeom>
            <a:avLst/>
            <a:gdLst/>
            <a:ahLst/>
            <a:rect l="l" t="t" r="r" b="b"/>
            <a:pathLst>
              <a:path w="838200" h="228600">
                <a:moveTo>
                  <a:pt x="111103" y="87417"/>
                </a:moveTo>
                <a:lnTo>
                  <a:pt x="727097" y="87417"/>
                </a:lnTo>
                <a:lnTo>
                  <a:pt x="727097" y="141183"/>
                </a:lnTo>
                <a:lnTo>
                  <a:pt x="111103" y="141183"/>
                </a:lnTo>
                <a:lnTo>
                  <a:pt x="111103" y="87417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Минус 28"/>
          <p:cNvSpPr/>
          <p:nvPr/>
        </p:nvSpPr>
        <p:spPr>
          <a:xfrm>
            <a:off x="4495680" y="2209680"/>
            <a:ext cx="685800" cy="228600"/>
          </a:xfrm>
          <a:custGeom>
            <a:avLst/>
            <a:gdLst/>
            <a:ahLst/>
            <a:rect l="l" t="t" r="r" b="b"/>
            <a:pathLst>
              <a:path w="685800" h="228600">
                <a:moveTo>
                  <a:pt x="90903" y="87417"/>
                </a:moveTo>
                <a:lnTo>
                  <a:pt x="594897" y="87417"/>
                </a:lnTo>
                <a:lnTo>
                  <a:pt x="594897" y="141183"/>
                </a:lnTo>
                <a:lnTo>
                  <a:pt x="90903" y="141183"/>
                </a:lnTo>
                <a:lnTo>
                  <a:pt x="90903" y="87417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Минус 29"/>
          <p:cNvSpPr/>
          <p:nvPr/>
        </p:nvSpPr>
        <p:spPr>
          <a:xfrm>
            <a:off x="4495680" y="2895480"/>
            <a:ext cx="685800" cy="228600"/>
          </a:xfrm>
          <a:custGeom>
            <a:avLst/>
            <a:gdLst/>
            <a:ahLst/>
            <a:rect l="l" t="t" r="r" b="b"/>
            <a:pathLst>
              <a:path w="685800" h="228600">
                <a:moveTo>
                  <a:pt x="90903" y="87417"/>
                </a:moveTo>
                <a:lnTo>
                  <a:pt x="594897" y="87417"/>
                </a:lnTo>
                <a:lnTo>
                  <a:pt x="594897" y="141183"/>
                </a:lnTo>
                <a:lnTo>
                  <a:pt x="90903" y="141183"/>
                </a:lnTo>
                <a:lnTo>
                  <a:pt x="90903" y="87417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Минус 30"/>
          <p:cNvSpPr/>
          <p:nvPr/>
        </p:nvSpPr>
        <p:spPr>
          <a:xfrm>
            <a:off x="1295280" y="3505320"/>
            <a:ext cx="685800" cy="228600"/>
          </a:xfrm>
          <a:custGeom>
            <a:avLst/>
            <a:gdLst/>
            <a:ahLst/>
            <a:rect l="l" t="t" r="r" b="b"/>
            <a:pathLst>
              <a:path w="685800" h="228600">
                <a:moveTo>
                  <a:pt x="90903" y="87417"/>
                </a:moveTo>
                <a:lnTo>
                  <a:pt x="594897" y="87417"/>
                </a:lnTo>
                <a:lnTo>
                  <a:pt x="594897" y="141183"/>
                </a:lnTo>
                <a:lnTo>
                  <a:pt x="90903" y="141183"/>
                </a:lnTo>
                <a:lnTo>
                  <a:pt x="90903" y="87417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Минус 31"/>
          <p:cNvSpPr/>
          <p:nvPr/>
        </p:nvSpPr>
        <p:spPr>
          <a:xfrm>
            <a:off x="4800600" y="3505320"/>
            <a:ext cx="685800" cy="228600"/>
          </a:xfrm>
          <a:custGeom>
            <a:avLst/>
            <a:gdLst/>
            <a:ahLst/>
            <a:rect l="l" t="t" r="r" b="b"/>
            <a:pathLst>
              <a:path w="685800" h="228600">
                <a:moveTo>
                  <a:pt x="90903" y="87417"/>
                </a:moveTo>
                <a:lnTo>
                  <a:pt x="594897" y="87417"/>
                </a:lnTo>
                <a:lnTo>
                  <a:pt x="594897" y="141183"/>
                </a:lnTo>
                <a:lnTo>
                  <a:pt x="90903" y="141183"/>
                </a:lnTo>
                <a:lnTo>
                  <a:pt x="90903" y="87417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Минус 32"/>
          <p:cNvSpPr/>
          <p:nvPr/>
        </p:nvSpPr>
        <p:spPr>
          <a:xfrm>
            <a:off x="1295280" y="4191120"/>
            <a:ext cx="685800" cy="228600"/>
          </a:xfrm>
          <a:custGeom>
            <a:avLst/>
            <a:gdLst/>
            <a:ahLst/>
            <a:rect l="l" t="t" r="r" b="b"/>
            <a:pathLst>
              <a:path w="685800" h="228600">
                <a:moveTo>
                  <a:pt x="90903" y="87417"/>
                </a:moveTo>
                <a:lnTo>
                  <a:pt x="594897" y="87417"/>
                </a:lnTo>
                <a:lnTo>
                  <a:pt x="594897" y="141183"/>
                </a:lnTo>
                <a:lnTo>
                  <a:pt x="90903" y="141183"/>
                </a:lnTo>
                <a:lnTo>
                  <a:pt x="90903" y="87417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Минус 33"/>
          <p:cNvSpPr/>
          <p:nvPr/>
        </p:nvSpPr>
        <p:spPr>
          <a:xfrm>
            <a:off x="1295280" y="4876920"/>
            <a:ext cx="685800" cy="228600"/>
          </a:xfrm>
          <a:custGeom>
            <a:avLst/>
            <a:gdLst/>
            <a:ahLst/>
            <a:rect l="l" t="t" r="r" b="b"/>
            <a:pathLst>
              <a:path w="685800" h="228600">
                <a:moveTo>
                  <a:pt x="90903" y="87417"/>
                </a:moveTo>
                <a:lnTo>
                  <a:pt x="594897" y="87417"/>
                </a:lnTo>
                <a:lnTo>
                  <a:pt x="594897" y="141183"/>
                </a:lnTo>
                <a:lnTo>
                  <a:pt x="90903" y="141183"/>
                </a:lnTo>
                <a:lnTo>
                  <a:pt x="90903" y="87417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Минус 34"/>
          <p:cNvSpPr/>
          <p:nvPr/>
        </p:nvSpPr>
        <p:spPr>
          <a:xfrm>
            <a:off x="5791320" y="4876920"/>
            <a:ext cx="685800" cy="228600"/>
          </a:xfrm>
          <a:custGeom>
            <a:avLst/>
            <a:gdLst/>
            <a:ahLst/>
            <a:rect l="l" t="t" r="r" b="b"/>
            <a:pathLst>
              <a:path w="685800" h="228600">
                <a:moveTo>
                  <a:pt x="90903" y="87417"/>
                </a:moveTo>
                <a:lnTo>
                  <a:pt x="594897" y="87417"/>
                </a:lnTo>
                <a:lnTo>
                  <a:pt x="594897" y="141183"/>
                </a:lnTo>
                <a:lnTo>
                  <a:pt x="90903" y="141183"/>
                </a:lnTo>
                <a:lnTo>
                  <a:pt x="90903" y="87417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Минус 35"/>
          <p:cNvSpPr/>
          <p:nvPr/>
        </p:nvSpPr>
        <p:spPr>
          <a:xfrm>
            <a:off x="3886200" y="5486400"/>
            <a:ext cx="685800" cy="228600"/>
          </a:xfrm>
          <a:custGeom>
            <a:avLst/>
            <a:gdLst/>
            <a:ahLst/>
            <a:rect l="l" t="t" r="r" b="b"/>
            <a:pathLst>
              <a:path w="685800" h="228600">
                <a:moveTo>
                  <a:pt x="90903" y="87417"/>
                </a:moveTo>
                <a:lnTo>
                  <a:pt x="594897" y="87417"/>
                </a:lnTo>
                <a:lnTo>
                  <a:pt x="594897" y="141183"/>
                </a:lnTo>
                <a:lnTo>
                  <a:pt x="90903" y="141183"/>
                </a:lnTo>
                <a:lnTo>
                  <a:pt x="90903" y="87417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Минус 36"/>
          <p:cNvSpPr/>
          <p:nvPr/>
        </p:nvSpPr>
        <p:spPr>
          <a:xfrm>
            <a:off x="990720" y="5486400"/>
            <a:ext cx="685800" cy="228600"/>
          </a:xfrm>
          <a:custGeom>
            <a:avLst/>
            <a:gdLst/>
            <a:ahLst/>
            <a:rect l="l" t="t" r="r" b="b"/>
            <a:pathLst>
              <a:path w="685800" h="228600">
                <a:moveTo>
                  <a:pt x="90903" y="87417"/>
                </a:moveTo>
                <a:lnTo>
                  <a:pt x="594897" y="87417"/>
                </a:lnTo>
                <a:lnTo>
                  <a:pt x="594897" y="141183"/>
                </a:lnTo>
                <a:lnTo>
                  <a:pt x="90903" y="141183"/>
                </a:lnTo>
                <a:lnTo>
                  <a:pt x="90903" y="87417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9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10"/>
          <p:cNvSpPr/>
          <p:nvPr/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3E9D8-E836-47E5-9DC1-685F108627D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Номер слайда 3"/>
          <p:cNvSpPr/>
          <p:nvPr/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3048120" y="1828800"/>
            <a:ext cx="144756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ЕНА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990720" y="2743200"/>
          <a:ext cx="7848360" cy="3753000"/>
        </p:xfrm>
        <a:graphic>
          <a:graphicData uri="http://schemas.openxmlformats.org/drawingml/2006/table">
            <a:tbl>
              <a:tblPr/>
              <a:tblGrid>
                <a:gridCol w="1962000"/>
                <a:gridCol w="1962360"/>
                <a:gridCol w="1866600"/>
                <a:gridCol w="2057400"/>
              </a:tblGrid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м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ществительн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м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лагательн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лаго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4" name="WordArt 38"/>
          <p:cNvSpPr txBox="1"/>
          <p:nvPr/>
        </p:nvSpPr>
        <p:spPr>
          <a:xfrm>
            <a:off x="7543800" y="2895480"/>
            <a:ext cx="4572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?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35" name="Rectangle 54"/>
          <p:cNvSpPr/>
          <p:nvPr/>
        </p:nvSpPr>
        <p:spPr>
          <a:xfrm>
            <a:off x="968040" y="457200"/>
            <a:ext cx="182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АККУРАТН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55"/>
          <p:cNvSpPr/>
          <p:nvPr/>
        </p:nvSpPr>
        <p:spPr>
          <a:xfrm>
            <a:off x="7009560" y="457200"/>
            <a:ext cx="139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ХОРОШ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56"/>
          <p:cNvSpPr/>
          <p:nvPr/>
        </p:nvSpPr>
        <p:spPr>
          <a:xfrm>
            <a:off x="1059120" y="914400"/>
            <a:ext cx="137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ЕТРАД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57"/>
          <p:cNvSpPr/>
          <p:nvPr/>
        </p:nvSpPr>
        <p:spPr>
          <a:xfrm>
            <a:off x="2553480" y="914400"/>
            <a:ext cx="211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АЗДНОВА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58"/>
          <p:cNvSpPr/>
          <p:nvPr/>
        </p:nvSpPr>
        <p:spPr>
          <a:xfrm>
            <a:off x="5031000" y="914400"/>
            <a:ext cx="171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БЕРЁЗОВА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Rectangle 59"/>
          <p:cNvSpPr/>
          <p:nvPr/>
        </p:nvSpPr>
        <p:spPr>
          <a:xfrm>
            <a:off x="1150560" y="1371600"/>
            <a:ext cx="171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МЕДЛЕНН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60"/>
          <p:cNvSpPr/>
          <p:nvPr/>
        </p:nvSpPr>
        <p:spPr>
          <a:xfrm>
            <a:off x="3210840" y="1371600"/>
            <a:ext cx="22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АРТОФЕЛЬНЫ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61"/>
          <p:cNvSpPr/>
          <p:nvPr/>
        </p:nvSpPr>
        <p:spPr>
          <a:xfrm>
            <a:off x="6099480" y="1371600"/>
            <a:ext cx="110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МОРОЗ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62"/>
          <p:cNvSpPr/>
          <p:nvPr/>
        </p:nvSpPr>
        <p:spPr>
          <a:xfrm>
            <a:off x="1216440" y="1828800"/>
            <a:ext cx="141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БЕДА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Прямоугольник 17"/>
          <p:cNvSpPr/>
          <p:nvPr/>
        </p:nvSpPr>
        <p:spPr>
          <a:xfrm>
            <a:off x="3046320" y="457200"/>
            <a:ext cx="153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ОВАРИ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Прямоугольник 18"/>
          <p:cNvSpPr/>
          <p:nvPr/>
        </p:nvSpPr>
        <p:spPr>
          <a:xfrm>
            <a:off x="4801680" y="457200"/>
            <a:ext cx="175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ЛАССНЫ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Прямоугольник 19"/>
          <p:cNvSpPr/>
          <p:nvPr/>
        </p:nvSpPr>
        <p:spPr>
          <a:xfrm>
            <a:off x="7019640" y="3048120"/>
            <a:ext cx="16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АРЕЧ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-1.85185E-006 L -0.21667 0.46667 E">
                                      <p:cBhvr>
                                        <p:cTn id="71" dur="2000" fill="hold"/>
                                        <p:tgtEl>
                                          <p:spTgt spid="1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2.22222E-006 L -2.5E-006 0.46667 E">
                                      <p:cBhvr>
                                        <p:cTn id="75" dur="2000" fill="hold"/>
                                        <p:tgtEl>
                                          <p:spTgt spid="1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927 0.00416 L -0.54427 0.47083 E">
                                      <p:cBhvr>
                                        <p:cTn id="79" dur="1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083 -0.00069 L -0.22083 0.47709 E">
                                      <p:cBhvr>
                                        <p:cTn id="83" dur="1000" fill="hold"/>
                                        <p:tgtEl>
                                          <p:spTgt spid="1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434 0.0375 L -0.19601 0.50417 E">
                                      <p:cBhvr>
                                        <p:cTn id="87" dur="1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08 0.0375 L -0.21875 0.50417 E">
                                      <p:cBhvr>
                                        <p:cTn id="91" dur="1000" fill="hold"/>
                                        <p:tgtEl>
                                          <p:spTgt spid="1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507 0.05093 L -0.03993 0.52871 E">
                                      <p:cBhvr>
                                        <p:cTn id="95" dur="1000" fill="hold"/>
                                        <p:tgtEl>
                                          <p:spTgt spid="1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021 0.0375 L 0.24688 0.4375 E">
                                      <p:cBhvr>
                                        <p:cTn id="99" dur="1000" fill="hold"/>
                                        <p:tgtEl>
                                          <p:spTgt spid="1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643 0.05973 L 0.43143 0.37084 E">
                                      <p:cBhvr>
                                        <p:cTn id="103" dur="1000" fill="hold"/>
                                        <p:tgtEl>
                                          <p:spTgt spid="1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271 0.01111 L 0.64063 0.5 E">
                                      <p:cBhvr>
                                        <p:cTn id="107" dur="1000" fill="hold"/>
                                        <p:tgtEl>
                                          <p:spTgt spid="1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2.22222E-006 L -2.77778E-007 0.55556 E">
                                      <p:cBhvr>
                                        <p:cTn id="111" dur="1000" fill="hold"/>
                                        <p:tgtEl>
                                          <p:spTgt spid="1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1.11111E-006 L 0.63333 0.48889 E">
                                      <p:cBhvr>
                                        <p:cTn id="115" dur="1000" fill="hold"/>
                                        <p:tgtEl>
                                          <p:spTgt spid="1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10"/>
          <p:cNvSpPr/>
          <p:nvPr/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8E9F1-8342-4F24-AA12-FE05343EB75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Номер слайда 6"/>
          <p:cNvSpPr/>
          <p:nvPr/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147FB-F543-4E11-B9F3-FE61DDF3687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Тема урока:</a:t>
            </a:r>
            <a:endParaRPr b="0" lang="en-US" sz="48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50" name="Picture 9" descr="BOOK2"/>
          <p:cNvPicPr/>
          <p:nvPr/>
        </p:nvPicPr>
        <p:blipFill>
          <a:blip r:embed="rId1"/>
          <a:stretch/>
        </p:blipFill>
        <p:spPr>
          <a:xfrm>
            <a:off x="6629400" y="5181480"/>
            <a:ext cx="2057400" cy="1371600"/>
          </a:xfrm>
          <a:prstGeom prst="rect">
            <a:avLst/>
          </a:prstGeom>
          <a:ln w="0">
            <a:noFill/>
          </a:ln>
        </p:spPr>
      </p:pic>
      <p:sp>
        <p:nvSpPr>
          <p:cNvPr id="151" name="WordArt 8"/>
          <p:cNvSpPr txBox="1"/>
          <p:nvPr/>
        </p:nvSpPr>
        <p:spPr>
          <a:xfrm>
            <a:off x="1066680" y="2133720"/>
            <a:ext cx="75438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"Н А Р Е Ч И Е"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8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4952880" y="1752480"/>
            <a:ext cx="373392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10"/>
          <p:cNvSpPr/>
          <p:nvPr/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9C2FF-F786-434C-A295-D66BFB664AB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Номер слайда 7"/>
          <p:cNvSpPr/>
          <p:nvPr/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E5B80-AC26-4B08-AC9A-0438E2665AD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5639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Мы узнаем: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467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901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66"/>
                </a:solidFill>
                <a:latin typeface="Times New Roman"/>
              </a:rPr>
              <a:t>Что такое наречие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901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66"/>
                </a:solidFill>
                <a:latin typeface="Times New Roman"/>
              </a:rPr>
              <a:t>На какие вопросы отвечает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901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66"/>
                </a:solidFill>
                <a:latin typeface="Times New Roman"/>
              </a:rPr>
              <a:t>Изменяется или не изменяется наречие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901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66"/>
                </a:solidFill>
                <a:latin typeface="Times New Roman"/>
              </a:rPr>
              <a:t>Каким членом предложени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66"/>
                </a:solidFill>
                <a:latin typeface="Times New Roman"/>
              </a:rPr>
              <a:t>   </a:t>
            </a:r>
            <a:r>
              <a:rPr b="1" lang="ru-RU" sz="3600" spc="-1" strike="noStrike">
                <a:solidFill>
                  <a:srgbClr val="ff0066"/>
                </a:solidFill>
                <a:latin typeface="Times New Roman"/>
              </a:rPr>
              <a:t>является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901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66"/>
                </a:solidFill>
                <a:latin typeface="Times New Roman"/>
              </a:rPr>
              <a:t>Какую роль играет в речи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Picture 4" descr="BOOK2"/>
          <p:cNvPicPr/>
          <p:nvPr/>
        </p:nvPicPr>
        <p:blipFill>
          <a:blip r:embed="rId1"/>
          <a:stretch/>
        </p:blipFill>
        <p:spPr>
          <a:xfrm>
            <a:off x="5943600" y="457200"/>
            <a:ext cx="2816280" cy="83808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 txBox="1"/>
          <p:nvPr/>
        </p:nvSpPr>
        <p:spPr>
          <a:xfrm>
            <a:off x="4952880" y="3885840"/>
            <a:ext cx="373392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0" dur="10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7" dur="10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4" dur="10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1" dur="10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8" dur="1000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5" dur="1000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Times New Roman"/>
              </a:rPr>
              <a:t>Алгоритм изучения части речи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1218960" y="1218960"/>
            <a:ext cx="7543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. Часть речи…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2. Отвечает на?...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3. Роль…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4. Обозначает…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5. Изменяемая или неизменяемая часть речи…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6. В предложении является…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Нижний колонтитул 3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Номер слайда 4"/>
          <p:cNvSpPr/>
          <p:nvPr/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7F605-753C-4975-9C4F-9F8C13B72BC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10"/>
          <p:cNvSpPr/>
          <p:nvPr/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F448F-E1A4-4CC8-86FE-35D68953D55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Номер слайда 7"/>
          <p:cNvSpPr/>
          <p:nvPr/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6D89D-88B4-4D56-A19A-627E903EB16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Picture 14" descr="рука"/>
          <p:cNvPicPr/>
          <p:nvPr/>
        </p:nvPicPr>
        <p:blipFill>
          <a:blip r:embed="rId1"/>
          <a:stretch/>
        </p:blipFill>
        <p:spPr>
          <a:xfrm>
            <a:off x="6324480" y="6040440"/>
            <a:ext cx="1067040" cy="81756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17"/>
          <p:cNvSpPr/>
          <p:nvPr/>
        </p:nvSpPr>
        <p:spPr>
          <a:xfrm>
            <a:off x="6059520" y="137160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Rectangle 18"/>
          <p:cNvSpPr/>
          <p:nvPr/>
        </p:nvSpPr>
        <p:spPr>
          <a:xfrm>
            <a:off x="921960" y="4267080"/>
            <a:ext cx="598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ЧЕСТНО, ДРУЖНО, ИНТЕРЕСН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ctangle 19"/>
          <p:cNvSpPr/>
          <p:nvPr/>
        </p:nvSpPr>
        <p:spPr>
          <a:xfrm>
            <a:off x="923040" y="3581280"/>
            <a:ext cx="547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ЗДАЛЕКА, СВЕРХУ, СПРАВ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20"/>
          <p:cNvSpPr/>
          <p:nvPr/>
        </p:nvSpPr>
        <p:spPr>
          <a:xfrm>
            <a:off x="1074960" y="2198520"/>
            <a:ext cx="522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АПРАВО,  НАЛЕВО,  ВВЕР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21"/>
          <p:cNvSpPr/>
          <p:nvPr/>
        </p:nvSpPr>
        <p:spPr>
          <a:xfrm>
            <a:off x="961920" y="2928960"/>
            <a:ext cx="501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ЕГОДНЯ,  ВЧЕРА,  УТРО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22"/>
          <p:cNvSpPr/>
          <p:nvPr/>
        </p:nvSpPr>
        <p:spPr>
          <a:xfrm>
            <a:off x="1043640" y="1523880"/>
            <a:ext cx="495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БЛИЗКО,  СЛЕВА,  СПРАВ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23"/>
          <p:cNvSpPr/>
          <p:nvPr/>
        </p:nvSpPr>
        <p:spPr>
          <a:xfrm>
            <a:off x="7089120" y="1523880"/>
            <a:ext cx="106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Times New Roman"/>
              </a:rPr>
              <a:t>ГДЕ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24"/>
          <p:cNvSpPr/>
          <p:nvPr/>
        </p:nvSpPr>
        <p:spPr>
          <a:xfrm>
            <a:off x="7042680" y="2200320"/>
            <a:ext cx="146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Times New Roman"/>
              </a:rPr>
              <a:t>КУДА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25"/>
          <p:cNvSpPr/>
          <p:nvPr/>
        </p:nvSpPr>
        <p:spPr>
          <a:xfrm>
            <a:off x="6176880" y="2057400"/>
            <a:ext cx="61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26"/>
          <p:cNvSpPr/>
          <p:nvPr/>
        </p:nvSpPr>
        <p:spPr>
          <a:xfrm>
            <a:off x="6388200" y="274320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Rectangle 27"/>
          <p:cNvSpPr/>
          <p:nvPr/>
        </p:nvSpPr>
        <p:spPr>
          <a:xfrm>
            <a:off x="7089480" y="2971800"/>
            <a:ext cx="161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Times New Roman"/>
              </a:rPr>
              <a:t>КОГДА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28"/>
          <p:cNvSpPr/>
          <p:nvPr/>
        </p:nvSpPr>
        <p:spPr>
          <a:xfrm>
            <a:off x="6324480" y="342900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29"/>
          <p:cNvSpPr/>
          <p:nvPr/>
        </p:nvSpPr>
        <p:spPr>
          <a:xfrm>
            <a:off x="7012440" y="3581280"/>
            <a:ext cx="188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Times New Roman"/>
              </a:rPr>
              <a:t>ОТКУДА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Rectangle 30"/>
          <p:cNvSpPr/>
          <p:nvPr/>
        </p:nvSpPr>
        <p:spPr>
          <a:xfrm>
            <a:off x="6837480" y="411480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Rectangle 31"/>
          <p:cNvSpPr/>
          <p:nvPr/>
        </p:nvSpPr>
        <p:spPr>
          <a:xfrm>
            <a:off x="7242120" y="4267080"/>
            <a:ext cx="113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Times New Roman"/>
              </a:rPr>
              <a:t>КАК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694b6"/>
                </a:solidFill>
                <a:latin typeface="Times New Roman"/>
              </a:rPr>
              <a:t>На какие вопросы отвечает?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</p:spTree>
  </p:cSld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4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0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7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3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0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6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3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9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6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2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1066680" y="121932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. Идти по дорог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Медленно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идти по дорог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2. К нам приехал знакомый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Вчера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 нам приехал знакомый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3. На небе мерцали звёзды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На небе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загадочно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мерцали звёзды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Номер слайда 6"/>
          <p:cNvSpPr/>
          <p:nvPr/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57E10-A6DB-46F4-A1CE-A1B756003B7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20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20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20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20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20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20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20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20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2000" fill="hold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2000" fill="hold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7T19:03:08Z</dcterms:created>
  <dc:creator>1</dc:creator>
  <dc:description/>
  <dc:language>en-US</dc:language>
  <cp:lastModifiedBy>777</cp:lastModifiedBy>
  <dcterms:modified xsi:type="dcterms:W3CDTF">2015-05-15T21:17:34Z</dcterms:modified>
  <cp:revision>145</cp:revision>
  <dc:subject/>
  <dc:title>ТЕСТ  ПО РУССКОМУ ЯЗЫКУ по теме «ПРЕДЛОЖЕНИЕ»</dc:title>
</cp:coreProperties>
</file>