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E95-710A-4E9D-8176-39987992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95A-4EB1-47A6-A6C0-4E644391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3EA-86D6-474D-8A90-A0F83C86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81B-77CC-40DF-8360-17454AD9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BC1-69B6-4E54-B638-30B6B514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DCF-6A23-4DFD-843D-097ABB6B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F77-397D-45D8-8446-D4FDE21E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07B-E154-4D85-B798-5DD0E0CE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73E-73CA-4311-BC3E-9FA6B06E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88C-CAE9-41FC-BE5B-6E3BFC13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3E1-7D99-4D87-9B01-2E9591C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5BE-BB40-4112-AD40-388EED2F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8898-CC53-4499-9EF8-6A225197D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53172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детский сад общеразвивающего вида с приоритетным осуществлением деятельности по социально-личностному развитию детей № 23</a:t>
            </a:r>
            <a:br>
              <a:rPr sz="14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ППС. Центр патриотического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ия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льниченко А.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1 квалификационно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тегори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сомольск-на-Амур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Анна Алексеевна\сад\методисту\аттестация\приложения\Attachments_melnichenckotanya@yandex.ru_2020-04-08_18-46-33\20180126_155621.jpg"/>
          <p:cNvPicPr/>
          <p:nvPr/>
        </p:nvPicPr>
        <p:blipFill>
          <a:blip r:embed="rId1"/>
          <a:stretch/>
        </p:blipFill>
        <p:spPr>
          <a:xfrm>
            <a:off x="2627280" y="3357720"/>
            <a:ext cx="3951360" cy="237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Анна Алексеевна\сад\методисту\аттестация\приложения\Attachments_melnichenckotanya@yandex.ru_2020-04-08_18-46-33\20180126_155905.jpg"/>
          <p:cNvPicPr/>
          <p:nvPr/>
        </p:nvPicPr>
        <p:blipFill>
          <a:blip r:embed="rId2"/>
          <a:stretch/>
        </p:blipFill>
        <p:spPr>
          <a:xfrm>
            <a:off x="1835280" y="189000"/>
            <a:ext cx="54324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«Народная культура» представлен в нашем уголке предметами народного творчества. Это старинные исконно русские народные игрушки «Мини – музей кукол пеленашек». Также предметами народного творчества, и народного бы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D:\Анна Алексеевна\сад\методисту\аттестация\приложения\Attachments_melnichenckotanya@yandex.ru_2020-04-08_18-46-33\20180126_160848.jpg"/>
          <p:cNvPicPr/>
          <p:nvPr/>
        </p:nvPicPr>
        <p:blipFill>
          <a:blip r:embed="rId1"/>
          <a:stretch/>
        </p:blipFill>
        <p:spPr>
          <a:xfrm>
            <a:off x="4861080" y="4281480"/>
            <a:ext cx="4282920" cy="25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Анна Алексеевна\сад\методисту\аттестация\приложения\Attachments_melnichenckotanya@yandex.ru_2020-04-08_18-46-33\20180126_160725.jpg"/>
          <p:cNvPicPr/>
          <p:nvPr/>
        </p:nvPicPr>
        <p:blipFill>
          <a:blip r:embed="rId2"/>
          <a:stretch/>
        </p:blipFill>
        <p:spPr>
          <a:xfrm>
            <a:off x="2050920" y="1125360"/>
            <a:ext cx="502776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Анна Алексеевна\сад\методисту\аттестация\приложения\Attachments_melnichenckotanya@yandex.ru_2020-04-08_18-46-33\20180126_160815.jpg"/>
          <p:cNvPicPr/>
          <p:nvPr/>
        </p:nvPicPr>
        <p:blipFill>
          <a:blip r:embed="rId3"/>
          <a:stretch/>
        </p:blipFill>
        <p:spPr>
          <a:xfrm>
            <a:off x="103320" y="4292640"/>
            <a:ext cx="4263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представлены матрёшки, народные игрушки  русских мастеров (дымковская игрушка, игрушки с городецкой росписью, посуда расписанная под гжель и т.д). Конечно, представлена разносторонняя дидактическая литература, иллюстрации тематических направлений: жизненный уклад на Руси ( макет деревенской избы), народный календарь, народные праздники и традиции, фольклорные игры и т.д.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дымковская игрушка и посуда гжель расписана также воспитанниками, совместно с родителями. Народная игрушка – куклы пеленашки, изготовлены  воспитанниками в рамках программы дополнительного образования «Народная игрушка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Анна Алексеевна\сад\методисту\презнтация\Attachments_ann1407@yandex.ru_2021-03-07_21-16-07\IMG_20210219_131911.jpg"/>
          <p:cNvPicPr/>
          <p:nvPr/>
        </p:nvPicPr>
        <p:blipFill>
          <a:blip r:embed="rId1"/>
          <a:stretch/>
        </p:blipFill>
        <p:spPr>
          <a:xfrm>
            <a:off x="900000" y="1781280"/>
            <a:ext cx="6767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центре патриотического воспитания, конечно же представлены макеты посвященные празднованию Великой победы . Мини – музей медалей посвященных годовщинам победы. Также представлены лэп-буки «Неизвестному солдату», «Собаки-герои», «Ленинград-42»,  «Герои тыла», «Военная техника победы». «Бессмертный полк» - в этом разделе детьми представлены сообщения о своих прабабушках и прадедушках служивших и живших в годы ВОВ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:\Анна Алексеевна\сад\методисту\презнтация\Attachments_ann1407@yandex.ru_2021-03-07_21-16-07\IMG_20210219_132109.jpg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ельзя пробудить чувство Родины без восприятия и переживания окружающего мира. Пусть в сердце  малыша на всю жизнь останутся воспоминания о  маленьком уголке далёкого детства. Пусть с этим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   уголком связывается образ великой Родины».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 А. Сухомлинский</a:t>
            </a:r>
            <a:br>
              <a:rPr sz="13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условий для становления основ патриотического сознания детей, возможности позитивной социализации ребенка, его всестороннего личностного, морально - нравственного и познавательного развития, развития инициативы и творческих способностей на основе соответствующих дошкольному возрасту видов деятельности (ФГОС Д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: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рмирование нравственно – духовных особенностей личности;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тие чувств гордости за свою нацию;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ание почтительного отношения к национальным и культурным традициям свое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ющая предметно – пространственная                среда должна быть: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одержательно – насыщенной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олифункциональной (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 функци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Трансформируемой (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ь изменять среду в зависимости от ситуаций, интересов и возможносте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Вариативно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периодическая сменяемость игрового материала, появление новых предметов, стимулирующих игровую, двигательную, познавательную и исследовательскую активность детей)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Безопасной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Доступ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олок патриотического воспитания </a:t>
            </a:r>
            <a:br>
              <a:rPr sz="1300"/>
            </a:b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дготовительной группе № 3</a:t>
            </a:r>
            <a:br>
              <a:rPr sz="1300"/>
            </a:b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 уголок богат не только большим разнообразием дидактической литературы, энциклопедий, художественных и публицистических книг, о родном городе, крае, нашей великой Родине (о традициях, культуре, животном и растительном мире, великих людях, прославивших Россию,  о градообразующих предприятиях края и т.д.). Наш уголок богат макетами изготовленных руками детей и их родителями, </a:t>
            </a:r>
            <a:br>
              <a:rPr sz="1300"/>
            </a:b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 об этом по подробней…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Анна Алексеевна\сад\методисту\презнтация\Attachments_ann1407@yandex.ru_2021-03-07_21-16-07\IMG_20210219_132021.jpg"/>
          <p:cNvPicPr/>
          <p:nvPr/>
        </p:nvPicPr>
        <p:blipFill>
          <a:blip r:embed="rId1"/>
          <a:stretch/>
        </p:blipFill>
        <p:spPr>
          <a:xfrm>
            <a:off x="900000" y="1746360"/>
            <a:ext cx="61930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1332000" y="260280"/>
            <a:ext cx="55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кеты и альбомы с достопримечательностями, красивыми местами города Комсомольска-на-Ам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D:\Анна Алексеевна\сад\методисту\аттестация\приложения\Attachments_melnichenckotanya@yandex.ru_2020-04-08_18-46-33\20180126_155326.jpg"/>
          <p:cNvPicPr/>
          <p:nvPr/>
        </p:nvPicPr>
        <p:blipFill>
          <a:blip r:embed="rId1"/>
          <a:stretch/>
        </p:blipFill>
        <p:spPr>
          <a:xfrm>
            <a:off x="5292720" y="1341360"/>
            <a:ext cx="3527280" cy="446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D:\Анна Алексеевна\сад\методисту\аттестация\приложения\Attachments_melnichenckotanya@yandex.ru_2020-04-08_18-46-33\20180126_160201.jpg"/>
          <p:cNvPicPr/>
          <p:nvPr/>
        </p:nvPicPr>
        <p:blipFill>
          <a:blip r:embed="rId2"/>
          <a:stretch/>
        </p:blipFill>
        <p:spPr>
          <a:xfrm>
            <a:off x="0" y="1773360"/>
            <a:ext cx="50767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значение уделено блоку « Моя семья»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уголке представлены семейные фотографии, макеты различных домов, где дети могут обыгрывать правила поведения в различных жизненных ситуациях. Очень живо и ярко предоставлена информация о традициях и семейных праздниках практически  каждого воспитанник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Анна Алексеевна\сад\методисту\презнтация\Attachments_ann1407@yandex.ru_2021-03-07_21-16-07\IMG_20210219_132047.jpg"/>
          <p:cNvPicPr/>
          <p:nvPr/>
        </p:nvPicPr>
        <p:blipFill>
          <a:blip r:embed="rId1"/>
          <a:stretch/>
        </p:blipFill>
        <p:spPr>
          <a:xfrm>
            <a:off x="971640" y="1484280"/>
            <a:ext cx="66006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а детализация таких направлений, как генеалогическое дерево, семейный герб. Уголок наполнен семейными макетами и альбомами, изготовленными детьми и их родителям, а также поделками на тему « Генеалогическое дерево моего рода», «Мой, уютный, милый до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D:\Анна Алексеевна\сад\методисту\аттестация\приложения\Attachments_melnichenckotanya@yandex.ru_2020-04-08_18-46-33\2016-12-17 03-44-53 (25).JPG"/>
          <p:cNvPicPr/>
          <p:nvPr/>
        </p:nvPicPr>
        <p:blipFill>
          <a:blip r:embed="rId1"/>
          <a:stretch/>
        </p:blipFill>
        <p:spPr>
          <a:xfrm>
            <a:off x="0" y="1557360"/>
            <a:ext cx="4649760" cy="356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D:\Анна Алексеевна\сад\методисту\аттестация\приложения\Attachments_melnichenckotanya@yandex.ru_2020-04-08_18-46-33\20180126_154405.jpg"/>
          <p:cNvPicPr/>
          <p:nvPr/>
        </p:nvPicPr>
        <p:blipFill>
          <a:blip r:embed="rId2"/>
          <a:stretch/>
        </p:blipFill>
        <p:spPr>
          <a:xfrm>
            <a:off x="4829040" y="1557360"/>
            <a:ext cx="43149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Анна Алексеевна\сад\методисту\презнтация\Attachments_ann1407@yandex.ru_2021-03-07_21-16-07\IMG_20210219_132055.jpg"/>
          <p:cNvPicPr/>
          <p:nvPr/>
        </p:nvPicPr>
        <p:blipFill>
          <a:blip r:embed="rId1"/>
          <a:stretch/>
        </p:blipFill>
        <p:spPr>
          <a:xfrm>
            <a:off x="755640" y="981000"/>
            <a:ext cx="7835760" cy="5877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«Родина» «Родной край» и «Малая родина» представлен не только  детализированной картой страны, атласами с картинками природных зон, растительного и животного мира. Спортивными достижениями края, а также макетом Хабаровского края, рельефом местности, с животным миром и  коренными народами края. Представлены различные жилища народов, их промыслы, одежда и быт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4T15:38:11Z</dcterms:created>
  <dc:creator>060416</dc:creator>
  <dc:description/>
  <dc:language>en-US</dc:language>
  <cp:lastModifiedBy>User</cp:lastModifiedBy>
  <dcterms:modified xsi:type="dcterms:W3CDTF">2021-10-20T04:06:03Z</dcterms:modified>
  <cp:revision>61</cp:revision>
  <dc:subject/>
  <dc:title>Муниципальное бюджетное дошкольное образовательное учреждение  «Центр развития ребёнка – детский сад»   РППС. Центр патриотического воспитания в средней группе №5.</dc:title>
</cp:coreProperties>
</file>