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0.gif" ContentType="image/gif"/>
  <Override PartName="/ppt/media/image16.gif" ContentType="image/gif"/>
  <Override PartName="/ppt/media/image2.png" ContentType="image/png"/>
  <Override PartName="/ppt/media/image9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B7E-FDD7-44C5-900B-9CFB30AF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E48-6083-4240-9BDF-4DC34617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BCA-9C54-42C3-AFC4-F210EA03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3A7-7610-4D7C-A3E9-193C4586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3D10-6338-4A21-BD76-6A1DF66E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13A-645D-4001-8550-B78BB5CF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A94D-D6B7-4BCC-BED5-2129E076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F1B5-9CBD-4444-9C38-4D8BA3AB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7764-404F-4A7B-9F72-CAD83B7A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68BF-7966-4084-93F0-4200BC03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78D4-6168-4D33-B6C4-83AF93B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920-74A9-4023-B370-9CFBA736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D66B-CABC-4A12-AB53-36D1A48B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198-840A-400F-A6A3-C5208E8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447D-CB65-4C93-8BF7-20EDAE9A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E9C-ACBB-4598-84D9-8948C0EC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E364-0B2B-4CD3-8738-BECC1EA7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65D5-2458-43F6-AC55-63F489FC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98E2-F49F-43C2-BF68-5821DDAD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D17E-E225-440B-8FF5-C795CA3A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7481-B4A4-4C92-AF0A-D0EB4D24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2433-7E31-4EBB-AF36-BEEB61BE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E4F-B391-4CC7-9138-D8F5F128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B337-7767-4555-8B50-CA22AE5E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F8A5-1074-496D-977F-982CD59B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1E9A1-DCF6-47C7-B9DE-72E830ED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1492-84AB-48FB-A350-91F2E2B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CDC7-8058-4D71-9A86-50F96137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F685-6365-4C36-843D-4EB3D2AB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10E2-3E3B-4963-90F6-F69842A5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BC77-53D4-452C-B9E4-B3711053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04DE-57DC-4DF1-8F8B-A632C18F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15AD-F941-40D3-A568-4D1FE562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23F-07B3-4FC6-80A3-89B9FF92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89CD-DDD9-4B05-B4D7-47421A56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A861B-F277-4E06-8280-10E31683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5DCAC-E526-4BCE-80D1-A710DC73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1C31-FD83-4FD8-A72D-16D7ECDC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666B-8ABE-4A52-B8B6-A7BE5669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D15A-36B8-4184-A775-CA7874C6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B68B7-401D-4E9F-87AF-E8DF57FF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E53CE-DC96-4B4F-94A3-D3F414A5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FF044-840E-4D5B-AAE3-106B47CB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0B724-3925-4E7F-89F4-AC90791F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C47-F31F-4A6F-8477-377F28A2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EBDB5-0FAC-4F90-A957-8DE59F3E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F196-F321-4063-8CD9-D381D37B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CD32F-D68A-44FD-99F9-C928834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52F5B-857E-4D89-B528-FD1327B2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03BB-F595-49FD-A671-C3660B7F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C16D-8B32-45EC-ADF0-7C2925A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F29CA-53D1-401C-A1F3-DEE735BD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968C2-E25B-40CD-9DFD-491968CE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56E4-2E3B-4C89-83B9-B42DF470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592EF-868A-414D-AB0A-2B59189D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F27-E168-4416-BD9D-1F59F0D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3CE5-FFDB-43B0-9363-97092430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6C2-77ED-488D-83BF-CDEBA214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A13-CBA1-4211-B6C5-0350F46B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0C4-ECDA-419E-91A7-08884B8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8BA4-0B2C-46EC-ACB4-CEE501CDC65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A5D3-566F-48EA-9145-368ECF69C23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CE68-E0DD-4552-BFD7-426140D17C2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A1E0-08F2-48D1-8659-FCA572E7EC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560A-99EE-4DDB-AE3D-68E89EA1A9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der Schule lernt man viel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esen, rechnen, Sport und Spiel,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asteln, singen, turnen, schreiben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iemand will ein Dummkopf bleiben.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Stunde 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de-DE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innt</a:t>
            </a:r>
            <a:endParaRPr b="0" lang="en-US" sz="8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708680" cy="1957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ieben + das Fach = </a:t>
            </a:r>
            <a:r>
              <a:rPr b="0" lang="de-DE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s Lieblingsfach</a:t>
            </a:r>
            <a:br>
              <a:rPr sz="3600"/>
            </a:b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4240" y="2928600"/>
            <a:ext cx="7780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n Lieblings</a:t>
            </a:r>
            <a:r>
              <a:rPr b="0" i="1" lang="de-DE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ach</a:t>
            </a:r>
            <a:r>
              <a:rPr b="0" i="1" lang="de-DE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</a:t>
            </a:r>
            <a:r>
              <a:rPr b="0" i="1" lang="de-DE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ne Lieblings</a:t>
            </a:r>
            <a:r>
              <a:rPr b="0" i="1" lang="de-DE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ächer</a:t>
            </a:r>
            <a:r>
              <a:rPr b="0" i="1" lang="de-DE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d</a:t>
            </a:r>
            <a:r>
              <a:rPr b="0" i="1" lang="de-DE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und …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6" name="Picture 2" descr="C:\Users\dns1\Desktop\6005030.gif"/>
          <p:cNvPicPr/>
          <p:nvPr/>
        </p:nvPicPr>
        <p:blipFill>
          <a:blip r:embed="rId1"/>
          <a:stretch/>
        </p:blipFill>
        <p:spPr>
          <a:xfrm>
            <a:off x="142920" y="0"/>
            <a:ext cx="10303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Hören wir!</a:t>
            </a:r>
            <a:endParaRPr b="0" lang="en-US" sz="8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13840" y="2571480"/>
            <a:ext cx="89298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b05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88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1f5c"/>
                </a:solidFill>
                <a:latin typeface="Times New Roman"/>
                <a:ea typeface="Times New Roman"/>
              </a:rPr>
              <a:t>Spielen wir!</a:t>
            </a:r>
            <a:br>
              <a:rPr sz="4800"/>
            </a:br>
            <a:r>
              <a:rPr b="0" lang="de-DE" sz="4800" spc="-1" strike="noStrike">
                <a:solidFill>
                  <a:srgbClr val="001f5c"/>
                </a:solidFill>
                <a:latin typeface="Times New Roman"/>
                <a:ea typeface="Times New Roman"/>
              </a:rPr>
              <a:t>das Wunder + der Hut = </a:t>
            </a:r>
            <a:br>
              <a:rPr sz="4800"/>
            </a:br>
            <a:r>
              <a:rPr b="0" lang="de-DE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r Wunderhut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as ist …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r … in … 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1" name="Picture 2" descr="C:\Users\dns1\Desktop\magichattrick.gif"/>
          <p:cNvPicPr/>
          <p:nvPr/>
        </p:nvPicPr>
        <p:blipFill>
          <a:blip r:embed="rId1"/>
          <a:stretch/>
        </p:blipFill>
        <p:spPr>
          <a:xfrm>
            <a:off x="6072120" y="4786200"/>
            <a:ext cx="2184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1071720" y="3571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in magisches Quad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85840" y="1000080"/>
          <a:ext cx="8572320" cy="5214960"/>
        </p:xfrm>
        <a:graphic>
          <a:graphicData uri="http://schemas.openxmlformats.org/drawingml/2006/table">
            <a:tbl>
              <a:tblPr/>
              <a:tblGrid>
                <a:gridCol w="428400"/>
                <a:gridCol w="427320"/>
                <a:gridCol w="428400"/>
                <a:gridCol w="428760"/>
                <a:gridCol w="426960"/>
                <a:gridCol w="428760"/>
                <a:gridCol w="428400"/>
                <a:gridCol w="428760"/>
                <a:gridCol w="426960"/>
                <a:gridCol w="428760"/>
                <a:gridCol w="430200"/>
                <a:gridCol w="428400"/>
                <a:gridCol w="428760"/>
                <a:gridCol w="428760"/>
                <a:gridCol w="430200"/>
                <a:gridCol w="428400"/>
                <a:gridCol w="428760"/>
                <a:gridCol w="430200"/>
                <a:gridCol w="428760"/>
                <a:gridCol w="428400"/>
              </a:tblGrid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285840" y="357120"/>
          <a:ext cx="8501040" cy="6143760"/>
        </p:xfrm>
        <a:graphic>
          <a:graphicData uri="http://schemas.openxmlformats.org/drawingml/2006/table">
            <a:tbl>
              <a:tblPr/>
              <a:tblGrid>
                <a:gridCol w="423720"/>
                <a:gridCol w="425520"/>
                <a:gridCol w="423720"/>
                <a:gridCol w="425520"/>
                <a:gridCol w="424080"/>
                <a:gridCol w="425160"/>
                <a:gridCol w="424080"/>
                <a:gridCol w="425520"/>
                <a:gridCol w="423720"/>
                <a:gridCol w="425520"/>
                <a:gridCol w="425520"/>
                <a:gridCol w="425160"/>
                <a:gridCol w="425520"/>
                <a:gridCol w="425520"/>
                <a:gridCol w="425520"/>
                <a:gridCol w="425520"/>
                <a:gridCol w="425160"/>
                <a:gridCol w="425520"/>
                <a:gridCol w="425520"/>
                <a:gridCol w="425520"/>
              </a:tblGrid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7855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Was habt ihr heute erlernt</a:t>
            </a:r>
            <a:r>
              <a:rPr b="0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Wie findet ihr unsere Stunde</a:t>
            </a:r>
            <a:r>
              <a:rPr b="0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87" name="Содержимое 4" descr="5kzgndeEIr0.jpg"/>
          <p:cNvPicPr/>
          <p:nvPr/>
        </p:nvPicPr>
        <p:blipFill>
          <a:blip r:embed="rId1"/>
          <a:stretch/>
        </p:blipFill>
        <p:spPr>
          <a:xfrm>
            <a:off x="500040" y="3357720"/>
            <a:ext cx="3749760" cy="324612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5" descr="Smile.jpg"/>
          <p:cNvPicPr/>
          <p:nvPr/>
        </p:nvPicPr>
        <p:blipFill>
          <a:blip r:embed="rId2"/>
          <a:stretch/>
        </p:blipFill>
        <p:spPr>
          <a:xfrm>
            <a:off x="5072040" y="3786120"/>
            <a:ext cx="37497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285920" y="3200400"/>
            <a:ext cx="641016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usaufgabe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Stundenplan – malen, bastlen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Stunde ist zu Ende</a:t>
            </a:r>
            <a:endParaRPr b="0" lang="en-US" sz="6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Users\dns1\Desktop\500_F_45686855_T6XGzE7M0uUFNezlO2thnPKd4QKfwMtG.jpg"/>
          <p:cNvPicPr/>
          <p:nvPr/>
        </p:nvPicPr>
        <p:blipFill>
          <a:blip r:embed="rId1"/>
          <a:stretch/>
        </p:blipFill>
        <p:spPr>
          <a:xfrm>
            <a:off x="1071720" y="428760"/>
            <a:ext cx="7988040" cy="6183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Users\dns1\Desktop\259c978d62f8d4b34afccc761416c36d.gif"/>
          <p:cNvPicPr/>
          <p:nvPr/>
        </p:nvPicPr>
        <p:blipFill>
          <a:blip r:embed="rId2"/>
          <a:stretch/>
        </p:blipFill>
        <p:spPr>
          <a:xfrm>
            <a:off x="3286080" y="-571680"/>
            <a:ext cx="5786640" cy="304488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3"/>
          <p:cNvSpPr/>
          <p:nvPr/>
        </p:nvSpPr>
        <p:spPr>
          <a:xfrm>
            <a:off x="3323160" y="32446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м итог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286840" cy="635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welchem Fach macht ihr das?</a:t>
            </a:r>
            <a:br>
              <a:rPr sz="44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lerne in der Schule nähen und stricken. – In …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bastelst auch viel in der Schule. – In …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 turnt und springt in der Schule. – In …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r schreibt so viel Russisch. – In …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 rechnen und zählen in der Schule. – In …</a:t>
            </a:r>
            <a:br>
              <a:rPr sz="3200"/>
            </a:b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400960" cy="4786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 sprechen Englisch in der Schule. – In …</a:t>
            </a: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arbeiten am Computer. – In …</a:t>
            </a: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sprechen Deutsch in der Schule. – In …</a:t>
            </a: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 malt Bilder.  – In …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r singen schöne Lieder. – In …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ie ist das Wetter heute?</a:t>
            </a:r>
            <a:endParaRPr b="0" lang="en-US" sz="54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31" name="Picture 3" descr="C:\Users\dns1\Desktop\807a0f39e4c07f62c99e2b9545afcb30.gif"/>
          <p:cNvPicPr/>
          <p:nvPr/>
        </p:nvPicPr>
        <p:blipFill>
          <a:blip r:embed="rId1"/>
          <a:stretch/>
        </p:blipFill>
        <p:spPr>
          <a:xfrm>
            <a:off x="4214880" y="4071960"/>
            <a:ext cx="4565520" cy="242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dns1\Desktop\neve3.gif"/>
          <p:cNvPicPr/>
          <p:nvPr/>
        </p:nvPicPr>
        <p:blipFill>
          <a:blip r:embed="rId2"/>
          <a:stretch/>
        </p:blipFill>
        <p:spPr>
          <a:xfrm>
            <a:off x="214200" y="1000080"/>
            <a:ext cx="4143600" cy="2735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Users\dns1\Desktop\0_6b7f2_213y8vgLkk.gif"/>
          <p:cNvPicPr/>
          <p:nvPr/>
        </p:nvPicPr>
        <p:blipFill>
          <a:blip r:embed="rId3"/>
          <a:stretch/>
        </p:blipFill>
        <p:spPr>
          <a:xfrm>
            <a:off x="6572160" y="928800"/>
            <a:ext cx="2362320" cy="3938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Users\dns1\Desktop\8fee1bbcb65ebb259af07ab8c06d2b3c.jpg"/>
          <p:cNvPicPr/>
          <p:nvPr/>
        </p:nvPicPr>
        <p:blipFill>
          <a:blip r:embed="rId4"/>
          <a:stretch/>
        </p:blipFill>
        <p:spPr>
          <a:xfrm>
            <a:off x="357120" y="4071960"/>
            <a:ext cx="3479760" cy="2571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http://www.avterm.ru/good-heat/pictures/pictures-551.jpg"/>
          <p:cNvPicPr/>
          <p:nvPr/>
        </p:nvPicPr>
        <p:blipFill>
          <a:blip r:embed="rId5"/>
          <a:stretch/>
        </p:blipFill>
        <p:spPr>
          <a:xfrm>
            <a:off x="3714840" y="2071800"/>
            <a:ext cx="278604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2011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e Stunde + der Plan = der Stundenplan</a:t>
            </a: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37" name="Содержимое 3" descr="1373625347-223.jpg"/>
          <p:cNvPicPr/>
          <p:nvPr/>
        </p:nvPicPr>
        <p:blipFill>
          <a:blip r:embed="rId1"/>
          <a:stretch/>
        </p:blipFill>
        <p:spPr>
          <a:xfrm>
            <a:off x="1420920" y="2225520"/>
            <a:ext cx="70167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lche Assoziationen habt ihr?</a:t>
            </a:r>
            <a:br>
              <a:rPr sz="3600"/>
            </a:b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cxnSp>
        <p:nvCxnSpPr>
          <p:cNvPr id="239" name="Прямая со стрелкой 10"/>
          <p:cNvCxnSpPr/>
          <p:nvPr/>
        </p:nvCxnSpPr>
        <p:spPr>
          <a:xfrm>
            <a:off x="1428480" y="1928880"/>
            <a:ext cx="1215000" cy="100080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40" name="Прямая со стрелкой 14"/>
          <p:cNvCxnSpPr/>
          <p:nvPr/>
        </p:nvCxnSpPr>
        <p:spPr>
          <a:xfrm flipH="1">
            <a:off x="6143400" y="1784880"/>
            <a:ext cx="1286640" cy="50076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41" name="Прямая со стрелкой 16"/>
          <p:cNvCxnSpPr/>
          <p:nvPr/>
        </p:nvCxnSpPr>
        <p:spPr>
          <a:xfrm flipH="1" flipV="1">
            <a:off x="6571800" y="4785480"/>
            <a:ext cx="1215360" cy="107244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42" name="Прямая со стрелкой 18"/>
          <p:cNvCxnSpPr/>
          <p:nvPr/>
        </p:nvCxnSpPr>
        <p:spPr>
          <a:xfrm>
            <a:off x="1356840" y="3000240"/>
            <a:ext cx="1072440" cy="28656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43" name="Прямая со стрелкой 20"/>
          <p:cNvCxnSpPr/>
          <p:nvPr/>
        </p:nvCxnSpPr>
        <p:spPr>
          <a:xfrm flipV="1">
            <a:off x="5285160" y="5073120"/>
            <a:ext cx="2520" cy="85824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44" name="Прямая со стрелкой 24"/>
          <p:cNvCxnSpPr/>
          <p:nvPr/>
        </p:nvCxnSpPr>
        <p:spPr>
          <a:xfrm flipH="1">
            <a:off x="6928560" y="3285000"/>
            <a:ext cx="1072440" cy="14364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45" name="Прямая со стрелкой 26"/>
          <p:cNvCxnSpPr/>
          <p:nvPr/>
        </p:nvCxnSpPr>
        <p:spPr>
          <a:xfrm>
            <a:off x="5143680" y="1499760"/>
            <a:ext cx="72000" cy="85788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sp>
        <p:nvSpPr>
          <p:cNvPr id="246" name="Овал 11"/>
          <p:cNvSpPr/>
          <p:nvPr/>
        </p:nvSpPr>
        <p:spPr>
          <a:xfrm>
            <a:off x="2500200" y="2357280"/>
            <a:ext cx="4286520" cy="2286000"/>
          </a:xfrm>
          <a:prstGeom prst="ellipse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nden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6858000" y="1357200"/>
            <a:ext cx="2000160" cy="85752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5"/>
          <p:cNvSpPr/>
          <p:nvPr/>
        </p:nvSpPr>
        <p:spPr>
          <a:xfrm>
            <a:off x="4357800" y="1000080"/>
            <a:ext cx="1928880" cy="78588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ss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214200" y="1571760"/>
            <a:ext cx="1714680" cy="78552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ut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/>
          <p:cNvSpPr/>
          <p:nvPr/>
        </p:nvSpPr>
        <p:spPr>
          <a:xfrm>
            <a:off x="214200" y="2857680"/>
            <a:ext cx="1500480" cy="78552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n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1"/>
          <p:cNvSpPr/>
          <p:nvPr/>
        </p:nvSpPr>
        <p:spPr>
          <a:xfrm>
            <a:off x="214200" y="5643720"/>
            <a:ext cx="2214720" cy="92844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hku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4286160" y="5786280"/>
            <a:ext cx="2286000" cy="71460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ilarbe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3"/>
          <p:cNvSpPr/>
          <p:nvPr/>
        </p:nvSpPr>
        <p:spPr>
          <a:xfrm>
            <a:off x="7500960" y="2571840"/>
            <a:ext cx="1428840" cy="107136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5"/>
          <p:cNvSpPr/>
          <p:nvPr/>
        </p:nvSpPr>
        <p:spPr>
          <a:xfrm>
            <a:off x="6929280" y="5715000"/>
            <a:ext cx="1928880" cy="71424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31"/>
          <p:cNvCxnSpPr/>
          <p:nvPr/>
        </p:nvCxnSpPr>
        <p:spPr>
          <a:xfrm flipV="1">
            <a:off x="3500280" y="4928400"/>
            <a:ext cx="286560" cy="114372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56" name="Прямая со стрелкой 33"/>
          <p:cNvCxnSpPr/>
          <p:nvPr/>
        </p:nvCxnSpPr>
        <p:spPr>
          <a:xfrm flipV="1">
            <a:off x="1213920" y="4500000"/>
            <a:ext cx="1072440" cy="28620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cxnSp>
        <p:nvCxnSpPr>
          <p:cNvPr id="257" name="Прямая со стрелкой 41"/>
          <p:cNvCxnSpPr/>
          <p:nvPr/>
        </p:nvCxnSpPr>
        <p:spPr>
          <a:xfrm flipH="1" flipV="1">
            <a:off x="6786000" y="4143240"/>
            <a:ext cx="1500840" cy="64332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sp>
        <p:nvSpPr>
          <p:cNvPr id="258" name="Прямоугольник 43"/>
          <p:cNvSpPr/>
          <p:nvPr/>
        </p:nvSpPr>
        <p:spPr>
          <a:xfrm>
            <a:off x="214200" y="4214880"/>
            <a:ext cx="1643040" cy="78588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44"/>
          <p:cNvSpPr/>
          <p:nvPr/>
        </p:nvSpPr>
        <p:spPr>
          <a:xfrm>
            <a:off x="7429680" y="4143240"/>
            <a:ext cx="1428480" cy="78588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5"/>
          <p:cNvSpPr/>
          <p:nvPr/>
        </p:nvSpPr>
        <p:spPr>
          <a:xfrm>
            <a:off x="2714760" y="5500800"/>
            <a:ext cx="1428480" cy="71424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47"/>
          <p:cNvCxnSpPr/>
          <p:nvPr/>
        </p:nvCxnSpPr>
        <p:spPr>
          <a:xfrm>
            <a:off x="3071880" y="1571760"/>
            <a:ext cx="643320" cy="78624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  <p:sp>
        <p:nvSpPr>
          <p:cNvPr id="262" name="Прямоугольник 48"/>
          <p:cNvSpPr/>
          <p:nvPr/>
        </p:nvSpPr>
        <p:spPr>
          <a:xfrm>
            <a:off x="2071800" y="1071720"/>
            <a:ext cx="1928880" cy="714240"/>
          </a:xfrm>
          <a:prstGeom prst="rect">
            <a:avLst/>
          </a:prstGeom>
          <a:solidFill>
            <a:srgbClr val="cf6da4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64"/>
          <p:cNvCxnSpPr/>
          <p:nvPr/>
        </p:nvCxnSpPr>
        <p:spPr>
          <a:xfrm flipV="1">
            <a:off x="1928880" y="4571280"/>
            <a:ext cx="1000800" cy="1143720"/>
          </a:xfrm>
          <a:prstGeom prst="straightConnector1">
            <a:avLst/>
          </a:prstGeom>
          <a:ln w="9360">
            <a:solidFill>
              <a:srgbClr val="972a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2160" y="785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önnt ihr das lesen?</a:t>
            </a: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42960" y="2547720"/>
            <a:ext cx="7851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-t---, R-ss-sch, R-l-g-o-, K-n-t, M--i-, S-o-t, M-t-e, S--hk-nd-, E-g-is--, W--k-n, T-x-i-ar-e-t.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lche Fächer habt ihr am Montag, am Dienstag, am Mittwoch, am Donnerstag, am Freitag und am Samstag?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00080" y="3357720"/>
            <a:ext cx="749448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haben am Montag …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in Stundenplan …</a:t>
            </a: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69" name="Picture 4" descr="C:\Users\dns1\Desktop\Stundenplan\stunpl\Stundenplan-8-ausdrucken.jpg"/>
          <p:cNvPicPr/>
          <p:nvPr/>
        </p:nvPicPr>
        <p:blipFill>
          <a:blip r:embed="rId1"/>
          <a:stretch/>
        </p:blipFill>
        <p:spPr>
          <a:xfrm>
            <a:off x="611280" y="1341360"/>
            <a:ext cx="8358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7922880" cy="188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3600"/>
            </a:br>
            <a:r>
              <a:rPr b="0" lang="de-DE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lche Stunde ist heute die erste, die zweite, die dritte … ?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3920" y="3643200"/>
            <a:ext cx="7280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erste Stunde ist heute …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758000" cy="3797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d jetzt spielen wir „Schlange“.</a:t>
            </a:r>
            <a:br>
              <a:rPr sz="4000"/>
            </a:br>
            <a:r>
              <a:rPr b="0" i="1" lang="de-DE" sz="40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r>
              <a:rPr b="0" i="1" lang="de-DE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htung!</a:t>
            </a:r>
            <a:br>
              <a:rPr sz="4800"/>
            </a:br>
            <a:r>
              <a:rPr b="1" i="1" lang="de-DE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r erste (Schüler)</a:t>
            </a:r>
            <a:br>
              <a:rPr sz="4800"/>
            </a:br>
            <a:r>
              <a:rPr b="1" i="1" lang="de-DE" sz="4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Die erste (Schülerin)</a:t>
            </a:r>
            <a:br>
              <a:rPr sz="4800"/>
            </a:b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73" name="Picture 2" descr="C:\Users\dns1\Desktop\6866171.gif"/>
          <p:cNvPicPr/>
          <p:nvPr/>
        </p:nvPicPr>
        <p:blipFill>
          <a:blip r:embed="rId1"/>
          <a:stretch/>
        </p:blipFill>
        <p:spPr>
          <a:xfrm>
            <a:off x="452520" y="4714920"/>
            <a:ext cx="833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7T06:19:29Z</dcterms:created>
  <dc:creator>dns1</dc:creator>
  <dc:description/>
  <dc:language>en-US</dc:language>
  <cp:lastModifiedBy>Romanich</cp:lastModifiedBy>
  <dcterms:modified xsi:type="dcterms:W3CDTF">2018-05-11T15:09:02Z</dcterms:modified>
  <cp:revision>43</cp:revision>
  <dc:subject/>
  <dc:title>Die Stunde Beginnt</dc:title>
</cp:coreProperties>
</file>