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E6D-1BA6-4D93-B3D7-25DE6D81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E5B-C4EF-4758-B8EB-6C2F369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452-6D2C-4221-A972-D90ED685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2C9-8FC5-4242-8F14-530D95AF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11D-6FFA-4035-A250-EF3DBE8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9577-3458-47AD-8625-F46DDF8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BD97-52D7-4974-8EAE-939941B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3DF-D961-4C40-B401-9C294F7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C5C5-64BA-4437-AB62-8EE49FD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AE53-6892-4319-8621-F60ECDD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592-C316-4A4C-9134-4498A7A9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C6E-4196-4241-A50A-FB3F2C0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40EF-54A1-46FE-8E08-A6259EA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1860-2B3C-40E3-9F70-90D5EC26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2436-792D-4B4B-8BB8-A794D10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997A-52ED-401F-8F26-D1F355C9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48C1-D69E-476F-BFAF-9E2338F7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48D-A031-461F-9621-384A6EBE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04E-F6A5-44BC-B2A4-55D7C6DA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5BF-E01B-4D2B-B34F-74FE060D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FA2-5F69-4A91-B143-A9879634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720-3589-489B-80A0-A83A26DA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5A3-0E63-4126-818C-0D8C994D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2DA-E87F-45D7-83A7-324BCF4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4976-3825-4A3A-BBAA-EDD768128D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6CB7-6433-4E44-B95B-EB18B506CB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Технология развития критического мышления на уроках музык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Учитель музыки МБОО СОШ №10  Ерёмина Татьяна Пантел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г.о.Лоб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 технологии критического мышления выделяют три стадии: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1600" y="2735280"/>
            <a:ext cx="721836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Выз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Осмысл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II</a:t>
            </a:r>
            <a:r>
              <a:rPr b="0" lang="ru-RU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 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6964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1 стадия «вызов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721836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Актуализация имеющихся знаний, представ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робуждение познавательного интереса к изучаемой 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Учащиеся определяют направления в изучаемой 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1 стадия «вызов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268280"/>
          <a:ext cx="8713800" cy="5632560"/>
        </p:xfrm>
        <a:graphic>
          <a:graphicData uri="http://schemas.openxmlformats.org/drawingml/2006/table">
            <a:tbl>
              <a:tblPr/>
              <a:tblGrid>
                <a:gridCol w="4392360"/>
                <a:gridCol w="432144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учащих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озможные приемы и мет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Учащиеся «вспоминают»,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что им известно по изучаемому вопросу (делают предположения), систематизируют информацию до ее изучения, задают вопросы на которые хотели бы получить ответ. Ставят собственные цели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оставление списка «известной информации», рассказ – предположение по ключевым словам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систематизация материала (графическая) кластер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;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таблицы; верные и неверные утверждения; перепутанные логические цепочки и т.д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2 стадия «реализация смысла» (осмысления)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96440" cy="29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Задач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Организация активной работы с текстом, музыкальным произве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Удовлетворение познавательных «запрос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Формирование отношения к тексту, музыкальному произвед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964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2 стадия «реализация смысла»(осмысления)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557360"/>
          <a:ext cx="8713800" cy="5300640"/>
        </p:xfrm>
        <a:graphic>
          <a:graphicData uri="http://schemas.openxmlformats.org/drawingml/2006/table">
            <a:tbl>
              <a:tblPr/>
              <a:tblGrid>
                <a:gridCol w="4468680"/>
                <a:gridCol w="42451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озможные приемы  и мет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Bookman Old Styl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Что это значит для меня?»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Зачем мне это нужно?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активной работы с информацией. Если учащийся на первой фазе смог сформулировать свою личную цель в изучении материала, то на второй фазе он подчиняет работу этой цели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Bookman Old Styl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оды активного слушания, с остановкой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Bookman Old Styl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едение различных записей типа двойного дневника, бортового журнал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Bookman Old Styl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оиски ответов на поставленные в первой части занятия вопросы и т.д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69608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3 стадия «рефлексия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оотнесение старых и новых представл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Обобщение изученного матери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Определение направлений для дальнейшего изучения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49476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3 стадия «рефлексия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125360"/>
          <a:ext cx="8928000" cy="5376960"/>
        </p:xfrm>
        <a:graphic>
          <a:graphicData uri="http://schemas.openxmlformats.org/drawingml/2006/table">
            <a:tbl>
              <a:tblPr/>
              <a:tblGrid>
                <a:gridCol w="4680000"/>
                <a:gridCol w="4248000"/>
              </a:tblGrid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озможные приемы и мет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Bookman Old Styl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о систематизировать новый материа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ить направления для дальнейшего изучения темы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Заполнение кластеров; возврат к ключевым словам, верным и неверным утверждениям;   организация различных видов дискуссий; написание творческих работ (пятистишия – синквейны, эссе); исследования по отдельным вопросам темы и т.д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042920" y="1700280"/>
            <a:ext cx="770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атегии ТРКМ используемые на уроках музы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Слушание с остановкам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1360" y="1428840"/>
            <a:ext cx="8802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Кластер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2920" y="814320"/>
            <a:ext cx="889308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24000" y="833400"/>
            <a:ext cx="8351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кажи мне, и я забуд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Покажи мне и я запомню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Вовлеки меня, и я научус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тайская пословиц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СИНКВЕЙН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535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6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ечта. Р. Шу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6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вдивая, волн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6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вучит, играет, нрави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6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е нравится грустная му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6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08360" y="2635200"/>
            <a:ext cx="4535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1321560" indent="-132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ната (Соната №14 Л. Бетхов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21560" indent="-132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адушевная, трог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21560" indent="-132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вучит как мечта, манит за со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21560" indent="-132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етховен в ней выразил свои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21560" indent="-132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юбов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 Black"/>
              </a:rPr>
              <a:t>Приём  «Техника постановки вопросов» и «Взаимоопрос»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узыкальное произведение  Р.Шумана «Грёзы», работа в пар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ы составлены учениками 8-х класс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Твоё настроение когда прослушиваешь это произвед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Что чувствуешь когда слушаешь это произвед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 Какое чувство у вас вызывает эта мелод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Как бы ты назвал это произвед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.Эта музыка пробуждает в тебе какие-то эмоции?  Как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.Какое настроение у этой музыки? Музыка написана в миноре или в мажор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.Какой темп у этой музыки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.Какие чувства вызывает эта музык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9.С чем у вас ассоциируется эта музык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.Можите ли вы представить эту музыку на картинк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1.Какие инструменты присутствуют в музык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2.Как бы ты назвал это произведение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17440" y="0"/>
            <a:ext cx="86756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Прие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«Толстые и тонкие вопросы»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981080"/>
          <a:ext cx="8229600" cy="438156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12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Толсты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Тонки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яснит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очему Вы считаете 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чем различие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а что похож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то? Ч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гда? Мож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Буд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ог л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ерно л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огласны ли Вы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оложительные стороны технологии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буждает интерес к те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зволяет систематизировать имеющиеся у школьников 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Организует работу непосредственно с материалом и учит его обобщ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вышает самооценку у учащихся, развивает потребность в познании нов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Создает условия для вариативности и дифференциации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озволяет создать собственную индивидуальную технологию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Недостаток данной технолог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1520" y="2735280"/>
            <a:ext cx="7470720" cy="21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ехватка времени на уроке для прохождения всех трех стадий в обучении, что является непременным услов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19320" y="12679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им из ключевых направлений развития общего образования является создание как специальной системы поддержки сформировавшихся талантливых школьников, так 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й среды для проявления и развития способностей каждого ребенка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мулирования и выявления достижений одаренных ребя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«НАША НОВАЯ ШКОЛА»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ПРЕДПОСЫЛКИ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работы над ТРКМ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413000"/>
            <a:ext cx="76960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9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й спад интереса учащихся ко многим  темам  на уроках музыки лично в моем опыте преподавания, низкая познавательная активность учащихся на уроке, непонимание качественной (не только классической) музыки, отсутствие её целостного вос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льно-иллюстративная технология обучения предмету многих учителей, преподающих музыку в нашем райо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е положение преподавания предмета в нашем райо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ЦЕЛЬ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413000"/>
            <a:ext cx="76960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5040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учение учащихся добывать знания, умение анализировать, оценивать, выносить обоснованное сужден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5040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рабатывать собственное мнение по изучаемой проблеме и умения применять знание как в стандартной, так и нестандартной ситу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470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man Old Style"/>
              </a:rPr>
              <a:t>Задачи проекта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учить учащихся использовать основные методы (стратегии) критического мышления на уроках музы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Развивать умение находить проблемную ситуацию, планировать и анализировать собственную деятельность для её реш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Воспитывать навыки самостоятельной деятельности, сотрудничества в паре, группе, в классном коллектив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 Black"/>
              </a:rPr>
              <a:t>Планируемые результаты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484280"/>
            <a:ext cx="76960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изация мышления, повышение мотивации восприятия предмета «музыка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выражение учащихся, проявление себя, своих творческих способнос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уровня взаимоуважения,  взаимодействия, коммуникативных навы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50920" y="1197000"/>
          <a:ext cx="8713800" cy="5718240"/>
        </p:xfrm>
        <a:graphic>
          <a:graphicData uri="http://schemas.openxmlformats.org/drawingml/2006/table">
            <a:tbl>
              <a:tblPr/>
              <a:tblGrid>
                <a:gridCol w="293760"/>
                <a:gridCol w="6805440"/>
                <a:gridCol w="16146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направления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бор и анализ информации о системе ключевых компетенций данной технологии;  Входная диагности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-декабрь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набора ключевых компетенций  критического мышления применительно к предмету «музыка»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-декабрь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ение различных стратегий ТРКМ на уроках музык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2008-май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дрение системы мониторинга сформированности ключевых компетенций ТРК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-2010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бщение  опыта по применению ТРКМ на уроках музы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-май 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План работы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Содерж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технологии критического мышления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6:22Z</dcterms:created>
  <dc:creator>Таня</dc:creator>
  <dc:description/>
  <dc:language>en-US</dc:language>
  <cp:lastModifiedBy>Богдан Кулаков</cp:lastModifiedBy>
  <dcterms:modified xsi:type="dcterms:W3CDTF">2021-10-31T13:23:42Z</dcterms:modified>
  <cp:revision>54</cp:revision>
  <dc:subject/>
  <dc:title>Технология критического мышления</dc:title>
</cp:coreProperties>
</file>