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4.gif" ContentType="image/gif"/>
  <Override PartName="/ppt/media/image24.jpeg" ContentType="image/jpeg"/>
  <Override PartName="/ppt/media/image21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.gif" ContentType="image/gif"/>
  <Override PartName="/ppt/media/image25.png" ContentType="image/png"/>
  <Override PartName="/ppt/media/image36.png" ContentType="image/png"/>
  <Override PartName="/ppt/media/image37.png" ContentType="image/png"/>
  <Override PartName="/ppt/media/image48.jpeg" ContentType="image/jpeg"/>
  <Override PartName="/ppt/media/image43.png" ContentType="image/png"/>
  <Override PartName="/ppt/media/image50.gif" ContentType="image/gif"/>
  <Override PartName="/ppt/media/image33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7.gif" ContentType="image/gif"/>
  <Override PartName="/ppt/media/image30.jpeg" ContentType="image/jpeg"/>
  <Override PartName="/ppt/media/image31.jpeg" ContentType="image/jpeg"/>
  <Override PartName="/ppt/media/image41.png" ContentType="image/png"/>
  <Override PartName="/ppt/media/image32.jpeg" ContentType="image/jpeg"/>
  <Override PartName="/ppt/media/image5.jpeg" ContentType="image/jpeg"/>
  <Override PartName="/ppt/media/image49.jpeg" ContentType="image/jpeg"/>
  <Override PartName="/ppt/media/image44.png" ContentType="image/png"/>
  <Override PartName="/ppt/media/image13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F25-85E3-4275-862A-61097DDFC44A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30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30071D-1FC3-4665-BB5F-B3FE1FD0CA8E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D9E4-D082-492C-A814-7E997C992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C90-D53E-4256-A088-CA730F1BEEFE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FB72-8C83-4E77-BBD2-ECC351506B55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2D6-EB61-4CE0-BF2C-25F789BA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1BF-9C25-4A1D-8246-55D80DFC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2AB-B575-477D-AF69-77DCED5B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63F-F664-46DB-BC45-497F26D7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54F-96FE-42B2-B810-3063DFCE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08C-4D95-4E50-8C9B-6F83C8C3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A67-E7C6-4212-9547-4399544D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28B-14BB-4FFA-895C-7D2AB9FB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5F0-2C90-40B5-9F82-76EFBB0C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97D-8F4E-47BF-8ACD-A5B05B7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3D9-2F02-4D68-BA76-705D544B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8C6-ABB4-4479-8528-797B488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9E8-8B44-4B3E-AD12-417FF5EC33E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3CC-254C-431E-94E1-BFC6802BD42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" Target="slide3.xml"/><Relationship Id="rId6" Type="http://schemas.openxmlformats.org/officeDocument/2006/relationships/image" Target="../media/image22.jpe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" Target="slide3.xml"/><Relationship Id="rId12" Type="http://schemas.openxmlformats.org/officeDocument/2006/relationships/image" Target="../media/image9.gi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3.xml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" Target="slide3.xml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47.gif"/><Relationship Id="rId3" Type="http://schemas.openxmlformats.org/officeDocument/2006/relationships/image" Target="../media/image33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-marshak.ru/art/post/postcards02.jpg" TargetMode="External"/><Relationship Id="rId2" Type="http://schemas.openxmlformats.org/officeDocument/2006/relationships/hyperlink" Target="http://s-marshak.ru/photo/detstvo/detstvo01.jpg" TargetMode="External"/><Relationship Id="rId3" Type="http://schemas.openxmlformats.org/officeDocument/2006/relationships/hyperlink" Target="http://s-marshak.ru/photo/family/family03.jpg" TargetMode="External"/><Relationship Id="rId4" Type="http://schemas.openxmlformats.org/officeDocument/2006/relationships/hyperlink" Target="http://s-marshak.ru/photo/detstvo/detstvo08.jpg" TargetMode="External"/><Relationship Id="rId5" Type="http://schemas.openxmlformats.org/officeDocument/2006/relationships/hyperlink" Target="http://www.samisdat.com/picture/LJ/1250.JPG" TargetMode="External"/><Relationship Id="rId6" Type="http://schemas.openxmlformats.org/officeDocument/2006/relationships/hyperlink" Target="http://nkozlov.ru/upload/images/0703/0703271401490.jpg" TargetMode="External"/><Relationship Id="rId7" Type="http://schemas.openxmlformats.org/officeDocument/2006/relationships/hyperlink" Target="http://s017.radikal.ru/i432/1206/c5/498281628e71.jpg" TargetMode="External"/><Relationship Id="rId8" Type="http://schemas.openxmlformats.org/officeDocument/2006/relationships/hyperlink" Target="http://s-marshak.ru/photo/cemetery/cemetery02.jpg" TargetMode="External"/><Relationship Id="rId9" Type="http://schemas.openxmlformats.org/officeDocument/2006/relationships/hyperlink" Target="http://s-marshak.ru/photo/cemetery/cemetery02.jpg" TargetMode="External"/><Relationship Id="rId10" Type="http://schemas.openxmlformats.org/officeDocument/2006/relationships/hyperlink" Target="http://tiroir.ru/store/153-556-thickbox/ochki-skulgel.jpg" TargetMode="External"/><Relationship Id="rId11" Type="http://schemas.openxmlformats.org/officeDocument/2006/relationships/hyperlink" Target="http://technologys.info/images/stories/pilenije/shir%20nozhov.jpg" TargetMode="External"/><Relationship Id="rId12" Type="http://schemas.openxmlformats.org/officeDocument/2006/relationships/hyperlink" Target="http://demiart.ru/forum/uploads/post-4361-1187733794.jpg" TargetMode="External"/><Relationship Id="rId13" Type="http://schemas.openxmlformats.org/officeDocument/2006/relationships/hyperlink" Target="http://s-marshak.ru/books/v/v26/v26_01.jpg" TargetMode="External"/><Relationship Id="rId14" Type="http://schemas.openxmlformats.org/officeDocument/2006/relationships/hyperlink" Target="http://s-marshak.ru/books/u/u04/u04_01.jpg" TargetMode="External"/><Relationship Id="rId15" Type="http://schemas.openxmlformats.org/officeDocument/2006/relationships/hyperlink" Target="http://s-marshak.ru/books/b/b04/b04_01.jpg" TargetMode="External"/><Relationship Id="rId16" Type="http://schemas.openxmlformats.org/officeDocument/2006/relationships/hyperlink" Target="http://s-marshak.ru/books/d/d11/d11_01.jpg" TargetMode="External"/><Relationship Id="rId17" Type="http://schemas.openxmlformats.org/officeDocument/2006/relationships/hyperlink" Target="http://aptr.ru/studies/books/g/koshkin-dom-2.jpg" TargetMode="External"/><Relationship Id="rId18" Type="http://schemas.openxmlformats.org/officeDocument/2006/relationships/hyperlink" Target="http://akak.ru/steps/pictures/000/007/585_large.jpg" TargetMode="External"/><Relationship Id="rId19" Type="http://schemas.openxmlformats.org/officeDocument/2006/relationships/hyperlink" Target="http://jewelbox.ru/images/middle/kolca/zheltoe-zoloto/bez-vstavok/obruchalnoe-kolco-750-proba-iz-zheltogo-zolota-59371-0.jpg" TargetMode="External"/><Relationship Id="rId20" Type="http://schemas.openxmlformats.org/officeDocument/2006/relationships/hyperlink" Target="http://images01.olx.ru/ui/2/89/72/25278772_1.jpg" TargetMode="External"/><Relationship Id="rId21" Type="http://schemas.openxmlformats.org/officeDocument/2006/relationships/hyperlink" Target="http://kotostudio.ru/photogallery/siberiankitties/img-kotenok-iz-pitomnika-volzhskaya-krasa-6150.html" TargetMode="External"/><Relationship Id="rId22" Type="http://schemas.openxmlformats.org/officeDocument/2006/relationships/hyperlink" Target="http://irecommend.ru/sites/default/files/product-images/32253/t_2.jpg" TargetMode="External"/><Relationship Id="rId23" Type="http://schemas.openxmlformats.org/officeDocument/2006/relationships/hyperlink" Target="http://proxvost.info/photo/wild/lion/shanghai_zoo/lion.jpg" TargetMode="External"/><Relationship Id="rId24" Type="http://schemas.openxmlformats.org/officeDocument/2006/relationships/hyperlink" Target="http://fermer02.ru/uploads/posts/2009-05/1242120472_08.jpg" TargetMode="External"/><Relationship Id="rId25" Type="http://schemas.openxmlformats.org/officeDocument/2006/relationships/hyperlink" Target="http://wildkino.ru/uploads/posts/2010-04/1271266394_crocodile.jpg" TargetMode="External"/><Relationship Id="rId26" Type="http://schemas.openxmlformats.org/officeDocument/2006/relationships/hyperlink" Target="http://copypast.ru/uploads/posts/1252739043_post312502261828207.jpg" TargetMode="External"/><Relationship Id="rId27" Type="http://schemas.openxmlformats.org/officeDocument/2006/relationships/hyperlink" Target="http://birds-altay.ru/wp-content/uploads/2011/07/11-350x399.jpg" TargetMode="External"/><Relationship Id="rId28" Type="http://schemas.openxmlformats.org/officeDocument/2006/relationships/hyperlink" Target="http://img.beta.rian.ru/images/19473/01/194730100.jpg" TargetMode="External"/><Relationship Id="rId29" Type="http://schemas.openxmlformats.org/officeDocument/2006/relationships/hyperlink" Target="http://all-animals.ru/dikie/0_22fb7_c87a7895_XL.jpg" TargetMode="External"/><Relationship Id="rId30" Type="http://schemas.openxmlformats.org/officeDocument/2006/relationships/hyperlink" Target="http://floranimal.ru/pages/animal/m/59.jpg" TargetMode="External"/><Relationship Id="rId31" Type="http://schemas.openxmlformats.org/officeDocument/2006/relationships/hyperlink" Target="http://animaltime.ru/mammal/morz/morz_1.jpg" TargetMode="External"/><Relationship Id="rId32" Type="http://schemas.openxmlformats.org/officeDocument/2006/relationships/hyperlink" Target="http://namonitore.ru/uploads/catalog/dikie/stariy_slon_600.jpg" TargetMode="External"/><Relationship Id="rId33" Type="http://schemas.openxmlformats.org/officeDocument/2006/relationships/hyperlink" Target="http://luzan.ucoz.ru/load/animacionnye_kartinki_na_shkolnuju_tematiku/29-7-2" TargetMode="External"/><Relationship Id="rId34" Type="http://schemas.openxmlformats.org/officeDocument/2006/relationships/hyperlink" Target="http://gifmir.ucoz.ru/photo/deti_animashki/people072/47-0-2245" TargetMode="External"/><Relationship Id="rId35" Type="http://schemas.openxmlformats.org/officeDocument/2006/relationships/hyperlink" Target="http://remochka.livejournal.com/92390.html" TargetMode="External"/><Relationship Id="rId36" Type="http://schemas.openxmlformats.org/officeDocument/2006/relationships/hyperlink" Target="http://arhivknig.com/uploads/posts/2011-03/1300792522_marshak_450x450.jpg" TargetMode="External"/><Relationship Id="rId37" Type="http://schemas.openxmlformats.org/officeDocument/2006/relationships/hyperlink" Target="http://arhivknig.com/uploads/posts/2011-03/1300792522_marshak_450x450.jpg" TargetMode="External"/><Relationship Id="rId38" Type="http://schemas.openxmlformats.org/officeDocument/2006/relationships/hyperlink" Target="http://s-marshak.ru/autographs/nadpis/nadpis15_1.jpg" TargetMode="External"/><Relationship Id="rId39" Type="http://schemas.openxmlformats.org/officeDocument/2006/relationships/hyperlink" Target="http://luzan.ucoz.ru/load/animacionnye_kartinki_na_shkolnuju_tematiku/29-5-2" TargetMode="External"/><Relationship Id="rId40" Type="http://schemas.openxmlformats.org/officeDocument/2006/relationships/hyperlink" Target="http://gif-deti.ucoz.ru/photo/shkola_animashki/79966779/25-0-400" TargetMode="External"/><Relationship Id="rId41" Type="http://schemas.openxmlformats.org/officeDocument/2006/relationships/hyperlink" Target="http://gif-deti.ucoz.ru/photo/shkola_animashki/79966779/25-0-400" TargetMode="External"/><Relationship Id="rId42" Type="http://schemas.openxmlformats.org/officeDocument/2006/relationships/hyperlink" Target="http://gif-deti.ucoz.ru/photo/shkola_animashki/42/25-0-389" TargetMode="External"/><Relationship Id="rId43" Type="http://schemas.openxmlformats.org/officeDocument/2006/relationships/hyperlink" Target="http://gif-deti.ucoz.ru/photo/shkola_animashki/42/25-0-389" TargetMode="External"/><Relationship Id="rId4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ostyor.ru/poetry/poem72.html" TargetMode="External"/><Relationship Id="rId2" Type="http://schemas.openxmlformats.org/officeDocument/2006/relationships/hyperlink" Target="http://lib.ru/POEZIQ/MARSHAK/detskaya.txt" TargetMode="External"/><Relationship Id="rId3" Type="http://schemas.openxmlformats.org/officeDocument/2006/relationships/hyperlink" Target="http://allforchildren.ru/poetry/author2-marshak.php" TargetMode="External"/><Relationship Id="rId4" Type="http://schemas.openxmlformats.org/officeDocument/2006/relationships/hyperlink" Target="http://zanimatika.narod.ru/DetKniga1.htm" TargetMode="External"/><Relationship Id="rId5" Type="http://schemas.openxmlformats.org/officeDocument/2006/relationships/hyperlink" Target="http://babylib.ru/childrens-poems/samuil%20marshak/druzya-tovarishhi-samuil-marshak/" TargetMode="External"/><Relationship Id="rId6" Type="http://schemas.openxmlformats.org/officeDocument/2006/relationships/hyperlink" Target="http://babylib.ru/childrens-poems/samuil%20marshak/druzya-tovarishhi-samuil-marshak/" TargetMode="External"/><Relationship Id="rId7" Type="http://schemas.openxmlformats.org/officeDocument/2006/relationships/hyperlink" Target="http://babylib.ru/childrens-poems/samuil%20marshak/druzya-tovarishhi-samuil-marshak/" TargetMode="Externa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2.xml"/><Relationship Id="rId9" Type="http://schemas.openxmlformats.org/officeDocument/2006/relationships/slide" Target="slide18.xml"/><Relationship Id="rId10" Type="http://schemas.openxmlformats.org/officeDocument/2006/relationships/slide" Target="slide16.xml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" Target="slide3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Горизонтальный свиток 1"/>
          <p:cNvSpPr/>
          <p:nvPr/>
        </p:nvSpPr>
        <p:spPr>
          <a:xfrm>
            <a:off x="3403440" y="765000"/>
            <a:ext cx="5183280" cy="32403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03320" y="124416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ПУТЕШЕСТВИЕ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 гости к С.Я. Маршаку»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F5B2-6E1A-44D5-92A3-9FB27457CC8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7CFA-695B-4A19-9D76-6F14FDEF970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5491080" y="4875120"/>
            <a:ext cx="349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Алпацкая Ольга Семёновна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БОУ  Верхнеспасской СОШ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Рисунок 8" descr=""/>
          <p:cNvPicPr/>
          <p:nvPr/>
        </p:nvPicPr>
        <p:blipFill>
          <a:blip r:embed="rId1"/>
          <a:stretch/>
        </p:blipFill>
        <p:spPr>
          <a:xfrm>
            <a:off x="179280" y="2003400"/>
            <a:ext cx="2764080" cy="3532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4659480" y="263700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для начальных класс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B733-1558-4DC3-882F-BA5E05A373D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9777-6AA6-43E1-AEC6-03CBF02DDBA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93560" y="1413000"/>
            <a:ext cx="2384640" cy="1670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951360" y="1620720"/>
            <a:ext cx="1523880" cy="123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5364000" y="3794040"/>
            <a:ext cx="2275200" cy="17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1409760" y="3789360"/>
            <a:ext cx="2541600" cy="1693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853920" y="306864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чта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765160" y="308448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венадцать месяцев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09720" y="55306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т какой рассеянный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6715800" y="30830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агаж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99920" y="553248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сатый полосатый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Стрелка вправо 8">
            <a:hlinkClick r:id="rId5" action="ppaction://hlinksldjump"/>
          </p:cNvPr>
          <p:cNvSpPr/>
          <p:nvPr/>
        </p:nvSpPr>
        <p:spPr>
          <a:xfrm>
            <a:off x="7937640" y="5981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8" name="Picture 16" descr=""/>
          <p:cNvPicPr/>
          <p:nvPr/>
        </p:nvPicPr>
        <p:blipFill>
          <a:blip r:embed="rId6"/>
          <a:stretch/>
        </p:blipFill>
        <p:spPr>
          <a:xfrm>
            <a:off x="6365880" y="1433520"/>
            <a:ext cx="2201760" cy="16495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9"/>
          <p:cNvSpPr/>
          <p:nvPr/>
        </p:nvSpPr>
        <p:spPr>
          <a:xfrm>
            <a:off x="2154240" y="584280"/>
            <a:ext cx="51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Откуда предметы?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0" name="Рисунок 9" descr=""/>
          <p:cNvPicPr/>
          <p:nvPr/>
        </p:nvPicPr>
        <p:blipFill>
          <a:blip r:embed="rId7"/>
          <a:stretch/>
        </p:blipFill>
        <p:spPr>
          <a:xfrm>
            <a:off x="8191440" y="3398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Лишнее животное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87B8-BCAA-4A77-8509-EBB479E69D1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E704-E1F8-4FA0-9395-0F958D31D72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98520" y="1446120"/>
            <a:ext cx="1670040" cy="111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727360" y="1322280"/>
            <a:ext cx="11905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2486160" y="5016600"/>
            <a:ext cx="1746000" cy="1270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4"/>
          <a:stretch/>
        </p:blipFill>
        <p:spPr>
          <a:xfrm>
            <a:off x="4962600" y="5052960"/>
            <a:ext cx="1666800" cy="1249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5"/>
          <a:stretch/>
        </p:blipFill>
        <p:spPr>
          <a:xfrm>
            <a:off x="504720" y="3268800"/>
            <a:ext cx="1419480" cy="1617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6"/>
          <a:stretch/>
        </p:blipFill>
        <p:spPr>
          <a:xfrm>
            <a:off x="2411280" y="331488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7"/>
          <a:stretch/>
        </p:blipFill>
        <p:spPr>
          <a:xfrm>
            <a:off x="4788000" y="3287880"/>
            <a:ext cx="2009520" cy="146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8"/>
          <a:stretch/>
        </p:blipFill>
        <p:spPr>
          <a:xfrm>
            <a:off x="7451640" y="3241800"/>
            <a:ext cx="1297080" cy="166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9"/>
          <a:stretch/>
        </p:blipFill>
        <p:spPr>
          <a:xfrm>
            <a:off x="4694400" y="1490760"/>
            <a:ext cx="170640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10"/>
          <a:stretch/>
        </p:blipFill>
        <p:spPr>
          <a:xfrm>
            <a:off x="7072200" y="1409760"/>
            <a:ext cx="1676520" cy="1187280"/>
          </a:xfrm>
          <a:prstGeom prst="rect">
            <a:avLst/>
          </a:prstGeom>
          <a:ln w="0">
            <a:noFill/>
          </a:ln>
        </p:spPr>
      </p:pic>
      <p:sp>
        <p:nvSpPr>
          <p:cNvPr id="154" name="Стрелка вправо 4">
            <a:hlinkClick r:id="rId11" action="ppaction://hlinksldjump"/>
          </p:cNvPr>
          <p:cNvSpPr/>
          <p:nvPr/>
        </p:nvSpPr>
        <p:spPr>
          <a:xfrm>
            <a:off x="7910640" y="5818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2"/>
          <a:stretch/>
        </p:blipFill>
        <p:spPr>
          <a:xfrm>
            <a:off x="8078760" y="260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узыкальная пауза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3FD0-62FE-4156-B468-F293E1BC33C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35F2-8277-41DE-95EA-B926D23E0C6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9" name="dmt__quot_raduga_quot-shli__kuda_popalo_stihi_samuila_marshaka.mp3" descr=""/>
          <p:cNvPicPr/>
          <p:nvPr/>
        </p:nvPicPr>
        <p:blipFill>
          <a:blip r:embed="rId1"/>
          <a:stretch/>
        </p:blipFill>
        <p:spPr>
          <a:xfrm>
            <a:off x="468360" y="5556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"/>
          <p:cNvPicPr/>
          <p:nvPr/>
        </p:nvPicPr>
        <p:blipFill>
          <a:blip r:embed="rId2"/>
          <a:stretch/>
        </p:blipFill>
        <p:spPr>
          <a:xfrm>
            <a:off x="5254560" y="4524480"/>
            <a:ext cx="1857600" cy="12859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"/>
          <p:cNvPicPr/>
          <p:nvPr/>
        </p:nvPicPr>
        <p:blipFill>
          <a:blip r:embed="rId3"/>
          <a:stretch/>
        </p:blipFill>
        <p:spPr>
          <a:xfrm>
            <a:off x="1835280" y="2444760"/>
            <a:ext cx="1857240" cy="12859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"/>
          <p:cNvPicPr/>
          <p:nvPr/>
        </p:nvPicPr>
        <p:blipFill>
          <a:blip r:embed="rId4"/>
          <a:stretch/>
        </p:blipFill>
        <p:spPr>
          <a:xfrm>
            <a:off x="5219640" y="2444760"/>
            <a:ext cx="1857600" cy="12859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"/>
          <p:cNvPicPr/>
          <p:nvPr/>
        </p:nvPicPr>
        <p:blipFill>
          <a:blip r:embed="rId5"/>
          <a:stretch/>
        </p:blipFill>
        <p:spPr>
          <a:xfrm>
            <a:off x="1692360" y="4508640"/>
            <a:ext cx="1857240" cy="12855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9" descr=""/>
          <p:cNvPicPr/>
          <p:nvPr/>
        </p:nvPicPr>
        <p:blipFill>
          <a:blip r:embed="rId6"/>
          <a:stretch/>
        </p:blipFill>
        <p:spPr>
          <a:xfrm>
            <a:off x="4910040" y="1392120"/>
            <a:ext cx="3533760" cy="8575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0" descr=""/>
          <p:cNvPicPr/>
          <p:nvPr/>
        </p:nvPicPr>
        <p:blipFill>
          <a:blip r:embed="rId7"/>
          <a:stretch/>
        </p:blipFill>
        <p:spPr>
          <a:xfrm>
            <a:off x="611280" y="1373040"/>
            <a:ext cx="3533760" cy="857520"/>
          </a:xfrm>
          <a:prstGeom prst="rect">
            <a:avLst/>
          </a:prstGeom>
          <a:ln w="0">
            <a:noFill/>
          </a:ln>
        </p:spPr>
      </p:pic>
      <p:sp>
        <p:nvSpPr>
          <p:cNvPr id="166" name="Стрелка вправо 11">
            <a:hlinkClick r:id="rId8" action="ppaction://hlinksldjump"/>
          </p:cNvPr>
          <p:cNvSpPr/>
          <p:nvPr/>
        </p:nvSpPr>
        <p:spPr>
          <a:xfrm>
            <a:off x="8031240" y="592308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74579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Горизонтальный свиток 23"/>
          <p:cNvSpPr/>
          <p:nvPr/>
        </p:nvSpPr>
        <p:spPr>
          <a:xfrm>
            <a:off x="1908000" y="4443480"/>
            <a:ext cx="5384880" cy="7333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8" name="Picture 22" descr=""/>
          <p:cNvPicPr/>
          <p:nvPr/>
        </p:nvPicPr>
        <p:blipFill>
          <a:blip r:embed="rId1"/>
          <a:stretch/>
        </p:blipFill>
        <p:spPr>
          <a:xfrm>
            <a:off x="1908000" y="5253120"/>
            <a:ext cx="5384880" cy="896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Исправь ошибки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0B49-CFD4-4C62-972B-B73700EFB52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73F6-3C67-4884-94F2-0A3637289A0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Стрелка вправо 5">
            <a:hlinkClick r:id="rId2" action="ppaction://hlinksldjump"/>
          </p:cNvPr>
          <p:cNvSpPr/>
          <p:nvPr/>
        </p:nvSpPr>
        <p:spPr>
          <a:xfrm>
            <a:off x="7956720" y="590724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3323160" y="541188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шкин дом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1909800" y="4541760"/>
            <a:ext cx="51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ссказ об известном герое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Горизонтальный свиток 4"/>
          <p:cNvSpPr/>
          <p:nvPr/>
        </p:nvSpPr>
        <p:spPr>
          <a:xfrm>
            <a:off x="1908000" y="3522600"/>
            <a:ext cx="5424840" cy="8431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6" name="Picture 19" descr=""/>
          <p:cNvPicPr/>
          <p:nvPr/>
        </p:nvPicPr>
        <p:blipFill>
          <a:blip r:embed="rId3"/>
          <a:stretch/>
        </p:blipFill>
        <p:spPr>
          <a:xfrm>
            <a:off x="1908000" y="2708280"/>
            <a:ext cx="5424840" cy="814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"/>
          <p:cNvPicPr/>
          <p:nvPr/>
        </p:nvPicPr>
        <p:blipFill>
          <a:blip r:embed="rId4"/>
          <a:stretch/>
        </p:blipFill>
        <p:spPr>
          <a:xfrm>
            <a:off x="1908000" y="1889280"/>
            <a:ext cx="5424840" cy="81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"/>
          <p:cNvPicPr/>
          <p:nvPr/>
        </p:nvPicPr>
        <p:blipFill>
          <a:blip r:embed="rId5"/>
          <a:stretch/>
        </p:blipFill>
        <p:spPr>
          <a:xfrm>
            <a:off x="1908000" y="1125360"/>
            <a:ext cx="5424840" cy="7639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2975760" y="124632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ки в зоопарке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641680" y="20383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надцать  месяцев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3035160" y="368316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рок грубости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2643120" y="285120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куда стул пришёл?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4500720" y="1246320"/>
            <a:ext cx="1501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етк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2917800" y="2038320"/>
            <a:ext cx="20937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венадцать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4096800" y="2854440"/>
            <a:ext cx="889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о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 flipH="1">
            <a:off x="4207680" y="3683160"/>
            <a:ext cx="238932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ежливости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3708360" y="4548240"/>
            <a:ext cx="352764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известном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рое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TextBox 14"/>
          <p:cNvSpPr/>
          <p:nvPr/>
        </p:nvSpPr>
        <p:spPr>
          <a:xfrm>
            <a:off x="3564000" y="5415120"/>
            <a:ext cx="15843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шкин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9" name="Рисунок 1" descr=""/>
          <p:cNvPicPr/>
          <p:nvPr/>
        </p:nvPicPr>
        <p:blipFill>
          <a:blip r:embed="rId6"/>
          <a:stretch/>
        </p:blipFill>
        <p:spPr>
          <a:xfrm>
            <a:off x="8101080" y="3110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Реши кроссворд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D56E-9035-4F41-A63D-AAA5A756630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410E-6C09-4961-B9CB-E3814E73747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771640" y="1557360"/>
          <a:ext cx="3095640" cy="731880"/>
        </p:xfrm>
        <a:graphic>
          <a:graphicData uri="http://schemas.openxmlformats.org/drawingml/2006/table">
            <a:tbl>
              <a:tblPr/>
              <a:tblGrid>
                <a:gridCol w="773280"/>
                <a:gridCol w="774720"/>
                <a:gridCol w="772920"/>
                <a:gridCol w="774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58920" y="378936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39640" y="4508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36560"/>
                <a:gridCol w="7844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843280" y="5300640"/>
          <a:ext cx="4537080" cy="738360"/>
        </p:xfrm>
        <a:graphic>
          <a:graphicData uri="http://schemas.openxmlformats.org/drawingml/2006/table">
            <a:tbl>
              <a:tblPr/>
              <a:tblGrid>
                <a:gridCol w="760320"/>
                <a:gridCol w="760320"/>
                <a:gridCol w="760680"/>
                <a:gridCol w="736560"/>
                <a:gridCol w="739800"/>
                <a:gridCol w="779400"/>
              </a:tblGrid>
              <a:tr h="7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771640" y="1557360"/>
          <a:ext cx="3095640" cy="731880"/>
        </p:xfrm>
        <a:graphic>
          <a:graphicData uri="http://schemas.openxmlformats.org/drawingml/2006/table">
            <a:tbl>
              <a:tblPr/>
              <a:tblGrid>
                <a:gridCol w="773280"/>
                <a:gridCol w="774720"/>
                <a:gridCol w="772920"/>
                <a:gridCol w="774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050920" y="2276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60680"/>
                <a:gridCol w="7603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050920" y="2276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60680"/>
                <a:gridCol w="7603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258920" y="378936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58920" y="306864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258920" y="306864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843280" y="5300640"/>
          <a:ext cx="4537080" cy="739800"/>
        </p:xfrm>
        <a:graphic>
          <a:graphicData uri="http://schemas.openxmlformats.org/drawingml/2006/table">
            <a:tbl>
              <a:tblPr/>
              <a:tblGrid>
                <a:gridCol w="768240"/>
                <a:gridCol w="768240"/>
                <a:gridCol w="768600"/>
                <a:gridCol w="742680"/>
                <a:gridCol w="709920"/>
                <a:gridCol w="77940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39640" y="4508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36560"/>
                <a:gridCol w="7844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05" name="TextBox 6"/>
          <p:cNvSpPr/>
          <p:nvPr/>
        </p:nvSpPr>
        <p:spPr>
          <a:xfrm>
            <a:off x="2293920" y="15825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1631880" y="24033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770040" y="3068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770040" y="38149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TextBox 26"/>
          <p:cNvSpPr/>
          <p:nvPr/>
        </p:nvSpPr>
        <p:spPr>
          <a:xfrm>
            <a:off x="93600" y="4508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0" name="TextBox 27"/>
          <p:cNvSpPr/>
          <p:nvPr/>
        </p:nvSpPr>
        <p:spPr>
          <a:xfrm>
            <a:off x="2403720" y="5300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Стрелка вправо 29">
            <a:hlinkClick r:id="rId1" action="ppaction://hlinksldjump"/>
          </p:cNvPr>
          <p:cNvSpPr/>
          <p:nvPr/>
        </p:nvSpPr>
        <p:spPr>
          <a:xfrm>
            <a:off x="7956720" y="58244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771640" y="1569960"/>
          <a:ext cx="863640" cy="445140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213" name="Рисунок 4" descr=""/>
          <p:cNvPicPr/>
          <p:nvPr/>
        </p:nvPicPr>
        <p:blipFill>
          <a:blip r:embed="rId2"/>
          <a:stretch/>
        </p:blipFill>
        <p:spPr>
          <a:xfrm>
            <a:off x="8101080" y="404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Вспомни сказк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3B75-51D5-448A-B8B5-207A87D6806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79D5-0A07-440C-8640-23041F81EFA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1563480" cy="2066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2627280" y="1420920"/>
            <a:ext cx="1513080" cy="2050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4788000" y="1420920"/>
            <a:ext cx="1566720" cy="2050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7000920" y="1450800"/>
            <a:ext cx="1508040" cy="2021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5"/>
          <a:stretch/>
        </p:blipFill>
        <p:spPr>
          <a:xfrm>
            <a:off x="482760" y="3922560"/>
            <a:ext cx="1549080" cy="203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/>
          <p:cNvPicPr/>
          <p:nvPr/>
        </p:nvPicPr>
        <p:blipFill>
          <a:blip r:embed="rId6"/>
          <a:stretch/>
        </p:blipFill>
        <p:spPr>
          <a:xfrm>
            <a:off x="2627280" y="3956040"/>
            <a:ext cx="1513080" cy="2005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7"/>
          <a:stretch/>
        </p:blipFill>
        <p:spPr>
          <a:xfrm>
            <a:off x="4842000" y="3900600"/>
            <a:ext cx="1512720" cy="2023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8"/>
          <a:stretch/>
        </p:blipFill>
        <p:spPr>
          <a:xfrm>
            <a:off x="7013520" y="3900600"/>
            <a:ext cx="1517760" cy="1995480"/>
          </a:xfrm>
          <a:prstGeom prst="rect">
            <a:avLst/>
          </a:prstGeom>
          <a:ln w="0">
            <a:noFill/>
          </a:ln>
        </p:spPr>
      </p:pic>
      <p:sp>
        <p:nvSpPr>
          <p:cNvPr id="225" name="Стрелка вправо 1">
            <a:hlinkClick r:id="rId9" action="ppaction://hlinksldjump"/>
          </p:cNvPr>
          <p:cNvSpPr/>
          <p:nvPr/>
        </p:nvSpPr>
        <p:spPr>
          <a:xfrm>
            <a:off x="8020080" y="596736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6" name="Рисунок 4" descr=""/>
          <p:cNvPicPr/>
          <p:nvPr/>
        </p:nvPicPr>
        <p:blipFill>
          <a:blip r:embed="rId10"/>
          <a:stretch/>
        </p:blipFill>
        <p:spPr>
          <a:xfrm>
            <a:off x="8177040" y="333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Вертикальный свиток 4"/>
          <p:cNvSpPr/>
          <p:nvPr/>
        </p:nvSpPr>
        <p:spPr>
          <a:xfrm>
            <a:off x="934920" y="1349280"/>
            <a:ext cx="6697800" cy="41036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Доскажи словечко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607D-4D84-493A-8497-A36D1CEB3E4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85F4-5322-478E-9C50-AF6015BC057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1547640" y="1844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тучится в дверь ко мне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лстой сумкой на _____ 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1547640" y="280512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цифрой 5 на медной бляшке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иней форменной_________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1563840" y="3745080"/>
            <a:ext cx="51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н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н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инградский___________ 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5010840" y="226548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мн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4932720" y="322092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ражк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4366080" y="45435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чтальон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Прямоугольник 10"/>
          <p:cNvSpPr/>
          <p:nvPr/>
        </p:nvSpPr>
        <p:spPr>
          <a:xfrm>
            <a:off x="6090120" y="576432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чта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8028000" y="396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Доскажи словечко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B56-03A2-413E-9BA0-774FB8ADA5B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5E27-6226-4CEF-8012-CDA5717027E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33560" y="1351080"/>
            <a:ext cx="6764400" cy="4133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1763640" y="184788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ткрыла дверцу Лена -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кочил огонь с ______ 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4721400" y="227664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лена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793880" y="27147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 печкой выжег пол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ез по скатерти на ____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1820880" y="358776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жал по стульям с треском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рх пополз по ___________ 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1824120" y="45036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ны дымом заволок,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жет пол и ________ 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Прямоугольник 10"/>
          <p:cNvSpPr/>
          <p:nvPr/>
        </p:nvSpPr>
        <p:spPr>
          <a:xfrm>
            <a:off x="5138280" y="31449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о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Прямоугольник 11"/>
          <p:cNvSpPr/>
          <p:nvPr/>
        </p:nvSpPr>
        <p:spPr>
          <a:xfrm>
            <a:off x="4726800" y="40068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навескам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Прямоугольник 12"/>
          <p:cNvSpPr/>
          <p:nvPr/>
        </p:nvSpPr>
        <p:spPr>
          <a:xfrm>
            <a:off x="4044600" y="493380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толок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5799960" y="58770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жар»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Стрелка вправо 14">
            <a:hlinkClick r:id="rId2" action="ppaction://hlinksldjump"/>
          </p:cNvPr>
          <p:cNvSpPr/>
          <p:nvPr/>
        </p:nvSpPr>
        <p:spPr>
          <a:xfrm>
            <a:off x="7956720" y="594360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53" name="Рисунок 1" descr=""/>
          <p:cNvPicPr/>
          <p:nvPr/>
        </p:nvPicPr>
        <p:blipFill>
          <a:blip r:embed="rId3"/>
          <a:stretch/>
        </p:blipFill>
        <p:spPr>
          <a:xfrm>
            <a:off x="8007480" y="39852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0440" y="3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Прощальна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4C77-D36E-42D1-B9E0-A7C5BB57D7D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C5D5-B5BF-4FD8-8BC5-EAE20758C7D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57" name="Рисунок 4" descr=""/>
          <p:cNvPicPr/>
          <p:nvPr/>
        </p:nvPicPr>
        <p:blipFill>
          <a:blip r:embed="rId1"/>
          <a:stretch/>
        </p:blipFill>
        <p:spPr>
          <a:xfrm>
            <a:off x="7932600" y="465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"/>
          <p:cNvPicPr/>
          <p:nvPr/>
        </p:nvPicPr>
        <p:blipFill>
          <a:blip r:embed="rId2"/>
          <a:stretch/>
        </p:blipFill>
        <p:spPr>
          <a:xfrm>
            <a:off x="6041880" y="2836800"/>
            <a:ext cx="1305000" cy="1238400"/>
          </a:xfrm>
          <a:prstGeom prst="rect">
            <a:avLst/>
          </a:prstGeom>
          <a:ln w="0">
            <a:noFill/>
          </a:ln>
        </p:spPr>
      </p:pic>
      <p:pic>
        <p:nvPicPr>
          <p:cNvPr id="259" name="detskie_-_pesenka_mamontenka Minusovki.MpTri.Net.mp3" descr=""/>
          <p:cNvPicPr/>
          <p:nvPr/>
        </p:nvPicPr>
        <p:blipFill>
          <a:blip r:embed="rId3"/>
          <a:stretch/>
        </p:blipFill>
        <p:spPr>
          <a:xfrm>
            <a:off x="7323120" y="524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AutoShape 15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63" name="Рисунок 6" descr=""/>
          <p:cNvPicPr/>
          <p:nvPr/>
        </p:nvPicPr>
        <p:blipFill>
          <a:blip r:embed="rId4"/>
          <a:stretch/>
        </p:blipFill>
        <p:spPr>
          <a:xfrm>
            <a:off x="971640" y="1663560"/>
            <a:ext cx="35827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Горизонтальный свиток 5"/>
          <p:cNvSpPr/>
          <p:nvPr/>
        </p:nvSpPr>
        <p:spPr>
          <a:xfrm>
            <a:off x="4114800" y="1844640"/>
            <a:ext cx="5003640" cy="312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14800" y="2435400"/>
            <a:ext cx="534672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Любите Маршака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сь у него!»                               А.М. Горький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B772-7B9F-4A15-B0D6-536048DCBCC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7F8B-9FE5-4470-8A85-4A94465D851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68" name="Рисунок 5" descr=""/>
          <p:cNvPicPr/>
          <p:nvPr/>
        </p:nvPicPr>
        <p:blipFill>
          <a:blip r:embed="rId1"/>
          <a:stretch/>
        </p:blipFill>
        <p:spPr>
          <a:xfrm>
            <a:off x="7451640" y="466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http://s-marshak.ru/autographs/nadpis/nadpis15_1.jpg"/>
          <p:cNvPicPr/>
          <p:nvPr/>
        </p:nvPicPr>
        <p:blipFill>
          <a:blip r:embed="rId2"/>
          <a:stretch/>
        </p:blipFill>
        <p:spPr>
          <a:xfrm>
            <a:off x="108000" y="1197000"/>
            <a:ext cx="369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4500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С. Я. Маршак (1887 – 1964)</a:t>
            </a:r>
            <a:br>
              <a:rPr sz="4000"/>
            </a:b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130 лет со дня рождени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6" name="Picture 2" descr="H:\Documents and Settings\Aida\Рабочий стол\клипарты рамки фончики\kniga39.gif"/>
          <p:cNvPicPr/>
          <p:nvPr/>
        </p:nvPicPr>
        <p:blipFill>
          <a:blip r:embed="rId1"/>
          <a:stretch/>
        </p:blipFill>
        <p:spPr>
          <a:xfrm>
            <a:off x="2859120" y="1341360"/>
            <a:ext cx="3384360" cy="32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s-marshak.ru/photo/detstvo/detstvo08.jpg"/>
          <p:cNvPicPr/>
          <p:nvPr/>
        </p:nvPicPr>
        <p:blipFill>
          <a:blip r:embed="rId2"/>
          <a:stretch/>
        </p:blipFill>
        <p:spPr>
          <a:xfrm>
            <a:off x="2714760" y="1285920"/>
            <a:ext cx="3382920" cy="40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http://www.samisdat.com/picture/LJ/1250.JPG"/>
          <p:cNvPicPr/>
          <p:nvPr/>
        </p:nvPicPr>
        <p:blipFill>
          <a:blip r:embed="rId3"/>
          <a:stretch/>
        </p:blipFill>
        <p:spPr>
          <a:xfrm>
            <a:off x="2357280" y="1285920"/>
            <a:ext cx="4392720" cy="398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http://nkozlov.ru/upload/images/0703/0703271401490.jpg"/>
          <p:cNvPicPr/>
          <p:nvPr/>
        </p:nvPicPr>
        <p:blipFill>
          <a:blip r:embed="rId4"/>
          <a:stretch/>
        </p:blipFill>
        <p:spPr>
          <a:xfrm>
            <a:off x="2286000" y="1357200"/>
            <a:ext cx="4808520" cy="397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Татьяна\Рабочий стол\86206084.jpg"/>
          <p:cNvPicPr/>
          <p:nvPr/>
        </p:nvPicPr>
        <p:blipFill>
          <a:blip r:embed="rId5"/>
          <a:stretch/>
        </p:blipFill>
        <p:spPr>
          <a:xfrm>
            <a:off x="1857240" y="1285920"/>
            <a:ext cx="5384880" cy="39765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6"/>
          <a:stretch/>
        </p:blipFill>
        <p:spPr>
          <a:xfrm>
            <a:off x="1785960" y="428760"/>
            <a:ext cx="5384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ОЛОДЦЫ!!!</a:t>
            </a:r>
            <a:endParaRPr b="0" lang="en-US" sz="6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271" name="Рисунок 2" descr=""/>
          <p:cNvPicPr/>
          <p:nvPr/>
        </p:nvPicPr>
        <p:blipFill>
          <a:blip r:embed="rId1"/>
          <a:stretch/>
        </p:blipFill>
        <p:spPr>
          <a:xfrm>
            <a:off x="3995640" y="2824200"/>
            <a:ext cx="1838520" cy="28573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"/>
          <p:cNvPicPr/>
          <p:nvPr/>
        </p:nvPicPr>
        <p:blipFill>
          <a:blip r:embed="rId2"/>
          <a:stretch/>
        </p:blipFill>
        <p:spPr>
          <a:xfrm rot="571200">
            <a:off x="5563800" y="2676600"/>
            <a:ext cx="3533760" cy="8571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"/>
          <p:cNvPicPr/>
          <p:nvPr/>
        </p:nvPicPr>
        <p:blipFill>
          <a:blip r:embed="rId3"/>
          <a:stretch/>
        </p:blipFill>
        <p:spPr>
          <a:xfrm rot="20790600">
            <a:off x="519120" y="2676600"/>
            <a:ext cx="3533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Источники иллюстраци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0560" y="1052280"/>
            <a:ext cx="8507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s-marshak.ru/art/post/postcards02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Маршака на 1 слайде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-marshak.ru/photo/detstvo/detstvo01.jpg</a:t>
            </a:r>
            <a:r>
              <a:rPr b="0" lang="ru-RU" sz="7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фото Маршака в детстве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s-marshak.ru/photo/family/family03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отца Маршак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-marshak.ru/photo/detstvo/detstvo08.jpg</a:t>
            </a:r>
            <a:r>
              <a:rPr b="0" lang="ru-RU" sz="7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фото Маршака в юност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samisdat.com/picture/LJ/1250.JPG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 фото на даче со Стасовым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nkozlov.ru/upload/images/0703/070327140149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с Горьким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s017.radikal.ru/i432/1206/c5/498281628e7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Маршака с читателям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</a:t>
            </a: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s-marshak.ru/photo/cemetery/cemetery02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- фото памятника  Маршаку на могиле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tiroir.ru/store/153-556-thickbox/ochki-skulgel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очк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technologys.info/images/stories/pilenije/shir%20nozhov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– картинка пил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demiart.ru/forum/uploads/post-4361-1187733794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мяч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s-marshak.ru/books/v/v26/v26_0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Вот какой рассеянный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s-marshak.ru/books/u/u04/u04_0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Усатый полосатый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http://s-marshak.ru/books/b/b04/b04_0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Багаж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s-marshak.ru/books/d/d11/d11_0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Двенадцать месяцев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http://aptr.ru/studies/books/g/koshkin-dom-2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обложка книги «Кошкин дом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/>
              </a:rPr>
              <a:t>http://akak.ru/steps/pictures/000/007/585_large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конверт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9"/>
              </a:rPr>
              <a:t>http://jewelbox.ru/images/middle/kolca/zheltoe-zoloto/bez-vstavok/obruchalnoe-kolco-750-proba-iz-zheltogo-zolota-59371-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кольцо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/>
              </a:rPr>
              <a:t>http://images01.olx.ru/ui/2/89/72/25278772_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собачонк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1"/>
              </a:rPr>
              <a:t>http://kotostudio.ru/photogallery/siberiankitties/img-kotenok-iz-pitomnika-volzhskaya-krasa-6150.html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котёнок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/>
              </a:rPr>
              <a:t>http://irecommend.ru/sites/default/files/product-images/32253/t_2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сковород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3"/>
              </a:rPr>
              <a:t>http://proxvost.info/photo/wild/lion/shanghai_zoo/lion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лев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4"/>
              </a:rPr>
              <a:t>http://fermer02.ru/uploads/posts/2009-05/1242120472_08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лисиц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5"/>
              </a:rPr>
              <a:t>http://wildkino.ru/uploads/posts/2010-04/1271266394_crocodile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крокоди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6"/>
              </a:rPr>
              <a:t>http://copypast.ru/uploads/posts/1252739043_post312502261828207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- фото волк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7"/>
              </a:rPr>
              <a:t>http://birds-altay.ru/wp-content/uploads/2011/07/11-350x399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журавль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8"/>
              </a:rPr>
              <a:t>http://img.beta.rian.ru/images/19473/01/19473010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носорог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9"/>
              </a:rPr>
              <a:t>http://all-animals.ru/dikie/0_22fb7_c87a7895_XL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кенгуру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0"/>
              </a:rPr>
              <a:t>http://floranimal.ru/pages/animal/m/59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медведь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1"/>
              </a:rPr>
              <a:t>http://animaltime.ru/mammal/morz/morz_1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морж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2"/>
              </a:rPr>
              <a:t>http://namonitore.ru/uploads/catalog/dikie/stariy_slon_60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фото слон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3"/>
              </a:rPr>
              <a:t>http://luzan.ucoz.ru/load/animacionnye_kartinki_na_shkolnuju_tematiku/29-7-2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анимация флажк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4"/>
              </a:rPr>
              <a:t>http://gifmir.ucoz.ru/photo/deti_animashki/people072/47-0-2245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анимация дети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5"/>
              </a:rPr>
              <a:t>http://remochka.livejournal.com/92390.html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иллюстрации к «Сказке о глупом мышонке»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6"/>
              </a:rPr>
              <a:t>http://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7"/>
              </a:rPr>
              <a:t>arhivknig.com/uploads/posts/2011-03/1300792522_marshak_450x450.jpg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картинка книги Маршак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8"/>
              </a:rPr>
              <a:t>http://s-marshak.ru/autographs/nadpis/nadpis15_1.jpg</a:t>
            </a:r>
            <a:r>
              <a:rPr b="0" lang="ru-RU" sz="7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фото Маршака на 19 слайде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9"/>
              </a:rPr>
              <a:t>http://luzan.ucoz.ru/load/animacionnye_kartinki_na_shkolnuju_tematiku/29-5-2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анимация спасибо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0"/>
              </a:rPr>
              <a:t>http://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1"/>
              </a:rPr>
              <a:t>gif-deti.ucoz.ru/photo/shkola_animashki/79966779/25-0-400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анимация читает книгу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spcBef>
                <a:spcPts val="176"/>
              </a:spcBef>
              <a:buClr>
                <a:srgbClr val="800000"/>
              </a:buClr>
              <a:buFont typeface="Calibri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42"/>
              </a:rPr>
              <a:t>http://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43"/>
              </a:rPr>
              <a:t>gif-deti.ucoz.ru/photo/shkola_animashki/42/25-0-389</a:t>
            </a:r>
            <a:r>
              <a:rPr b="0" lang="ru-RU" sz="800" spc="-1" strike="noStrike">
                <a:solidFill>
                  <a:srgbClr val="800000"/>
                </a:solidFill>
                <a:latin typeface="Calibri"/>
              </a:rPr>
              <a:t> - </a:t>
            </a:r>
            <a:r>
              <a:rPr b="0" lang="ru-RU" sz="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имация книга</a:t>
            </a: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76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4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24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2265-1BF0-4086-BEB9-E75D9A01A7E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7B5A-E9A7-4CDE-8784-633E1756D9D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Источники текстовой информации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kostyor.ru/poetry/poem72.html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загадки Маршака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ib.ru/POEZIQ/MARSHAK/detskaya.txt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произведения Маршака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allforchildren.ru/poetry/author2-marshak.php</a:t>
            </a:r>
            <a:r>
              <a:rPr b="0" lang="ru-RU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-   биография С.Я. Маршака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zanimatika.narod.ru/DetKniga1.htm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текст «Песни про книги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babylib.ru/childrens-poems/samuil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arshak/druzya-tovarishhi-samuil-marshak/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текст песни «Шли куда попало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ttp://zanimatika.narod.ru/DetKniga.htm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текст стихотворения С. Михалкова «Как бы жили мы без книг»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A38-0A8A-4EC4-B7B2-254FCB58C02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59F9-3A78-42F5-B9A0-6967176DC48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Источники  </a:t>
            </a:r>
            <a:r>
              <a:rPr b="1" lang="en-US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mp3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p3prima.com/mp3poisk/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ихи маршака  - песенка «Шли куда попало»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http://minusovki.mptri.net/pages/56/5609.shtml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минусовка «Песенка мамонтёнка»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FF09-8EE5-411A-986E-B1A41A6DDEB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F995-D9EA-437A-B9FE-4F0D3DEF67C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аршрутный лист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9E43-8363-4D4F-8DE3-BA17C6B86A6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17C5-DB98-4CDB-9B24-04EACBEDF95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Горизонтальный свиток 5"/>
          <p:cNvSpPr/>
          <p:nvPr/>
        </p:nvSpPr>
        <p:spPr>
          <a:xfrm>
            <a:off x="325440" y="1332000"/>
            <a:ext cx="302436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Загадки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Горизонтальный свиток 21"/>
          <p:cNvSpPr/>
          <p:nvPr/>
        </p:nvSpPr>
        <p:spPr>
          <a:xfrm>
            <a:off x="4140360" y="1278000"/>
            <a:ext cx="460836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Угадай произведени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Горизонтальный свиток 22"/>
          <p:cNvSpPr/>
          <p:nvPr/>
        </p:nvSpPr>
        <p:spPr>
          <a:xfrm>
            <a:off x="303120" y="2276640"/>
            <a:ext cx="345600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Откуда предметы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Горизонтальный свиток 23"/>
          <p:cNvSpPr/>
          <p:nvPr/>
        </p:nvSpPr>
        <p:spPr>
          <a:xfrm>
            <a:off x="5003640" y="2276640"/>
            <a:ext cx="374508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Лишнее животно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Горизонтальный свиток 24"/>
          <p:cNvSpPr/>
          <p:nvPr/>
        </p:nvSpPr>
        <p:spPr>
          <a:xfrm>
            <a:off x="5695920" y="4359240"/>
            <a:ext cx="302436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Вспомни сказку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Горизонтальный свиток 25"/>
          <p:cNvSpPr/>
          <p:nvPr/>
        </p:nvSpPr>
        <p:spPr>
          <a:xfrm>
            <a:off x="366840" y="4292640"/>
            <a:ext cx="3024000" cy="6490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Реши кроссворд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Горизонтальный свиток 26"/>
          <p:cNvSpPr/>
          <p:nvPr/>
        </p:nvSpPr>
        <p:spPr>
          <a:xfrm>
            <a:off x="4917960" y="3284640"/>
            <a:ext cx="3802320" cy="6490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Исправь ошибки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Горизонтальный свиток 27"/>
          <p:cNvSpPr/>
          <p:nvPr/>
        </p:nvSpPr>
        <p:spPr>
          <a:xfrm>
            <a:off x="344520" y="3284640"/>
            <a:ext cx="3760920" cy="6490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Музыкальная пауза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Горизонтальный свиток 28"/>
          <p:cNvSpPr/>
          <p:nvPr/>
        </p:nvSpPr>
        <p:spPr>
          <a:xfrm>
            <a:off x="5705640" y="5300640"/>
            <a:ext cx="3024000" cy="6494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Прощальная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Горизонтальный свиток 29"/>
          <p:cNvSpPr/>
          <p:nvPr/>
        </p:nvSpPr>
        <p:spPr>
          <a:xfrm>
            <a:off x="366840" y="5270400"/>
            <a:ext cx="3671640" cy="6476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Доскажи словечко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1"/>
          <a:stretch/>
        </p:blipFill>
        <p:spPr>
          <a:xfrm>
            <a:off x="8028000" y="32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085A-7A5B-407F-B41B-4D802E01E48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FE57-35F1-46DF-9F58-56A957B7745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4428720" y="177336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ки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257880" y="1397160"/>
            <a:ext cx="1273320" cy="12729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8"/>
          <p:cNvSpPr/>
          <p:nvPr/>
        </p:nvSpPr>
        <p:spPr>
          <a:xfrm>
            <a:off x="3937680" y="33703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ла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5403960" y="3011400"/>
            <a:ext cx="3259080" cy="1241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5857920" y="4438800"/>
            <a:ext cx="1673280" cy="17650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0"/>
          <p:cNvSpPr/>
          <p:nvPr/>
        </p:nvSpPr>
        <p:spPr>
          <a:xfrm>
            <a:off x="4380120" y="505944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яч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359520" y="488880"/>
            <a:ext cx="20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Стрелка вправо 13">
            <a:hlinkClick r:id="rId4" action="ppaction://hlinksldjump"/>
          </p:cNvPr>
          <p:cNvSpPr/>
          <p:nvPr/>
        </p:nvSpPr>
        <p:spPr>
          <a:xfrm>
            <a:off x="7885080" y="5680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Горизонтальный свиток 17"/>
          <p:cNvSpPr/>
          <p:nvPr/>
        </p:nvSpPr>
        <p:spPr>
          <a:xfrm>
            <a:off x="127080" y="1058760"/>
            <a:ext cx="3612960" cy="18255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Что такое перед нами: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е оглобли за  ушами,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лазах по колесу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дёлка на носу?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Горизонтальный свиток 19"/>
          <p:cNvSpPr/>
          <p:nvPr/>
        </p:nvSpPr>
        <p:spPr>
          <a:xfrm>
            <a:off x="127080" y="2878200"/>
            <a:ext cx="3612960" cy="1808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Принялась она за дело,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зжада и запел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а, ела дуб, дуб,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мала зуб, зуб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Горизонтальный свиток 20"/>
          <p:cNvSpPr/>
          <p:nvPr/>
        </p:nvSpPr>
        <p:spPr>
          <a:xfrm>
            <a:off x="127080" y="4691160"/>
            <a:ext cx="3803400" cy="18334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Бьют его рукой и палкой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му его не жалко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что беднягу бьют?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то, что он надут!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5"/>
          <a:stretch/>
        </p:blipFill>
        <p:spPr>
          <a:xfrm>
            <a:off x="810108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Вертикальный свиток 1"/>
          <p:cNvSpPr/>
          <p:nvPr/>
        </p:nvSpPr>
        <p:spPr>
          <a:xfrm>
            <a:off x="119160" y="1628640"/>
            <a:ext cx="5389560" cy="3600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48800" y="2035080"/>
            <a:ext cx="4619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 он утром на кровать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рубашку надевать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кава просунул руки -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это брюки…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о шляпы на ходу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дел сковород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6D70-69FA-4799-A273-B017BA13F22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B98A-11EB-4CD4-A4BE-60187EDE7ED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324240" cy="4286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1981800" y="63324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Рисунок 5" descr=""/>
          <p:cNvPicPr/>
          <p:nvPr/>
        </p:nvPicPr>
        <p:blipFill>
          <a:blip r:embed="rId2"/>
          <a:stretch/>
        </p:blipFill>
        <p:spPr>
          <a:xfrm>
            <a:off x="8101080" y="3729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Вертикальный свиток 1"/>
          <p:cNvSpPr/>
          <p:nvPr/>
        </p:nvSpPr>
        <p:spPr>
          <a:xfrm>
            <a:off x="28440" y="1174680"/>
            <a:ext cx="5459400" cy="51134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7496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то это у вас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моя дочк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чему у вашей дочки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ые щёчки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на давно не мылась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B519-E723-4506-9120-814B8AB9000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96D0-379E-4C00-BFCF-3BCC5EBC3E2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1" name="Рисунок 5" descr=""/>
          <p:cNvPicPr/>
          <p:nvPr/>
        </p:nvPicPr>
        <p:blipFill>
          <a:blip r:embed="rId1"/>
          <a:stretch/>
        </p:blipFill>
        <p:spPr>
          <a:xfrm>
            <a:off x="5648400" y="1587600"/>
            <a:ext cx="3247920" cy="42861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1692360" y="48888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3" name="Рисунок 6" descr=""/>
          <p:cNvPicPr/>
          <p:nvPr/>
        </p:nvPicPr>
        <p:blipFill>
          <a:blip r:embed="rId2"/>
          <a:stretch/>
        </p:blipFill>
        <p:spPr>
          <a:xfrm>
            <a:off x="819144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Вертикальный свиток 5"/>
          <p:cNvSpPr/>
          <p:nvPr/>
        </p:nvSpPr>
        <p:spPr>
          <a:xfrm>
            <a:off x="179280" y="1557360"/>
            <a:ext cx="5400720" cy="42861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169720"/>
            <a:ext cx="4680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ма сдавала в багаж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ван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квояж,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одан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у, корзину, картонку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маленькую собачонк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B707-2698-4874-9F21-42C732F1005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DF35-CCF6-43EA-AD55-091C36B523E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724360" y="1646280"/>
            <a:ext cx="3168720" cy="41083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1908000" y="620640"/>
            <a:ext cx="54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2"/>
          <a:stretch/>
        </p:blipFill>
        <p:spPr>
          <a:xfrm>
            <a:off x="8124840" y="322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Вертикальный свиток 2"/>
          <p:cNvSpPr/>
          <p:nvPr/>
        </p:nvSpPr>
        <p:spPr>
          <a:xfrm>
            <a:off x="108000" y="1539720"/>
            <a:ext cx="5688000" cy="4392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206064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праздник новогодний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дали мы приказ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кай цветут сегодн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снежники у нас!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лесу цветёт подснежник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е метель метёт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тот из вас мятежник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кажет: не метёт!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7CFF-DF72-4E68-AEFA-CE647E2649B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AC93-B298-41DF-8621-F9E30F4413C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5867280" y="1677960"/>
            <a:ext cx="315288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1719360" y="549360"/>
            <a:ext cx="552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2"/>
          <a:stretch/>
        </p:blipFill>
        <p:spPr>
          <a:xfrm>
            <a:off x="8078760" y="32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Вертикальный свиток 2"/>
          <p:cNvSpPr/>
          <p:nvPr/>
        </p:nvSpPr>
        <p:spPr>
          <a:xfrm>
            <a:off x="108000" y="1484280"/>
            <a:ext cx="5256000" cy="4176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000" y="1988640"/>
            <a:ext cx="433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м – бом! Тили – бом!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воре - высокий до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венки резные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на расписные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а лестнице ковер –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тый золотом узо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узорному ковру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одит кошка по утру…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74DC-641A-4C2A-AD6E-3042AB3A6E1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87B5-C297-4FB2-B1D8-DD17FB99E17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562720" y="1370160"/>
            <a:ext cx="3371760" cy="4506840"/>
          </a:xfrm>
          <a:prstGeom prst="rect">
            <a:avLst/>
          </a:prstGeom>
          <a:ln w="0">
            <a:noFill/>
          </a:ln>
        </p:spPr>
      </p:pic>
      <p:sp>
        <p:nvSpPr>
          <p:cNvPr id="123" name="Стрелка вправо 5">
            <a:hlinkClick r:id="rId2" action="ppaction://hlinksldjump"/>
          </p:cNvPr>
          <p:cNvSpPr/>
          <p:nvPr/>
        </p:nvSpPr>
        <p:spPr>
          <a:xfrm>
            <a:off x="7932600" y="5950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1835280" y="60480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3"/>
          <a:stretch/>
        </p:blipFill>
        <p:spPr>
          <a:xfrm>
            <a:off x="8024760" y="326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7:14:32Z</dcterms:created>
  <dc:creator>Александрова З.В. (Aida_Alex)</dc:creator>
  <dc:description>http://aida.ucoz.ru</dc:description>
  <dc:language>en-US</dc:language>
  <cp:lastModifiedBy>1</cp:lastModifiedBy>
  <dcterms:modified xsi:type="dcterms:W3CDTF">2018-01-24T16:08:25Z</dcterms:modified>
  <cp:revision>144</cp:revision>
  <dc:subject/>
  <dc:title>литература 1</dc:title>
</cp:coreProperties>
</file>