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3216A-5E89-4595-994A-6F9223EB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4CED5-E14A-42BB-B0C7-B9F49612B9D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BAF747-396E-4915-BCA5-754E811942C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16A-5504-43B0-B1D6-D722D677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A0F-E568-4648-83FE-218E7404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992-17C6-4DB6-9E17-019585AE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939-BD72-4384-95A7-CB894B80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717-CF48-4FD8-9F53-57937EF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000-934C-4B35-88BD-5638886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ECE-53C7-4076-8357-5B19AF8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BE1-729B-4AB8-9E44-C851D40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0F1-66CB-4E10-AE87-B70050F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D57-06E9-4EB9-B891-C932EB1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302-26E6-4AD0-9A73-4A16A90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957-7AFB-4091-B548-87FA9C8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7ACCC-55B9-4CCB-A83A-BEEA857C12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11.21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Занятие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Skazki &amp; Gold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57120" y="428760"/>
            <a:ext cx="87865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aying “hello”, the season, the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ong “how’s the weath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2. Numbers (how old are you?; How many can you se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ong: 10 little pengu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3. “I see” structure + one/ “I see” many ……noun+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4.  Song “I see sth bl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7" descr="Interactive English: Form 5: Seasons and Nature"/>
          <p:cNvPicPr/>
          <p:nvPr/>
        </p:nvPicPr>
        <p:blipFill>
          <a:blip r:embed="rId1"/>
          <a:srcRect l="0" t="0" r="50390" b="50495"/>
          <a:stretch/>
        </p:blipFill>
        <p:spPr>
          <a:xfrm>
            <a:off x="142920" y="285840"/>
            <a:ext cx="3785760" cy="378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Interactive English: Form 5: Seasons and Nature"/>
          <p:cNvPicPr/>
          <p:nvPr/>
        </p:nvPicPr>
        <p:blipFill>
          <a:blip r:embed="rId2"/>
          <a:srcRect l="49595" t="0" r="803" b="50495"/>
          <a:stretch/>
        </p:blipFill>
        <p:spPr>
          <a:xfrm>
            <a:off x="214200" y="285840"/>
            <a:ext cx="3714480" cy="37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Interactive English: Form 5: Seasons and Nature"/>
          <p:cNvPicPr/>
          <p:nvPr/>
        </p:nvPicPr>
        <p:blipFill>
          <a:blip r:embed="rId3"/>
          <a:srcRect l="51094" t="49497" r="0" b="0"/>
          <a:stretch/>
        </p:blipFill>
        <p:spPr>
          <a:xfrm>
            <a:off x="285840" y="285840"/>
            <a:ext cx="3714480" cy="384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Interactive English: Form 5: Seasons and Nature"/>
          <p:cNvPicPr/>
          <p:nvPr/>
        </p:nvPicPr>
        <p:blipFill>
          <a:blip r:embed="rId4"/>
          <a:srcRect l="0" t="49497" r="50390" b="-499"/>
          <a:stretch/>
        </p:blipFill>
        <p:spPr>
          <a:xfrm>
            <a:off x="142920" y="285840"/>
            <a:ext cx="3785760" cy="3900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7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9" descr="6pcs Montessori Kids Learning Toys Education Cards Cartoon Weather English  Words Card Classroom Decoration For Kindergarten| | - AliExpress"/>
          <p:cNvPicPr/>
          <p:nvPr/>
        </p:nvPicPr>
        <p:blipFill>
          <a:blip r:embed="rId5"/>
          <a:srcRect l="7501" t="13125" r="7186" b="7186"/>
          <a:stretch/>
        </p:blipFill>
        <p:spPr>
          <a:xfrm>
            <a:off x="3500280" y="1586520"/>
            <a:ext cx="5643360" cy="5271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00320" y="142920"/>
            <a:ext cx="4500360" cy="71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ong “how’s the weath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14320" y="1071720"/>
            <a:ext cx="5704920" cy="4467960"/>
          </a:xfrm>
          <a:prstGeom prst="rect">
            <a:avLst/>
          </a:prstGeom>
          <a:ln w="9525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 flipH="1">
            <a:off x="7715520" y="1714320"/>
            <a:ext cx="1428480" cy="4114440"/>
          </a:xfrm>
          <a:prstGeom prst="rect">
            <a:avLst/>
          </a:prstGeom>
          <a:ln w="9525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 flipH="1">
            <a:off x="214560" y="1714320"/>
            <a:ext cx="1428480" cy="4171680"/>
          </a:xfrm>
          <a:prstGeom prst="rect">
            <a:avLst/>
          </a:prstGeom>
          <a:ln w="9525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2920" y="214200"/>
            <a:ext cx="3785760" cy="49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ong: 10 little pengu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7224" t="28122" r="43549" b="15622"/>
          <a:stretch/>
        </p:blipFill>
        <p:spPr>
          <a:xfrm>
            <a:off x="0" y="0"/>
            <a:ext cx="9111960" cy="5857560"/>
          </a:xfrm>
          <a:prstGeom prst="rect">
            <a:avLst/>
          </a:prstGeom>
          <a:ln w="9525">
            <a:noFill/>
          </a:ln>
        </p:spPr>
      </p:pic>
      <p:sp>
        <p:nvSpPr>
          <p:cNvPr id="63" name="Овал 5"/>
          <p:cNvSpPr/>
          <p:nvPr/>
        </p:nvSpPr>
        <p:spPr>
          <a:xfrm>
            <a:off x="-142920" y="3000240"/>
            <a:ext cx="1071360" cy="1928520"/>
          </a:xfrm>
          <a:prstGeom prst="ellipse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4" name="Овал 6"/>
          <p:cNvSpPr/>
          <p:nvPr/>
        </p:nvSpPr>
        <p:spPr>
          <a:xfrm>
            <a:off x="2571840" y="3000240"/>
            <a:ext cx="1071360" cy="1928520"/>
          </a:xfrm>
          <a:prstGeom prst="ellipse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6000840" y="3000240"/>
            <a:ext cx="1071360" cy="1928520"/>
          </a:xfrm>
          <a:prstGeom prst="ellipse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1643040" y="3000240"/>
            <a:ext cx="1071360" cy="1928520"/>
          </a:xfrm>
          <a:prstGeom prst="ellipse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7786800" y="2786040"/>
            <a:ext cx="1071360" cy="1928520"/>
          </a:xfrm>
          <a:prstGeom prst="ellipse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3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5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4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400720" cy="6571800"/>
          </a:xfrm>
          <a:prstGeom prst="rect">
            <a:avLst/>
          </a:prstGeom>
          <a:ln w="9525">
            <a:noFill/>
          </a:ln>
        </p:spPr>
      </p:pic>
      <p:pic>
        <p:nvPicPr>
          <p:cNvPr id="78" name="Picture 11" descr="red apple diy flavor shack купить | Flavors Dreams"/>
          <p:cNvPicPr/>
          <p:nvPr/>
        </p:nvPicPr>
        <p:blipFill>
          <a:blip r:embed="rId2"/>
          <a:stretch/>
        </p:blipFill>
        <p:spPr>
          <a:xfrm>
            <a:off x="6072120" y="357192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1" descr="Cluster of very blue grapes Photograph by Shu Fu"/>
          <p:cNvPicPr/>
          <p:nvPr/>
        </p:nvPicPr>
        <p:blipFill>
          <a:blip r:embed="rId3"/>
          <a:srcRect l="7512" t="17507" r="22378" b="18333"/>
          <a:stretch/>
        </p:blipFill>
        <p:spPr>
          <a:xfrm>
            <a:off x="6143760" y="3500280"/>
            <a:ext cx="1999800" cy="275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hina Fresh Pears Fruit - Buy Fresh Pears Bulk Purchase,Nice Pear Product  on Alibaba.com"/>
          <p:cNvPicPr/>
          <p:nvPr/>
        </p:nvPicPr>
        <p:blipFill>
          <a:blip r:embed="rId4"/>
          <a:stretch/>
        </p:blipFill>
        <p:spPr>
          <a:xfrm>
            <a:off x="5857920" y="342900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27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9" descr="Файл:Lemon.jpg — Википедия"/>
          <p:cNvPicPr/>
          <p:nvPr/>
        </p:nvPicPr>
        <p:blipFill>
          <a:blip r:embed="rId5"/>
          <a:stretch/>
        </p:blipFill>
        <p:spPr>
          <a:xfrm>
            <a:off x="5643720" y="3357720"/>
            <a:ext cx="3666240" cy="25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Fresh Citrus Orange Fruit - Buy Valencia Orange,Average Weight  Orange,Orange Valencia Late Product on Alibaba.com"/>
          <p:cNvPicPr/>
          <p:nvPr/>
        </p:nvPicPr>
        <p:blipFill>
          <a:blip r:embed="rId6"/>
          <a:stretch/>
        </p:blipFill>
        <p:spPr>
          <a:xfrm>
            <a:off x="5929200" y="3286080"/>
            <a:ext cx="3142800" cy="314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Purple Plum Images, Stock Photos &amp;amp; Vectors | Shutterstock"/>
          <p:cNvPicPr/>
          <p:nvPr/>
        </p:nvPicPr>
        <p:blipFill>
          <a:blip r:embed="rId7"/>
          <a:stretch/>
        </p:blipFill>
        <p:spPr>
          <a:xfrm>
            <a:off x="6143760" y="3214800"/>
            <a:ext cx="2785680" cy="307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Buy Oxford Reading Tree: Level 1: More First Words: I See (Oxford Reading  Tree, Biff, Chip and Kipper Stories New Edition 2011) Book Online at Low  Prices in India | Oxford Reading"/>
          <p:cNvPicPr/>
          <p:nvPr/>
        </p:nvPicPr>
        <p:blipFill>
          <a:blip r:embed="rId8"/>
          <a:srcRect l="5170" t="1497" r="1720" b="10001"/>
          <a:stretch/>
        </p:blipFill>
        <p:spPr>
          <a:xfrm>
            <a:off x="6357960" y="0"/>
            <a:ext cx="1856880" cy="2028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643720" y="2214720"/>
            <a:ext cx="3785760" cy="49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8b8b8b"/>
                </a:solidFill>
                <a:latin typeface="Calibri"/>
              </a:rPr>
              <a:t>Song: I see sth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3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400720" cy="657180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11" descr="red apple diy flavor shack купить | Flavors Dreams"/>
          <p:cNvPicPr/>
          <p:nvPr/>
        </p:nvPicPr>
        <p:blipFill>
          <a:blip r:embed="rId2"/>
          <a:stretch/>
        </p:blipFill>
        <p:spPr>
          <a:xfrm>
            <a:off x="6072120" y="342900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Cluster of very blue grapes Photograph by Shu Fu"/>
          <p:cNvPicPr/>
          <p:nvPr/>
        </p:nvPicPr>
        <p:blipFill>
          <a:blip r:embed="rId3"/>
          <a:srcRect l="7512" t="17507" r="22378" b="18333"/>
          <a:stretch/>
        </p:blipFill>
        <p:spPr>
          <a:xfrm>
            <a:off x="6143760" y="3357720"/>
            <a:ext cx="1999800" cy="275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hina Fresh Pears Fruit - Buy Fresh Pears Bulk Purchase,Nice Pear Product  on Alibaba.com"/>
          <p:cNvPicPr/>
          <p:nvPr/>
        </p:nvPicPr>
        <p:blipFill>
          <a:blip r:embed="rId4"/>
          <a:stretch/>
        </p:blipFill>
        <p:spPr>
          <a:xfrm>
            <a:off x="5857920" y="328608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9" descr="Файл:Lemon.jpg — Википедия"/>
          <p:cNvPicPr/>
          <p:nvPr/>
        </p:nvPicPr>
        <p:blipFill>
          <a:blip r:embed="rId5"/>
          <a:stretch/>
        </p:blipFill>
        <p:spPr>
          <a:xfrm>
            <a:off x="5643720" y="3214800"/>
            <a:ext cx="3666240" cy="259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Fresh Citrus Orange Fruit - Buy Valencia Orange,Average Weight  Orange,Orange Valencia Late Product on Alibaba.com"/>
          <p:cNvPicPr/>
          <p:nvPr/>
        </p:nvPicPr>
        <p:blipFill>
          <a:blip r:embed="rId6"/>
          <a:stretch/>
        </p:blipFill>
        <p:spPr>
          <a:xfrm>
            <a:off x="5929200" y="3143160"/>
            <a:ext cx="3142800" cy="3142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Purple Plum Images, Stock Photos &amp;amp; Vectors | Shutterstock"/>
          <p:cNvPicPr/>
          <p:nvPr/>
        </p:nvPicPr>
        <p:blipFill>
          <a:blip r:embed="rId7"/>
          <a:stretch/>
        </p:blipFill>
        <p:spPr>
          <a:xfrm>
            <a:off x="6143760" y="3071880"/>
            <a:ext cx="2785680" cy="3070800"/>
          </a:xfrm>
          <a:prstGeom prst="rect">
            <a:avLst/>
          </a:prstGeom>
          <a:ln w="0">
            <a:noFill/>
          </a:ln>
        </p:spPr>
      </p:pic>
      <p:sp>
        <p:nvSpPr>
          <p:cNvPr id="110" name="Сердце 21"/>
          <p:cNvSpPr/>
          <p:nvPr/>
        </p:nvSpPr>
        <p:spPr>
          <a:xfrm>
            <a:off x="6000840" y="285840"/>
            <a:ext cx="2785680" cy="2428560"/>
          </a:xfrm>
          <a:prstGeom prst="hear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  <Words>90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1T05:34:33Z</dcterms:created>
  <dc:creator>Ania</dc:creator>
  <dc:description/>
  <dc:language>en-US</dc:language>
  <cp:lastModifiedBy>Ania</cp:lastModifiedBy>
  <dcterms:modified xsi:type="dcterms:W3CDTF">2021-11-01T10:06:20Z</dcterms:modified>
  <cp:revision>9</cp:revision>
  <dc:subject/>
  <dc:title>1.11.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