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5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4.jpeg" ContentType="image/jpeg"/>
  <Override PartName="/ppt/media/image8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58C-552F-4EA0-9DA8-639DFC47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840-3FD9-46C7-8C77-5F7BE1BE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488-DFF6-45C5-A654-A82D430A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0E3-E68D-481F-8CB1-D3E1FA38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3B5C-B5AE-4649-B700-8C302E4D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85343-B1C9-4587-B19A-7A0D143E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32905-E7F6-428E-B4BE-2D746E8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2E53-CB9C-4B6D-9856-790AF8C8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C1A5A-BD0C-4EA7-921C-0EB8759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4724-0DFF-4C70-B81E-83E1286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C3A60-6AB2-43B4-9880-193D842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F71-90D4-4B96-8300-F28007E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1A212-D6FD-4D4A-8DB5-C6F4CB8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79F14-77FC-4ACC-9B79-9A3075F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1203C-E2AC-4C46-B809-86874DB8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4845-979F-47E5-9C64-0A717179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3797C-F4E3-474F-B4F9-11DE5EC3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1B2E-E98C-4F82-A2BF-7369C35A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61A9-9B26-4BD3-9ACD-A838B39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2573-4BBD-415F-9EE8-66D9851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9A55-AFE5-4AB9-9309-2E61A6EB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6C42-4912-4A24-9AB7-9932A3C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940-B1BC-43E7-B2EF-9DCFF14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CF60-1AD6-4BCF-83B4-655605C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090D-2D65-4CB6-8570-601E677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BF65-99FC-4049-9D4F-2C73296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E5E6-949E-4ABA-981E-7779B2A7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411F-A303-4BBD-A2D4-D1B531F2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0199-8A84-4383-9EAB-BC9CF0A3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19D5-4B74-48A0-96A5-3E518AF4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E55-84BC-4D2C-B287-63D06416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C7E-8561-422C-9E4C-807A0476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36C-68EC-431C-A205-AF7B8D98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3E7-D989-4545-85DB-06D89D0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121-B7EA-4192-88C1-18A1CD2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0B1-A8E1-44B4-9CD1-019BDA4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8f8f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9AE38C-1674-45D0-BBB5-72E1784130C7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8f8f8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838383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8f8f8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838383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8f8f8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838383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9d9d9d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8f8f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44AD7A-7697-40D1-8340-4B307432C737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8f8f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0BF28F-DF61-44F0-AFA8-36AE21524CF7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odel_Si_Nan_of_Han_Dynast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iquid_filled_compas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7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ИСТОРИЯ СОЗДАНИЯ КОМПАС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519444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редположительно, компас был изобретён в Китае и использовался для указания направления движения по пустыням. В Европе изобретение компаса относят к XII—XIII вв., однако устройство его оставалось очень простым — магнитная стрелка, укрепленная на пробке и опущенная в сосуд с водой. В воде пробка со стрелкой ориентировалась нужным образом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Picture 2" descr="http://upload.wikimedia.org/wikipedia/commons/thumb/5/53/Model_Si_Nan_of_Han_Dynasty.jpg/220px-Model_Si_Nan_of_Han_Dynas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000" y="2061000"/>
            <a:ext cx="2880000" cy="252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er\AppData\Local\Microsoft\Windows\Temporary Internet Files\Content.IE5\BOS3ZPCU\MM900283593[1].gif"/>
          <p:cNvPicPr/>
          <p:nvPr/>
        </p:nvPicPr>
        <p:blipFill>
          <a:blip r:embed="rId3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ОРИЕНТИРОВАНИЕ ПО МЕСТНЫМ ПРИЗНАКА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Алтари православных церквей и колоколен  обращены к Востоку, колокольни к Западу. Приподнятый край нижней перекладины креста на куполе церкви указывает на Север, а опущенный на Юг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1035360" y="1523880"/>
            <a:ext cx="2902680" cy="45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00" strike="noStrike">
                <a:solidFill>
                  <a:srgbClr val="ff0000"/>
                </a:solidFill>
                <a:latin typeface="Constantia"/>
              </a:rPr>
              <a:t>ОРИЕНТИРОВАНИЕ ПО ЗВУКУ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Picture 6" descr="J0233814"/>
          <p:cNvPicPr/>
          <p:nvPr/>
        </p:nvPicPr>
        <p:blipFill>
          <a:blip r:embed="rId1"/>
          <a:stretch/>
        </p:blipFill>
        <p:spPr>
          <a:xfrm>
            <a:off x="714240" y="2286000"/>
            <a:ext cx="3126960" cy="3126960"/>
          </a:xfrm>
          <a:prstGeom prst="rect">
            <a:avLst/>
          </a:prstGeom>
          <a:ln w="9525">
            <a:noFill/>
          </a:ln>
        </p:spPr>
      </p:pic>
      <p:sp>
        <p:nvSpPr>
          <p:cNvPr id="178" name="Прямоугольник 5"/>
          <p:cNvSpPr/>
          <p:nvPr/>
        </p:nvSpPr>
        <p:spPr>
          <a:xfrm>
            <a:off x="4643280" y="1998000"/>
            <a:ext cx="40716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Полезно знать, что днем в равнинной местности выстрелы из охотничьего ружья слышны на расстоянии 3-5 км, шум движущегося поезда - до 10 км, грузового автомобиля - 1 км, громкий крик - до 1,5 км, лай собаки - до 3 км. Ночью, когда исчезают многочисленные шумы, слух обостряется и дальность слышимости различных звуков  увеличивается в 1,5 -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User\AppData\Local\Microsoft\Windows\Temporary Internet Files\Content.IE5\BOS3ZPCU\MM900283593[1].gif"/>
          <p:cNvPicPr/>
          <p:nvPr/>
        </p:nvPicPr>
        <p:blipFill>
          <a:blip r:embed="rId2"/>
          <a:stretch/>
        </p:blipFill>
        <p:spPr>
          <a:xfrm>
            <a:off x="7858080" y="5863320"/>
            <a:ext cx="1116360" cy="9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54194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6"/>
          <p:cNvSpPr/>
          <p:nvPr/>
        </p:nvSpPr>
        <p:spPr>
          <a:xfrm>
            <a:off x="428760" y="2071800"/>
            <a:ext cx="8357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f0000"/>
                </a:solidFill>
                <a:latin typeface="Constantia"/>
              </a:rPr>
              <a:t>ПРИНЦИП ДЕЙСТВИ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9080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ринцип действия основан на взаимодействии поля постоянных магнитов компаса с горизонтальной составляющей магнитного поля Земли. Свободно вращающаяся магнитная стрелка поворачивается вокруг оси, располагаясь вдоль силовых линий магнитного поля. Таким образом, стрелка всегда указывает одним из концов в направлении линии магнитного поля, которая идет к Северному магнитному полюсу.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300360" y="1523880"/>
            <a:ext cx="2407680" cy="24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2" descr="http://upload.wikimedia.org/wikipedia/commons/thumb/f/f9/Liquid_filled_compass.jpg/180px-Liquid_filled_compa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360" y="4509000"/>
            <a:ext cx="1858320" cy="206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User\AppData\Local\Microsoft\Windows\Temporary Internet Files\Content.IE5\BOS3ZPCU\MM900283593[1].gif"/>
          <p:cNvPicPr/>
          <p:nvPr/>
        </p:nvPicPr>
        <p:blipFill>
          <a:blip r:embed="rId3"/>
          <a:stretch/>
        </p:blipFill>
        <p:spPr>
          <a:xfrm>
            <a:off x="323640" y="5589360"/>
            <a:ext cx="1116360" cy="9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КАК СОРИЕНТИРОВАТЬ КОМПАС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04340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Положите компас на горизонтальную поверхность (или ладонь)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Стрелка компаса должна быть неподвижной. После этого поверните корпус компаса так, чтобы буква «С» на шкале компаса совпала с тёмным концом магнитной стрелки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Компас готов к работе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858080" y="5715000"/>
            <a:ext cx="1116360" cy="9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ОРИЕНТИРОВАНИЕ ПО СОЛНЦУ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В полдень, в 13 часов, Солнце почти точно находится на Юге, около 7 часов утра – на Востоке, а в 19 часов на Западе.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Для того чтобы найти полдень без часов нужно установить вертикальный шест (гноном) и отмечать длину тени. Самая короткая тень говорит о том, что сейчас полдень.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715160" y="5357880"/>
            <a:ext cx="1116360" cy="99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J:\скан\сканирование0005.jpg"/>
          <p:cNvPicPr/>
          <p:nvPr/>
        </p:nvPicPr>
        <p:blipFill>
          <a:blip r:embed="rId2"/>
          <a:stretch/>
        </p:blipFill>
        <p:spPr>
          <a:xfrm>
            <a:off x="4500720" y="1584720"/>
            <a:ext cx="3357360" cy="4058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2857320" cy="2714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ОРИЕНТИРОВАНИЕ ПО СОЛНЦУ И ЧАСА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3571560" cy="2733840"/>
          </a:xfrm>
          <a:prstGeom prst="rect">
            <a:avLst/>
          </a:prstGeom>
          <a:ln w="9525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AutoNum type="arabicPeriod"/>
            </a:pP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Расположить часы горизонтально;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AutoNum type="arabicPeriod"/>
            </a:pP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Направить часовую стрелку на Солнце (минутная стрелка во внимание не принимается);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AutoNum type="arabicPeriod"/>
            </a:pP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Разделить угол между часовой стрелкой, центром часов и цифрой «1», пополам;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Биссектриса угла указывает направление Север – Юг, причем, до полудня Юг будет находиться справа от Солнца, а после полудня – слева.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7" name="Picture 3" descr="C:\Users\User\AppData\Local\Microsoft\Windows\Temporary Internet Files\Content.IE5\BOS3ZPCU\MM900283593[1].gif"/>
          <p:cNvPicPr/>
          <p:nvPr/>
        </p:nvPicPr>
        <p:blipFill>
          <a:blip r:embed="rId2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357120" y="4104360"/>
            <a:ext cx="3571560" cy="240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7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риентирование по звезда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96640"/>
            <a:ext cx="592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олярная звезда расположена в пределах одного градуса от Северного полюса мира и является точным и надежным ориентиром для определения направления на географический север. Сначала надо найти Большую Медведицу, затем отложить в одну линию с двумя крайними звездами передней стенки ковша Большой Медведицы пять отрезков, равных расстоянию между этими звездами. В конце пятого отрезка находится Полярная звезда. Она расположена на самом конце ковша Малой Медведиц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6000840" y="1500120"/>
            <a:ext cx="2857320" cy="39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коло полуночи по местному времени полная Луна находится на юге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стущая Луна находится на запад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бывающая Луна – на восток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ОРИЕНТИРОВАНИЕ ПО ЛУНЕ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740360" y="5661360"/>
            <a:ext cx="1116360" cy="994320"/>
          </a:xfrm>
          <a:prstGeom prst="rect">
            <a:avLst/>
          </a:prstGeom>
          <a:ln w="0">
            <a:noFill/>
          </a:ln>
        </p:spPr>
      </p:pic>
      <p:sp>
        <p:nvSpPr>
          <p:cNvPr id="156" name="Блок-схема: узел 4"/>
          <p:cNvSpPr/>
          <p:nvPr/>
        </p:nvSpPr>
        <p:spPr>
          <a:xfrm>
            <a:off x="6000840" y="1928880"/>
            <a:ext cx="1213920" cy="1071360"/>
          </a:xfrm>
          <a:prstGeom prst="flowChartConnector">
            <a:avLst/>
          </a:prstGeom>
          <a:solidFill>
            <a:srgbClr val="ffc000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7" name="Месяц 5"/>
          <p:cNvSpPr/>
          <p:nvPr/>
        </p:nvSpPr>
        <p:spPr>
          <a:xfrm>
            <a:off x="6286680" y="4786200"/>
            <a:ext cx="856800" cy="1356840"/>
          </a:xfrm>
          <a:prstGeom prst="moon">
            <a:avLst>
              <a:gd name="adj" fmla="val 50000"/>
            </a:avLst>
          </a:prstGeom>
          <a:solidFill>
            <a:srgbClr val="ffc000"/>
          </a:solidFill>
          <a:ln>
            <a:solidFill>
              <a:srgbClr val="a3a3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8" name="Месяц 6"/>
          <p:cNvSpPr/>
          <p:nvPr/>
        </p:nvSpPr>
        <p:spPr>
          <a:xfrm flipH="1">
            <a:off x="6285960" y="3143160"/>
            <a:ext cx="928440" cy="1285560"/>
          </a:xfrm>
          <a:prstGeom prst="moon">
            <a:avLst>
              <a:gd name="adj" fmla="val 44412"/>
            </a:avLst>
          </a:prstGeom>
          <a:solidFill>
            <a:srgbClr val="ffc000"/>
          </a:solidFill>
          <a:ln>
            <a:solidFill>
              <a:srgbClr val="a3a3a3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ОРИЕНТИРОВАНИЕ ПО МЕСТНЫМ ПРИЗНАКА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6160" y="1523880"/>
            <a:ext cx="44215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Просеки в лесных хозяйствах прорубают по линиям Север – Юг, Запад – Восток. Номера кварталов отмечаются на квартальных столбах, выставляемых на пересечении просек. На верхней части наносится номер противоположного квартала. Ребро между двумя соседними гранями с наименьшими цифрами укажет направление на Север.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1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3171960" cy="199980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37573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1000080" y="3857760"/>
            <a:ext cx="304956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f0000"/>
                </a:solidFill>
                <a:latin typeface="Constantia"/>
              </a:rPr>
              <a:t>ОРИЕНТИРОВАНИЕ ПО МЕСТНЫМ ПРИЗНАКА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Муравьи устраивают свои жилища обычно к Югу от ближайшего дерева, пней и кустов. Южная сторона муравейника более отлогая, а Северная – круч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7" name="Picture 3" descr="C:\Users\User\AppData\Local\Microsoft\Windows\Temporary Internet Files\Content.IE5\BOS3ZPCU\MM900283593[1].gif"/>
          <p:cNvPicPr/>
          <p:nvPr/>
        </p:nvPicPr>
        <p:blipFill>
          <a:blip r:embed="rId1"/>
          <a:stretch/>
        </p:blipFill>
        <p:spPr>
          <a:xfrm>
            <a:off x="7812360" y="5661360"/>
            <a:ext cx="1116360" cy="994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4357440" cy="371808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251640" y="1845000"/>
            <a:ext cx="4357440" cy="371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167</TotalTime>
  <Application>LibreOffice/7.4.7.2$Linux_X86_64 LibreOffice_project/40$Build-2</Application>
  <AppVersion>15.0000</AppVersion>
  <Words>552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2-02-24T07:06:51Z</dcterms:modified>
  <cp:revision>26</cp:revision>
  <dc:subject/>
  <dc:title>ИСТОРИЯ СОЗДАНИЯ КОМПА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71724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1.2</vt:lpwstr>
  </property>
  <property fmtid="{D5CDD505-2E9C-101B-9397-08002B2CF9AE}" pid="5" name="PresentationFormat">
    <vt:lpwstr>Экран (4:3)</vt:lpwstr>
  </property>
  <property fmtid="{D5CDD505-2E9C-101B-9397-08002B2CF9AE}" pid="6" name="Slides">
    <vt:r8>12</vt:r8>
  </property>
</Properties>
</file>