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6F6-2A38-434D-869B-414C8ECE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51A-AFE2-412A-AEAF-12A1CB0B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9D4-953C-48D1-A7B1-83263EA7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BF4-8742-4A5B-AA39-603E0029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F28-3F98-4C72-8808-D0ED956B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E10-29FF-42B6-968D-97F40592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531-0D5D-4030-BBBF-D9F629F1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64C-2829-49C4-A9DF-1EF013BF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295-4669-498F-A504-B8CA53AC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B1F-754F-4DDA-82F4-B823F65A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719-5D25-4176-8E6B-22EC0A36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584-206F-4FC3-9470-C9BBCD33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D7D5-C48E-496F-BD31-4A249B3810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b2179162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2"/>
          <a:stretch/>
        </p:blipFill>
        <p:spPr>
          <a:xfrm>
            <a:off x="176040" y="853920"/>
            <a:ext cx="87552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Рисунок 3" descr="ultra-cool-presentation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e775858b896e.gif"/>
          <p:cNvPicPr/>
          <p:nvPr/>
        </p:nvPicPr>
        <p:blipFill>
          <a:blip r:embed="rId2"/>
          <a:stretch/>
        </p:blipFill>
        <p:spPr>
          <a:xfrm>
            <a:off x="179280" y="260280"/>
            <a:ext cx="2670120" cy="28670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6" descr=""/>
          <p:cNvPicPr/>
          <p:nvPr/>
        </p:nvPicPr>
        <p:blipFill>
          <a:blip r:embed="rId3"/>
          <a:stretch/>
        </p:blipFill>
        <p:spPr>
          <a:xfrm>
            <a:off x="2955960" y="-133200"/>
            <a:ext cx="6224400" cy="968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2916360" y="692280"/>
            <a:ext cx="604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сский народный художественный промысел. Существует с середины XIX века в районе города Городец. Яркая, лаконичная городецкая роспись (жанровые сцены, фигурки коней, петухов, цветочные узоры), выполненная свободным мазком с белой и черной графической обводкой, украшала прялки, мебель, ставни, двери. В 1936 основана артель (с 1960 фабрика «Городецкая роспись»), изготовляющая сувениры; мастера — Д. И. Крюков, А. Е. Коновалов, И. А. Маз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916360" y="2421000"/>
            <a:ext cx="6048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ецкая роспись держит свое начало от резных городецких прялок, имевших свою особенность: гребень и донце. Для украшения донец городецкие мастера пользовались своеобразной техникой — инкрустацией: фигуры вырезались из дерева другой породы и вставлялись в соответствующее по форме углубление. Вставки, сделанные из темного мореного дуба, рельефно выделяются на светлой поверхности донца. Таким образом, располагая всего двумя оттенками дерева и несложным инструментом, народные умельцы превращали поверхность доски донца в настоящую картину. Городецкие мотивы — сцены городской жизни. Позже мастера для изобразительного богатства стали применять подкраску, яркое сочетание желтого цвета с темным дубом, добавление синего, зеленого, красного цветов делало донце еще более нарядным и красочным. Известным мастером инкрустированных донец с подкраской был Л. В. Мельников. Необходимость увеличить производство прядильных донец натолкнуло мастеров на мысль упростить технику декоративного оформления. Со второй половины XIX века сложная и трудоемкая техника инкрустации стала заменяться просто резьбой с подкраской, а с 1870-х годов на Городецких донцах преобладает живописная манера укра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ultra-cool-presentation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jFhZS00Mm.jpg"/>
          <p:cNvPicPr/>
          <p:nvPr/>
        </p:nvPicPr>
        <p:blipFill>
          <a:blip r:embed="rId2"/>
          <a:stretch/>
        </p:blipFill>
        <p:spPr>
          <a:xfrm>
            <a:off x="179280" y="189000"/>
            <a:ext cx="4289400" cy="27702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6" descr=""/>
          <p:cNvPicPr/>
          <p:nvPr/>
        </p:nvPicPr>
        <p:blipFill>
          <a:blip r:embed="rId3"/>
          <a:stretch/>
        </p:blipFill>
        <p:spPr>
          <a:xfrm>
            <a:off x="5546880" y="158760"/>
            <a:ext cx="2639880" cy="1103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4572000" y="1125360"/>
            <a:ext cx="43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а Гжели производят кувшины, блюда, чашки. Многоцветная роспись в сочетании с золотом украшает чайные сервизы, вазы для цветов. Особо славиться белая гжель с господством в ней синего кобальта, подкрепленного золотыми отвод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московье, поселок Гжель в 60 км от Моск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ultra-cool-presentation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prom_03.jpg"/>
          <p:cNvPicPr/>
          <p:nvPr/>
        </p:nvPicPr>
        <p:blipFill>
          <a:blip r:embed="rId2"/>
          <a:stretch/>
        </p:blipFill>
        <p:spPr>
          <a:xfrm>
            <a:off x="179280" y="189000"/>
            <a:ext cx="3287880" cy="25192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3"/>
          <a:stretch/>
        </p:blipFill>
        <p:spPr>
          <a:xfrm>
            <a:off x="3224160" y="49320"/>
            <a:ext cx="6168960" cy="974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3492360" y="907920"/>
            <a:ext cx="5543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хломская роспись по дереву, русский народный художественный промыс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 во 2-й половине 17 в. на территории  севера Нижегородской области , название промыслу дало торговое  с. Хохлома  -  центр сбыта изделий хохломской росписи в 18 — начале 20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хохломской росписи характерна оригинальная техника окраски дерева в золотистый цвет без применения золота. Выточенные из дерева предметы (преимущественно посуда) грунтовались раствором глины, сырым льняным маслом и порошком олова (в современных изделиях — алюминия), по слою которого выполнялся растительный узор в свободной кистевой манере письма, затем покрывались лаком из льняного масла (ныне — синтетическим) и закалялись при высокой температуре в печи. Для колорита хохломской росписи типично сочетание красного и чёрного цвета с золотистым. Распространены типы росписи — «верховая» (красным и чёрным на золотистом фоне) и «под фон» (золотистый силуэтный рисунок на цветном фоне). Угасавший в начале 20 в. промысел в современное время возродился; в 20-х — начале 30-х гг. мастера объединились в артели. В 1960-х гг. созданы фабрика «Хохломской художник» на родине промысла и производственное объединение «Хохломская роспись» в г. Семенове, ставшие центрами этого художественного промысла. Они выпускают посуду, ложки, мебель, сувениры и пр. Мастера: Ф. А. Бедин, А. Т. Бус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ultra-cool-presentation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027.JPG"/>
          <p:cNvPicPr/>
          <p:nvPr/>
        </p:nvPicPr>
        <p:blipFill>
          <a:blip r:embed="rId2"/>
          <a:stretch/>
        </p:blipFill>
        <p:spPr>
          <a:xfrm>
            <a:off x="250920" y="260280"/>
            <a:ext cx="3673440" cy="2754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3"/>
          <a:stretch/>
        </p:blipFill>
        <p:spPr>
          <a:xfrm>
            <a:off x="4681440" y="158760"/>
            <a:ext cx="3969000" cy="1103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4067280" y="1268280"/>
            <a:ext cx="4897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евяностых годах XIX века в Московскую игрушечную мастерскую "Детское воспитание" А. Мамонтова привезла из Японии фигурку добродушного лысого старика мудреца Фукурума. Она представляла собой несколько вложенных одна в другую фигурок. Токарь по дереву Василий Звездочкин, работавший тогда в этой мастерской, выточил из дерева похожие фигурки, которые также вкладывались одна в другую, а художник Сергей Малютин расписал их под девочек и мальчиков. На первой матрешке была изображена девушка в простонародном городском костюме: сарафане, переднике, платочке с петухом. Игрушка состояла из восьми фигур. Изображение девочки чередовалось с изображением мальчика, отличаясь друг от друга. Последняя изображала спеленатого младе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я "Матрена" тогда было широко распространенным. Отсюда и пошло название - "матрешки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250920" y="3573360"/>
            <a:ext cx="3673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решка, матрешка, русская кра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мяные щечки, глазки – бирюз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ая рубаха и русский сарафа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олове платочек – не найдешь изъян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ервый взгляд – проста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радует вз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осписи одежды затейливый узо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лая улыбка, загадка внутри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лько же в ней куколок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у-ка разбер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Зиновьева Т.Н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ultra-cool-presentation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504210.jpg"/>
          <p:cNvPicPr/>
          <p:nvPr/>
        </p:nvPicPr>
        <p:blipFill>
          <a:blip r:embed="rId2"/>
          <a:stretch/>
        </p:blipFill>
        <p:spPr>
          <a:xfrm>
            <a:off x="179280" y="260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6" descr=""/>
          <p:cNvPicPr/>
          <p:nvPr/>
        </p:nvPicPr>
        <p:blipFill>
          <a:blip r:embed="rId3"/>
          <a:stretch/>
        </p:blipFill>
        <p:spPr>
          <a:xfrm>
            <a:off x="3286080" y="122400"/>
            <a:ext cx="6107040" cy="97452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3780000" y="981000"/>
            <a:ext cx="518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его основе лежали старые разработки декоративных цветочных композиций с набором садово-полевых цветов («собранный букет», «букет в раскидку», гирлянда, вено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рокой кистью художник набрасывает композицию букета на рабочей поверхности подноса. Создавая букет, художник следит за красотой и выразительностью силуэта цветов, бутонов, листьев и стеблей, за ритмичным расположением красочных пят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остовским букетам присуща яркость красок. Наряду с традиционным черным фоном создаются красные, синие, зеленые, край подноса украшают легким, ажурным растительным орнамен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Жостовский поднос вложено вдохновение лучших мастеров народного промысла, которые бережно сохраняют исключительные вековые традиции и преемственность. Роскошь, подлинность и чувственность – это уникальный Жостовский бук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ultra-cool-presentation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_________________4e5d092dd6caa_250x250.jpg"/>
          <p:cNvPicPr/>
          <p:nvPr/>
        </p:nvPicPr>
        <p:blipFill>
          <a:blip r:embed="rId2"/>
          <a:stretch/>
        </p:blipFill>
        <p:spPr>
          <a:xfrm>
            <a:off x="250920" y="260280"/>
            <a:ext cx="384336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6" descr=""/>
          <p:cNvPicPr/>
          <p:nvPr/>
        </p:nvPicPr>
        <p:blipFill>
          <a:blip r:embed="rId3"/>
          <a:stretch/>
        </p:blipFill>
        <p:spPr>
          <a:xfrm>
            <a:off x="3743280" y="122400"/>
            <a:ext cx="5649840" cy="974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4211640" y="981000"/>
            <a:ext cx="47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ний Тагил - родина русского расписного железного подноса. Хороший мастер-лакировщик издревле был так же уважаем и почитаем, как опытный металлург, кузнец, горняк, слесарь. А тагильские подносы, шкатулки, столики, баночки, сверкающие великолепными, горящими ярким живым огнем букетами роз с пышными воздушными лепестками, оправленные мягко мерцающими солнечным теплом золотыми узорами орнамента, неизменно причислялись и причисляются к самым диковинным творениям рук человеческ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4:58:43Z</dcterms:created>
  <dc:creator>Костя</dc:creator>
  <dc:description/>
  <dc:language>en-US</dc:language>
  <cp:lastModifiedBy>Костя</cp:lastModifiedBy>
  <dcterms:modified xsi:type="dcterms:W3CDTF">2012-10-06T16:55:41Z</dcterms:modified>
  <cp:revision>13</cp:revision>
  <dc:subject/>
  <dc:title>Слайд 1</dc:title>
</cp:coreProperties>
</file>