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393-9DD9-4091-B35B-094DCC6D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64B-C974-45A6-8F02-60D12115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057-959D-47E4-BCEF-516214B4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EB6-B0F1-413D-AF4B-F79D85A2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986-F05B-4151-8C56-7FAAC2A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675-72DF-455D-BFC3-57842F59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A0C-0F48-4186-8CB0-5DEF5FCB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08D-2BC5-4257-A7CE-3225B5BF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381-8ED5-4D06-91B6-A536F64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3F9-EA7A-48F5-A190-B38A6DBB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6B8-BFA5-4261-8C15-76DD751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E58-CD7F-4DB7-9A9D-24ECD82D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b5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690F-2111-4528-8B17-AC1DE3D0B028}" type="slidenum">
              <a:rPr b="0" lang="ru-RU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b5d"/>
                </a:solidFill>
                <a:latin typeface="Comic Sans MS"/>
              </a:rPr>
              <a:t>The article</a:t>
            </a:r>
            <a:endParaRPr b="0" lang="en-US" sz="4400" spc="-1" strike="noStrike">
              <a:solidFill>
                <a:srgbClr val="686b5d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" y="1752480"/>
            <a:ext cx="4800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Неопределённый</a:t>
            </a:r>
            <a:br>
              <a:rPr sz="3600"/>
            </a:b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артикль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(an)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3048120"/>
            <a:ext cx="4876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Определённый</a:t>
            </a:r>
            <a:br>
              <a:rPr sz="3600"/>
            </a:b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артикль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371600" y="4038480"/>
            <a:ext cx="4876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Нулевой</a:t>
            </a:r>
            <a:br>
              <a:rPr sz="3600"/>
            </a:b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артикль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«  »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5" name="Picture 8" descr="mult-pict"/>
          <p:cNvPicPr/>
          <p:nvPr/>
        </p:nvPicPr>
        <p:blipFill>
          <a:blip r:embed="rId1"/>
          <a:stretch/>
        </p:blipFill>
        <p:spPr>
          <a:xfrm>
            <a:off x="0" y="3429000"/>
            <a:ext cx="2774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mult-pict"/>
          <p:cNvPicPr/>
          <p:nvPr/>
        </p:nvPicPr>
        <p:blipFill>
          <a:blip r:embed="rId1"/>
          <a:stretch/>
        </p:blipFill>
        <p:spPr>
          <a:xfrm>
            <a:off x="7391520" y="2819520"/>
            <a:ext cx="1598400" cy="2209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1447920" y="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Неопределённый артикль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(an)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95280"/>
            <a:ext cx="7467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7777"/>
                </a:solidFill>
                <a:latin typeface="Comic Sans MS"/>
              </a:rPr>
              <a:t>Когда употребляем?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04920" y="22860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1. Упоминаем о чём-то или о ком-то </a:t>
            </a:r>
            <a:r>
              <a:rPr b="0" lang="ru-RU" sz="3600" spc="-1" strike="noStrike" u="sng">
                <a:solidFill>
                  <a:srgbClr val="777777"/>
                </a:solidFill>
                <a:uFillTx/>
                <a:latin typeface="Comic Sans MS"/>
              </a:rPr>
              <a:t>впервые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I have </a:t>
            </a: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pencil.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04920" y="365760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2. Указываем, что предмет принадлежит какому-то классу предметов, но </a:t>
            </a:r>
            <a:r>
              <a:rPr b="0" lang="ru-RU" sz="3600" spc="-1" strike="noStrike" u="sng">
                <a:solidFill>
                  <a:srgbClr val="777777"/>
                </a:solidFill>
                <a:uFillTx/>
                <a:latin typeface="Comic Sans MS"/>
              </a:rPr>
              <a:t>не выделяем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 его конкретно 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book 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(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книга вообще, а не какая-то определённая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)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447920" y="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Неопределённый артикль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(an)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1371600"/>
            <a:ext cx="838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6b5d"/>
                </a:solidFill>
                <a:latin typeface="Comic Sans MS"/>
              </a:rPr>
              <a:t>Особенность: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 употребляем перед исчисляемыми </a:t>
            </a:r>
            <a:r>
              <a:rPr b="0" lang="ru-RU" sz="3600" spc="-1" strike="noStrike" u="sng">
                <a:solidFill>
                  <a:srgbClr val="686b5d"/>
                </a:solidFill>
                <a:uFillTx/>
                <a:latin typeface="Comic Sans MS"/>
              </a:rPr>
              <a:t>существительными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 в единственном числе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04920" y="3429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hat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419720" y="3581280"/>
            <a:ext cx="160020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6553080" y="3581280"/>
            <a:ext cx="19814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80880" y="4343400"/>
            <a:ext cx="8763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6b5d"/>
                </a:solidFill>
                <a:latin typeface="Comic Sans MS"/>
              </a:rPr>
              <a:t>Особенность: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– 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перед согласной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       </a:t>
            </a: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table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n – 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перед гласной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         </a:t>
            </a: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n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apple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82880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red hat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419720" y="3429000"/>
            <a:ext cx="2361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hats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477120" y="3429000"/>
            <a:ext cx="2361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water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1676520" y="228600"/>
            <a:ext cx="601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Определённый</a:t>
            </a:r>
            <a:r>
              <a:rPr b="0" lang="en-US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артикль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295280"/>
            <a:ext cx="7467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7777"/>
                </a:solidFill>
                <a:latin typeface="Comic Sans MS"/>
              </a:rPr>
              <a:t>Когда употребляем?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1337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1. Упоминаем о чём-то или о ком-то </a:t>
            </a:r>
            <a:r>
              <a:rPr b="0" lang="ru-RU" sz="3600" spc="-1" strike="noStrike" u="sng">
                <a:solidFill>
                  <a:srgbClr val="777777"/>
                </a:solidFill>
                <a:uFillTx/>
                <a:latin typeface="Comic Sans MS"/>
              </a:rPr>
              <a:t>уже известном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 слушателю 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32767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There is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 book on the shelf. Give m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0" lang="ru-RU" sz="32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book.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80880" y="42670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2. Говорим о предмете единственном в данной ситуации или вообще 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5486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It was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 new house.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 roof was red.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676520" y="228600"/>
            <a:ext cx="601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Определённый</a:t>
            </a:r>
            <a:r>
              <a:rPr b="0" lang="en-US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артикль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16765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6b5d"/>
                </a:solidFill>
                <a:latin typeface="Comic Sans MS"/>
              </a:rPr>
              <a:t>Особенность: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 употребляем перед любым нарицательным существительным как в </a:t>
            </a:r>
            <a:r>
              <a:rPr b="0" lang="ru-RU" sz="3600" spc="-1" strike="noStrike" u="sng">
                <a:solidFill>
                  <a:srgbClr val="686b5d"/>
                </a:solidFill>
                <a:uFillTx/>
                <a:latin typeface="Comic Sans MS"/>
              </a:rPr>
              <a:t>ед.ч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, так и во </a:t>
            </a:r>
            <a:r>
              <a:rPr b="0" lang="ru-RU" sz="3600" spc="-1" strike="noStrike" u="sng">
                <a:solidFill>
                  <a:srgbClr val="686b5d"/>
                </a:solidFill>
                <a:uFillTx/>
                <a:latin typeface="Comic Sans MS"/>
              </a:rPr>
              <a:t>мн.ч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04920" y="3809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777777"/>
                </a:solidFill>
                <a:uFillTx/>
                <a:latin typeface="Comic Sans MS"/>
              </a:rPr>
              <a:t>apple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is red.  </a:t>
            </a: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777777"/>
                </a:solidFill>
                <a:uFillTx/>
                <a:latin typeface="Comic Sans MS"/>
              </a:rPr>
              <a:t>apples</a:t>
            </a:r>
            <a:r>
              <a:rPr b="1" lang="en-US" sz="3600" spc="-1" strike="noStrike">
                <a:solidFill>
                  <a:srgbClr val="777777"/>
                </a:solidFill>
                <a:latin typeface="Comic Sans MS"/>
              </a:rPr>
              <a:t> are red. 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880" y="45720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6b5d"/>
                </a:solidFill>
                <a:latin typeface="Comic Sans MS"/>
              </a:rPr>
              <a:t>Особенность:</a:t>
            </a:r>
            <a:r>
              <a:rPr b="1" lang="en-US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686b5d"/>
                </a:solidFill>
                <a:latin typeface="Comic Sans MS"/>
              </a:rPr>
              <a:t>читается как</a:t>
            </a:r>
            <a:br>
              <a:rPr sz="3600"/>
            </a:b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зи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]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 – перед гласной      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 apple</a:t>
            </a:r>
            <a:br>
              <a:rPr sz="3600"/>
            </a:b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[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зэ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]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 – перед согласной   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 boy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Безимени-1"/>
          <p:cNvPicPr/>
          <p:nvPr/>
        </p:nvPicPr>
        <p:blipFill>
          <a:blip r:embed="rId1"/>
          <a:stretch/>
        </p:blipFill>
        <p:spPr>
          <a:xfrm>
            <a:off x="7101000" y="1676520"/>
            <a:ext cx="2043000" cy="3504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133720" y="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Нулевой</a:t>
            </a:r>
            <a:r>
              <a:rPr b="0" lang="en-US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артикль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62120" y="8380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7777"/>
                </a:solidFill>
                <a:latin typeface="Comic Sans MS"/>
              </a:rPr>
              <a:t>Когда употребляем?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8600" y="14479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777777"/>
                </a:solidFill>
                <a:latin typeface="Comic Sans MS"/>
              </a:rPr>
              <a:t>1. Перед неисчисляемыми вещественными или абстрактными существительными</a:t>
            </a:r>
            <a:endParaRPr b="1" lang="en-US" sz="3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990720" y="2971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There is </a:t>
            </a:r>
            <a:r>
              <a:rPr b="0" lang="en-US" sz="3200" spc="-1" strike="noStrike" u="sng">
                <a:solidFill>
                  <a:srgbClr val="777777"/>
                </a:solidFill>
                <a:uFillTx/>
                <a:latin typeface="Comic Sans MS"/>
              </a:rPr>
              <a:t>milk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 in the cup.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2860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. </a:t>
            </a:r>
            <a:r>
              <a:rPr b="0" lang="ru-RU" sz="3400" spc="-1" strike="noStrike">
                <a:solidFill>
                  <a:srgbClr val="777777"/>
                </a:solidFill>
                <a:latin typeface="Comic Sans MS"/>
              </a:rPr>
              <a:t>Перед сущ. во мн. ч., когда в единственном числе перед ним стоял бы неопределённый артикль</a:t>
            </a:r>
            <a:endParaRPr b="1" lang="en-US" sz="3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295280" y="52578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I saw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 letter on the table.</a:t>
            </a:r>
            <a:br>
              <a:rPr sz="3200"/>
            </a:b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I saw letters on the table.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mult-pict"/>
          <p:cNvPicPr/>
          <p:nvPr/>
        </p:nvPicPr>
        <p:blipFill>
          <a:blip r:embed="rId1"/>
          <a:stretch/>
        </p:blipFill>
        <p:spPr>
          <a:xfrm>
            <a:off x="6248520" y="4191120"/>
            <a:ext cx="2895480" cy="2195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2133720" y="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Примеры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80880" y="11430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Do you have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a 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cat</a:t>
            </a:r>
            <a:r>
              <a:rPr b="0" lang="ru-RU" sz="3600" spc="-1" strike="noStrike">
                <a:solidFill>
                  <a:srgbClr val="777777"/>
                </a:solidFill>
                <a:latin typeface="Comic Sans MS"/>
              </a:rPr>
              <a:t>? – 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I have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 dog.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23623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686b5d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arth is millions of kilometres from</a:t>
            </a:r>
            <a:r>
              <a:rPr b="1" lang="ru-RU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the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686b5d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686b5d"/>
                </a:solidFill>
                <a:latin typeface="Comic Sans MS"/>
              </a:rPr>
              <a:t>un</a:t>
            </a:r>
            <a:r>
              <a:rPr b="0" lang="en-US" sz="3600" spc="-1" strike="noStrike">
                <a:solidFill>
                  <a:srgbClr val="686b5d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686b5d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419112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7777"/>
                </a:solidFill>
                <a:latin typeface="Comic Sans MS"/>
              </a:rPr>
              <a:t>There are books on the table.</a:t>
            </a:r>
            <a:endParaRPr b="1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Плотникова</cp:lastModifiedBy>
  <dcterms:modified xsi:type="dcterms:W3CDTF">2021-11-01T15:39:0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