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24E-3637-4D62-8010-CACA6138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CE1-44D1-4ED0-BEB8-3A62124D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D30-1C7A-4BC9-ADF1-59D14FBB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B12-AC91-4DCE-907F-17602229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8F2-3C6D-4CF9-8114-A6B665E7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C35-83C8-4357-ABC1-A2B1BD26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D04-85F4-4892-A2AD-D785DBB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CB1-7561-47C9-8757-8BA3407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A6B-A9C6-499A-A9DB-30B15A1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370-6450-4391-9F0C-CA10D17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9D2-C8D3-407B-9267-F6A5144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1D1-0A0F-400C-861B-35DAD98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9F22-56FB-457E-8D94-9B3741D716C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692280"/>
            <a:ext cx="91695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3203640" cy="29145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4788000" y="2924280"/>
            <a:ext cx="316872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Выноска-облако 1"/>
          <p:cNvSpPr/>
          <p:nvPr/>
        </p:nvSpPr>
        <p:spPr>
          <a:xfrm>
            <a:off x="4427640" y="115920"/>
            <a:ext cx="3889440" cy="2521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 не стойте на краю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Ты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вы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иначе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you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2195640" y="2924280"/>
            <a:ext cx="5761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Выноска-облако 10"/>
          <p:cNvSpPr/>
          <p:nvPr/>
        </p:nvSpPr>
        <p:spPr>
          <a:xfrm flipH="1">
            <a:off x="3347280" y="81000"/>
            <a:ext cx="3095640" cy="2519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Выноска-облако 1"/>
          <p:cNvSpPr/>
          <p:nvPr/>
        </p:nvSpPr>
        <p:spPr>
          <a:xfrm>
            <a:off x="1187280" y="81000"/>
            <a:ext cx="6769440" cy="2519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бъяснились мы в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ы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местоимение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w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458640" y="2550960"/>
            <a:ext cx="3473640" cy="3295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"/>
          <p:cNvPicPr/>
          <p:nvPr/>
        </p:nvPicPr>
        <p:blipFill>
          <a:blip r:embed="rId3"/>
          <a:stretch/>
        </p:blipFill>
        <p:spPr>
          <a:xfrm>
            <a:off x="4716360" y="2135160"/>
            <a:ext cx="3808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2195640" y="2924280"/>
            <a:ext cx="5761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Выноска-облако 2"/>
          <p:cNvSpPr/>
          <p:nvPr/>
        </p:nvSpPr>
        <p:spPr>
          <a:xfrm>
            <a:off x="1908000" y="260280"/>
            <a:ext cx="5040360" cy="230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н смеялся: хи-хи-х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н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местоимение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h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9" descr=""/>
          <p:cNvPicPr/>
          <p:nvPr/>
        </p:nvPicPr>
        <p:blipFill>
          <a:blip r:embed="rId2"/>
          <a:stretch/>
        </p:blipFill>
        <p:spPr>
          <a:xfrm>
            <a:off x="3429000" y="2924280"/>
            <a:ext cx="24620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2195640" y="2924280"/>
            <a:ext cx="5761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Выноска-облако 1"/>
          <p:cNvSpPr/>
          <p:nvPr/>
        </p:nvSpPr>
        <p:spPr>
          <a:xfrm>
            <a:off x="3635280" y="260280"/>
            <a:ext cx="5329440" cy="2376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на спешила. Не спеш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н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местоимение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sh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927080" y="2419200"/>
            <a:ext cx="31147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195640" y="2924280"/>
            <a:ext cx="5761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2"/>
          <a:stretch/>
        </p:blipFill>
        <p:spPr>
          <a:xfrm>
            <a:off x="2120760" y="2706840"/>
            <a:ext cx="4842000" cy="3632040"/>
          </a:xfrm>
          <a:prstGeom prst="rect">
            <a:avLst/>
          </a:prstGeom>
          <a:ln w="0">
            <a:noFill/>
          </a:ln>
        </p:spPr>
      </p:pic>
      <p:sp>
        <p:nvSpPr>
          <p:cNvPr id="118" name="Выноска-облако 1"/>
          <p:cNvSpPr/>
          <p:nvPr/>
        </p:nvSpPr>
        <p:spPr>
          <a:xfrm>
            <a:off x="3132000" y="474840"/>
            <a:ext cx="5616720" cy="2232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ни жалели всех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н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местоимение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they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971640" y="1557360"/>
            <a:ext cx="7272360" cy="2837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LIKE TO E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like fish, I like egg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like cheese and me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like cakes and biscui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fact I like to ea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7426440" cy="65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-108000" y="1916280"/>
            <a:ext cx="9425160" cy="2420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2411280" y="4432320"/>
            <a:ext cx="3703680" cy="23180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like to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like to r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like to 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mp and s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2040" y="1268280"/>
          <a:ext cx="8785440" cy="4392720"/>
        </p:xfrm>
        <a:graphic>
          <a:graphicData uri="http://schemas.openxmlformats.org/drawingml/2006/table">
            <a:tbl>
              <a:tblPr/>
              <a:tblGrid>
                <a:gridCol w="4176720"/>
                <a:gridCol w="460872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de a bik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on a farm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te in the par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 at h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 in the park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y in the for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аться в пар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аться на велосипе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гать в парк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ать в лес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ть на ферм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ь до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3"/>
          <p:cNvSpPr/>
          <p:nvPr/>
        </p:nvSpPr>
        <p:spPr>
          <a:xfrm>
            <a:off x="539640" y="189000"/>
            <a:ext cx="4680000" cy="71892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the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5"/>
          <p:cNvCxnSpPr/>
          <p:nvPr/>
        </p:nvCxnSpPr>
        <p:spPr>
          <a:xfrm>
            <a:off x="2340000" y="1484280"/>
            <a:ext cx="223272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" name="Прямая со стрелкой 7"/>
          <p:cNvCxnSpPr/>
          <p:nvPr/>
        </p:nvCxnSpPr>
        <p:spPr>
          <a:xfrm>
            <a:off x="2879280" y="2349360"/>
            <a:ext cx="1909080" cy="2160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" name="Прямая со стрелкой 9"/>
          <p:cNvCxnSpPr/>
          <p:nvPr/>
        </p:nvCxnSpPr>
        <p:spPr>
          <a:xfrm flipV="1">
            <a:off x="3276720" y="1628280"/>
            <a:ext cx="1512000" cy="1369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" name="Прямая со стрелкой 11"/>
          <p:cNvCxnSpPr/>
          <p:nvPr/>
        </p:nvCxnSpPr>
        <p:spPr>
          <a:xfrm>
            <a:off x="2771280" y="3644640"/>
            <a:ext cx="2017080" cy="1369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0" name="Прямая со стрелкой 13"/>
          <p:cNvCxnSpPr/>
          <p:nvPr/>
        </p:nvCxnSpPr>
        <p:spPr>
          <a:xfrm flipV="1">
            <a:off x="3132000" y="3068640"/>
            <a:ext cx="1512000" cy="1440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1" name="Прямая со стрелкой 15"/>
          <p:cNvCxnSpPr/>
          <p:nvPr/>
        </p:nvCxnSpPr>
        <p:spPr>
          <a:xfrm flipV="1">
            <a:off x="3132000" y="3644640"/>
            <a:ext cx="1656720" cy="1513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-96840" y="2492280"/>
            <a:ext cx="9337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1368360" cy="62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572000" y="1927080"/>
            <a:ext cx="1187280" cy="500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2843280" y="2565360"/>
            <a:ext cx="4824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1011240" y="4343400"/>
            <a:ext cx="1179360" cy="48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4643280" y="4303800"/>
            <a:ext cx="1930680" cy="49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6"/>
          <a:stretch/>
        </p:blipFill>
        <p:spPr>
          <a:xfrm>
            <a:off x="3203640" y="2924280"/>
            <a:ext cx="641160" cy="498240"/>
          </a:xfrm>
          <a:prstGeom prst="rect">
            <a:avLst/>
          </a:prstGeom>
          <a:ln w="0">
            <a:noFill/>
          </a:ln>
        </p:spPr>
      </p:pic>
      <p:sp>
        <p:nvSpPr>
          <p:cNvPr id="73" name="5-конечная звезда 2"/>
          <p:cNvSpPr/>
          <p:nvPr/>
        </p:nvSpPr>
        <p:spPr>
          <a:xfrm>
            <a:off x="358920" y="879480"/>
            <a:ext cx="2484360" cy="2409840"/>
          </a:xfrm>
          <a:custGeom>
            <a:avLst/>
            <a:gdLst/>
            <a:ahLst/>
            <a:rect l="l" t="t" r="r" b="b"/>
            <a:pathLst>
              <a:path w="2485003" h="2408995">
                <a:moveTo>
                  <a:pt x="3" y="920152"/>
                </a:moveTo>
                <a:lnTo>
                  <a:pt x="949192" y="920158"/>
                </a:lnTo>
                <a:lnTo>
                  <a:pt x="1242502" y="0"/>
                </a:lnTo>
                <a:lnTo>
                  <a:pt x="1535811" y="920158"/>
                </a:lnTo>
                <a:lnTo>
                  <a:pt x="2485000" y="920152"/>
                </a:lnTo>
                <a:lnTo>
                  <a:pt x="1717086" y="1488835"/>
                </a:lnTo>
                <a:lnTo>
                  <a:pt x="2010408" y="2408989"/>
                </a:lnTo>
                <a:lnTo>
                  <a:pt x="1242502" y="1840296"/>
                </a:lnTo>
                <a:lnTo>
                  <a:pt x="474595" y="2408989"/>
                </a:lnTo>
                <a:lnTo>
                  <a:pt x="767917" y="1488835"/>
                </a:lnTo>
                <a:lnTo>
                  <a:pt x="3" y="92015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5-конечная звезда 12"/>
          <p:cNvSpPr/>
          <p:nvPr/>
        </p:nvSpPr>
        <p:spPr>
          <a:xfrm>
            <a:off x="3922560" y="765000"/>
            <a:ext cx="2486160" cy="2408400"/>
          </a:xfrm>
          <a:custGeom>
            <a:avLst/>
            <a:gdLst/>
            <a:ahLst/>
            <a:rect l="l" t="t" r="r" b="b"/>
            <a:pathLst>
              <a:path w="2485003" h="2408995">
                <a:moveTo>
                  <a:pt x="3" y="920152"/>
                </a:moveTo>
                <a:lnTo>
                  <a:pt x="949192" y="920158"/>
                </a:lnTo>
                <a:lnTo>
                  <a:pt x="1242502" y="0"/>
                </a:lnTo>
                <a:lnTo>
                  <a:pt x="1535811" y="920158"/>
                </a:lnTo>
                <a:lnTo>
                  <a:pt x="2485000" y="920152"/>
                </a:lnTo>
                <a:lnTo>
                  <a:pt x="1717086" y="1488835"/>
                </a:lnTo>
                <a:lnTo>
                  <a:pt x="2010408" y="2408989"/>
                </a:lnTo>
                <a:lnTo>
                  <a:pt x="1242502" y="1840296"/>
                </a:lnTo>
                <a:lnTo>
                  <a:pt x="474595" y="2408989"/>
                </a:lnTo>
                <a:lnTo>
                  <a:pt x="767917" y="1488835"/>
                </a:lnTo>
                <a:lnTo>
                  <a:pt x="3" y="92015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-конечная звезда 13"/>
          <p:cNvSpPr/>
          <p:nvPr/>
        </p:nvSpPr>
        <p:spPr>
          <a:xfrm>
            <a:off x="341280" y="3381480"/>
            <a:ext cx="2486160" cy="2408040"/>
          </a:xfrm>
          <a:custGeom>
            <a:avLst/>
            <a:gdLst/>
            <a:ahLst/>
            <a:rect l="l" t="t" r="r" b="b"/>
            <a:pathLst>
              <a:path w="2485003" h="2408995">
                <a:moveTo>
                  <a:pt x="3" y="920152"/>
                </a:moveTo>
                <a:lnTo>
                  <a:pt x="949192" y="920158"/>
                </a:lnTo>
                <a:lnTo>
                  <a:pt x="1242502" y="0"/>
                </a:lnTo>
                <a:lnTo>
                  <a:pt x="1535811" y="920158"/>
                </a:lnTo>
                <a:lnTo>
                  <a:pt x="2485000" y="920152"/>
                </a:lnTo>
                <a:lnTo>
                  <a:pt x="1717086" y="1488835"/>
                </a:lnTo>
                <a:lnTo>
                  <a:pt x="2010408" y="2408989"/>
                </a:lnTo>
                <a:lnTo>
                  <a:pt x="1242502" y="1840296"/>
                </a:lnTo>
                <a:lnTo>
                  <a:pt x="474595" y="2408989"/>
                </a:lnTo>
                <a:lnTo>
                  <a:pt x="767917" y="1488835"/>
                </a:lnTo>
                <a:lnTo>
                  <a:pt x="3" y="92015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5-конечная звезда 14"/>
          <p:cNvSpPr/>
          <p:nvPr/>
        </p:nvSpPr>
        <p:spPr>
          <a:xfrm>
            <a:off x="4367160" y="3441600"/>
            <a:ext cx="2484360" cy="2408400"/>
          </a:xfrm>
          <a:custGeom>
            <a:avLst/>
            <a:gdLst/>
            <a:ahLst/>
            <a:rect l="l" t="t" r="r" b="b"/>
            <a:pathLst>
              <a:path w="2485003" h="2408995">
                <a:moveTo>
                  <a:pt x="3" y="920152"/>
                </a:moveTo>
                <a:lnTo>
                  <a:pt x="949192" y="920158"/>
                </a:lnTo>
                <a:lnTo>
                  <a:pt x="1242502" y="0"/>
                </a:lnTo>
                <a:lnTo>
                  <a:pt x="1535811" y="920158"/>
                </a:lnTo>
                <a:lnTo>
                  <a:pt x="2485000" y="920152"/>
                </a:lnTo>
                <a:lnTo>
                  <a:pt x="1717086" y="1488835"/>
                </a:lnTo>
                <a:lnTo>
                  <a:pt x="2010408" y="2408989"/>
                </a:lnTo>
                <a:lnTo>
                  <a:pt x="1242502" y="1840296"/>
                </a:lnTo>
                <a:lnTo>
                  <a:pt x="474595" y="2408989"/>
                </a:lnTo>
                <a:lnTo>
                  <a:pt x="767917" y="1488835"/>
                </a:lnTo>
                <a:lnTo>
                  <a:pt x="3" y="92015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5-конечная звезда 15"/>
          <p:cNvSpPr/>
          <p:nvPr/>
        </p:nvSpPr>
        <p:spPr>
          <a:xfrm>
            <a:off x="2376360" y="2443320"/>
            <a:ext cx="1971720" cy="1531800"/>
          </a:xfrm>
          <a:custGeom>
            <a:avLst/>
            <a:gdLst/>
            <a:ahLst/>
            <a:rect l="l" t="t" r="r" b="b"/>
            <a:pathLst>
              <a:path w="1972563" h="1532912">
                <a:moveTo>
                  <a:pt x="2" y="585519"/>
                </a:moveTo>
                <a:lnTo>
                  <a:pt x="753456" y="585523"/>
                </a:lnTo>
                <a:lnTo>
                  <a:pt x="986282" y="0"/>
                </a:lnTo>
                <a:lnTo>
                  <a:pt x="1219107" y="585523"/>
                </a:lnTo>
                <a:lnTo>
                  <a:pt x="1972561" y="585519"/>
                </a:lnTo>
                <a:lnTo>
                  <a:pt x="1363001" y="947388"/>
                </a:lnTo>
                <a:lnTo>
                  <a:pt x="1595836" y="1532908"/>
                </a:lnTo>
                <a:lnTo>
                  <a:pt x="986282" y="1171032"/>
                </a:lnTo>
                <a:lnTo>
                  <a:pt x="376727" y="1532908"/>
                </a:lnTo>
                <a:lnTo>
                  <a:pt x="609562" y="947388"/>
                </a:lnTo>
                <a:lnTo>
                  <a:pt x="2" y="58551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195640" y="2924280"/>
            <a:ext cx="5761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250920" y="404640"/>
            <a:ext cx="6607080" cy="43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d the sent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Rex can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y sister’s nam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Rex and I lik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He can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r Greenwood would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2195640" y="2924280"/>
            <a:ext cx="5761080" cy="15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250920" y="404640"/>
            <a:ext cx="660708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ut the sentences into the right 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he is sev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Rex is smar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Jill, Rex and  I would like to visit Green School and meet you and your pupil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n the morning Jill and Rex go to school togeth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His tail is shor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0331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CA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19280" y="587700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1101600" y="1147680"/>
            <a:ext cx="21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Я ошибся: ай-яй-я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– местоимение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Выноска-облако 5"/>
          <p:cNvSpPr/>
          <p:nvPr/>
        </p:nvSpPr>
        <p:spPr>
          <a:xfrm flipH="1">
            <a:off x="-22320" y="42840"/>
            <a:ext cx="4594320" cy="2563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Я ошибся: ай-яй- я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местоимение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451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5:35:38Z</dcterms:created>
  <dc:creator>Александра</dc:creator>
  <dc:description/>
  <dc:language>en-US</dc:language>
  <cp:lastModifiedBy>Иванова Александра</cp:lastModifiedBy>
  <dcterms:modified xsi:type="dcterms:W3CDTF">2015-09-22T15:29:59Z</dcterms:modified>
  <cp:revision>11</cp:revision>
  <dc:subject/>
  <dc:title>Презентация PowerPoint</dc:title>
</cp:coreProperties>
</file>