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1.png" ContentType="image/png"/>
  <Override PartName="/ppt/media/image8.png" ContentType="image/png"/>
  <Override PartName="/ppt/media/image7.gif" ContentType="image/gif"/>
  <Override PartName="/ppt/media/image16.png" ContentType="image/png"/>
  <Override PartName="/ppt/media/wind.wav" ContentType="audio/x-wav"/>
  <Override PartName="/ppt/media/image5.gif" ContentType="image/gif"/>
  <Override PartName="/ppt/media/image28.png" ContentType="image/png"/>
  <Override PartName="/ppt/media/image9.gif" ContentType="image/gif"/>
  <Override PartName="/ppt/media/image11.png" ContentType="image/png"/>
  <Override PartName="/ppt/media/image12.png" ContentType="image/png"/>
  <Override PartName="/ppt/media/image30.jpeg" ContentType="image/jpeg"/>
  <Override PartName="/ppt/media/image15.png" ContentType="image/png"/>
  <Override PartName="/ppt/media/image34.png" ContentType="image/png"/>
  <Override PartName="/ppt/media/image29.png" ContentType="image/png"/>
  <Override PartName="/ppt/media/chimes.wav" ContentType="audio/x-wav"/>
  <Override PartName="/ppt/media/image6.gif" ContentType="image/gif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22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35.jpeg" ContentType="image/jpeg"/>
  <Override PartName="/ppt/media/image1.jpeg" ContentType="image/jpeg"/>
  <Override PartName="/ppt/media/image10.png" ContentType="image/png"/>
  <Override PartName="/ppt/media/image13.png" ContentType="image/png"/>
  <Override PartName="/ppt/media/image1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816C0-97F4-4D8F-90F6-82ED50A64FA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A4E1C-8C3F-40A9-860C-200BC626083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F3BF-9502-4487-B098-633133562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CD0C-3F46-4900-842C-92C329F32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0E0D-EC38-4720-B646-98419E2E7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0B37-5F96-4B95-B4F1-246A52288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692B3-6E8C-41B6-9A2B-92920C08B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D0F82-DFED-4491-BAB2-D50B6E964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F124E-1CBA-4718-B10E-FD04F3BCE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453AD-AA03-4B9C-9634-1D482225C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42444-7B04-4B2C-A37A-9CF62A190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C6985-B596-434F-A538-1C25C3D0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41719-4CC9-4BD8-BE5C-E5D0DC87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C56D-855E-4C1D-9528-72838A541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3EAFD-A9A1-4FC3-970B-C330DE18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B3D52-B679-4309-AF3A-E7CF132A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C00A8-354A-4FA1-93DB-61B744709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17E08-D2BB-436C-9E42-46958F6CC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90EAC-754F-40D0-906B-CA4861125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C0BB5-566B-4518-B38B-F8D031318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2E524-D006-4D7B-88F0-97E0A17CF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5089D-2B42-4CA0-A11B-138D5B3FA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2852A-EB55-4026-BBD8-EF1C526B2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5E682-7E6A-4769-80E2-3868717AC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BC02-5384-4398-B64A-FA683F83E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1A055-793B-4E7A-9788-E990D378E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1A0B9-1453-4F38-A373-F96700AA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26A02-6829-4B58-84EC-D72BC276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6D009-97E9-46BC-8452-3A2CD50E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09321-1B81-4997-BC03-38BD8E96B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BF9E7-EFD6-4D73-8C9C-9E6BA0636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06434-A50A-4575-9361-410C3FDE5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F14C8-0D38-4670-BD04-855FFC955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F0E46-8210-4E7A-A391-1DBC7C759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CDB86-F19A-405A-AF36-ABCA0DA08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400D-3A45-4861-951F-7471A2FE5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7E916-0CD6-4CFD-A648-39039CCF9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02485-13E8-4139-97D0-7A0C5E78F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82937-57E1-4DAC-93DB-C0DEE480D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F3F2A-B00C-4334-A056-3CE84259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E7662-0B7D-4CD3-88ED-02FE51AC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91D42-7636-437A-BB01-F958D439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9757B-D0F3-4819-8BFC-462D80C30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DF50A-3D1C-4B86-B5D0-E66CA8337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FEE2C-84EF-415E-8FC5-C68057F48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DEE2A-8C71-46CF-A2A0-582D5741E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5AC1-3E9C-4349-A6F6-F0BFAB60D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4E025-79C3-4573-9EE9-3F763788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CAB0E-8CDE-40A6-B6FD-0CBFD031E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BC8BF-4745-47A9-9F73-1DC1F5AC0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9807B-B937-4646-8AD2-DC71C8D81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7303D-E4C2-434A-A06B-789CE9451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D5AE3-D30C-41D4-8240-6169904C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26527-D10A-4BF7-8393-1EC4907D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50A31-BB90-4CB6-AA2F-DE7BF6F3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B5261-BACD-4886-9233-AEF4816F3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D0B98-6BEE-4E5C-938C-6CE459471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90BD-5AED-4C14-A22D-272BCB8A2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1B89B-30C4-4ABA-BA16-8F88D49BC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CF2F2-CACA-482B-A8D1-7A025A2B8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C702F-8D24-49EB-AD34-071CC2F67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10EE6-FEA9-40E7-87A9-10980D5F9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C59723-0244-427C-8C42-C2AD21A35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063F9-9C96-442D-A99F-8FE41ABF8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547DE-C33C-4633-9B41-357A5603C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7F99E-53E5-4F14-9341-1DED96A5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F00A3-ED01-4216-AEFE-FB25F575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65AF6-5024-46EF-904B-AD3572D5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DD47-D82D-42C8-AC53-94527AE4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62419-C114-46BB-A388-52349204D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1244C-0816-4B9A-A929-D49B26A55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E6033-57AF-4870-AF35-EBBBC1EAA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05393-DEF5-43D2-9622-88DE8E0F8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B34629-DC19-49ED-A298-DAF56F2AD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75911-4924-48F4-A878-18F5F318E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ED7626-48D6-464D-98EF-6DA14936C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C03F7-058D-4388-92B8-D57683F74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C1ACA-C260-44FE-9199-E8A691652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A3BA6-425C-4100-BF4A-2D91C08F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4CB6-7CBA-49FD-A167-C946F491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B5F17-F076-4B9B-A399-0771FFBB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8C484-9DD1-4455-8B7C-8B3C3C57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DDBA48-0D35-4ACC-8ADC-FEA216CF2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2CE15-59D1-41B2-B06F-7BE6AAAB7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CE64C-0726-48AF-9E3D-0C1EC6B4D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1FD02B-62F9-47E4-9A29-A12F649A2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2FA7AD-D8C6-4D47-A8C2-6FAD30DA3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9B11CF-40FB-4AC5-BDBD-34B007CB7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42C35B-BC30-4398-B2BE-40392B9ED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BA80E0-6819-4FF8-B736-BF3A902FF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6565-B2B0-4CE3-8FCB-BD7D997C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F5EB37-748C-4E93-95B5-14FDB275D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06EF5-C7B7-42B0-A95B-14E6A1DE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BBC137-6335-4948-B784-39D232FD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4036F-02DE-4FAE-8EE6-F98944F1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20A4E6-2821-4225-B905-9645369A2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8EBBCB-3C7E-4AAA-980A-EF6A65944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3281F2-E556-48CF-8341-5D6E62AA8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55744-4D91-4757-9F33-678762A6A4A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4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57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8609F-3E99-41A1-9E56-0FC0088B279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Прямая соединительная линия 6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0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FB006-99B2-44C4-B0BE-BBCC1607474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0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45" name="Прямая соединительная линия 10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6A0AB-2E37-4EB7-99B4-1D43A73AF9B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072AD-3F53-4E9E-9C55-EAD04302244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Прямая соединительная линия 7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30" name="Прямая соединительная линия 7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426DD-A827-4BE9-9C56-AD49D5EB793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98D33-A933-42A0-9DAB-49CED18F828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4BC1B-04D0-4869-B2B7-9726BF6CA4A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1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image" Target="../media/image21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2.png"/><Relationship Id="rId4" Type="http://schemas.openxmlformats.org/officeDocument/2006/relationships/image" Target="../media/image16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73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WordArt 5"/>
          <p:cNvSpPr txBox="1"/>
          <p:nvPr/>
        </p:nvSpPr>
        <p:spPr>
          <a:xfrm rot="20731800">
            <a:off x="533520" y="2133720"/>
            <a:ext cx="792468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7110000"/>
                </a:gra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Comic Sans MS"/>
              </a:rPr>
              <a:t>"Что вокруг нас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7110000"/>
              </a:gra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7110000"/>
                </a:gra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Comic Sans MS"/>
              </a:rPr>
              <a:t>может быть опасным?"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7110000"/>
              </a:gra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363" name="Picture 6" descr="98734"/>
          <p:cNvPicPr/>
          <p:nvPr/>
        </p:nvPicPr>
        <p:blipFill>
          <a:blip r:embed="rId1"/>
          <a:stretch/>
        </p:blipFill>
        <p:spPr>
          <a:xfrm>
            <a:off x="304920" y="1371600"/>
            <a:ext cx="1850760" cy="19051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dis150"/>
          <p:cNvPicPr/>
          <p:nvPr/>
        </p:nvPicPr>
        <p:blipFill>
          <a:blip r:embed="rId2"/>
          <a:stretch/>
        </p:blipFill>
        <p:spPr>
          <a:xfrm>
            <a:off x="6019920" y="3848040"/>
            <a:ext cx="2508120" cy="30099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8" descr="dis149"/>
          <p:cNvPicPr/>
          <p:nvPr/>
        </p:nvPicPr>
        <p:blipFill>
          <a:blip r:embed="rId3"/>
          <a:stretch/>
        </p:blipFill>
        <p:spPr>
          <a:xfrm>
            <a:off x="6095880" y="3695760"/>
            <a:ext cx="2635200" cy="316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Заголовок 1" descr=""/>
          <p:cNvPicPr/>
          <p:nvPr/>
        </p:nvPicPr>
        <p:blipFill>
          <a:blip r:embed="rId1"/>
          <a:stretch/>
        </p:blipFill>
        <p:spPr>
          <a:xfrm>
            <a:off x="304920" y="-115920"/>
            <a:ext cx="8686800" cy="341964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0" spc="-1" strike="noStrike">
                <a:solidFill>
                  <a:srgbClr val="ff0000"/>
                </a:solidFill>
                <a:latin typeface="Franklin Gothic Book"/>
              </a:rPr>
              <a:t>01</a:t>
            </a:r>
            <a:endParaRPr b="0" lang="en-US" sz="20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dissolv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Заголовок 1" descr=""/>
          <p:cNvPicPr/>
          <p:nvPr/>
        </p:nvPicPr>
        <p:blipFill>
          <a:blip r:embed="rId1"/>
          <a:stretch/>
        </p:blipFill>
        <p:spPr>
          <a:xfrm>
            <a:off x="304920" y="-115920"/>
            <a:ext cx="8686800" cy="341964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0" spc="-1" strike="noStrike">
                <a:solidFill>
                  <a:srgbClr val="ff0000"/>
                </a:solidFill>
                <a:latin typeface="Franklin Gothic Book"/>
              </a:rPr>
              <a:t>03</a:t>
            </a:r>
            <a:endParaRPr b="0" lang="en-US" sz="20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dissolve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C:\Documents and Settings\Admin\Рабочий стол\Презентации\Муравей Вопросик.jpg"/>
          <p:cNvPicPr/>
          <p:nvPr/>
        </p:nvPicPr>
        <p:blipFill>
          <a:blip r:embed="rId1"/>
          <a:stretch/>
        </p:blipFill>
        <p:spPr>
          <a:xfrm>
            <a:off x="7572240" y="4572000"/>
            <a:ext cx="1408320" cy="2139840"/>
          </a:xfrm>
          <a:prstGeom prst="rect">
            <a:avLst/>
          </a:prstGeom>
          <a:ln w="0">
            <a:noFill/>
          </a:ln>
        </p:spPr>
      </p:pic>
      <p:sp>
        <p:nvSpPr>
          <p:cNvPr id="400" name="Выноска-облако 4"/>
          <p:cNvSpPr/>
          <p:nvPr/>
        </p:nvSpPr>
        <p:spPr>
          <a:xfrm>
            <a:off x="5143680" y="2500200"/>
            <a:ext cx="3857400" cy="1857600"/>
          </a:xfrm>
          <a:prstGeom prst="cloudCallout">
            <a:avLst>
              <a:gd name="adj1" fmla="val 10773"/>
              <a:gd name="adj2" fmla="val 87226"/>
            </a:avLst>
          </a:prstGeom>
          <a:gradFill rotWithShape="0">
            <a:gsLst>
              <a:gs pos="0">
                <a:srgbClr val="ffe4c3"/>
              </a:gs>
              <a:gs pos="100000">
                <a:srgbClr val="ffb52e"/>
              </a:gs>
            </a:gsLst>
            <a:lin ang="5400000"/>
          </a:gradFill>
          <a:ln w="10080">
            <a:solidFill>
              <a:srgbClr val="f0a22e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Medium"/>
              </a:rPr>
              <a:t>От каких  предметов можно получить травмы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" descr="Картинка 5 из 13561"/>
          <p:cNvPicPr/>
          <p:nvPr/>
        </p:nvPicPr>
        <p:blipFill>
          <a:blip r:embed="rId2"/>
          <a:stretch/>
        </p:blipFill>
        <p:spPr>
          <a:xfrm>
            <a:off x="857160" y="1000080"/>
            <a:ext cx="1790640" cy="12175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6" descr="Картинка 61 из 45708"/>
          <p:cNvPicPr/>
          <p:nvPr/>
        </p:nvPicPr>
        <p:blipFill>
          <a:blip r:embed="rId3"/>
          <a:stretch/>
        </p:blipFill>
        <p:spPr>
          <a:xfrm>
            <a:off x="3500280" y="785880"/>
            <a:ext cx="1886040" cy="19620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8" descr="Картинка 103 из 89625"/>
          <p:cNvPicPr/>
          <p:nvPr/>
        </p:nvPicPr>
        <p:blipFill>
          <a:blip r:embed="rId4"/>
          <a:stretch/>
        </p:blipFill>
        <p:spPr>
          <a:xfrm>
            <a:off x="6786720" y="857160"/>
            <a:ext cx="2071440" cy="15001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0" descr="Картинка 204 из 34412"/>
          <p:cNvPicPr/>
          <p:nvPr/>
        </p:nvPicPr>
        <p:blipFill>
          <a:blip r:embed="rId5"/>
          <a:stretch/>
        </p:blipFill>
        <p:spPr>
          <a:xfrm>
            <a:off x="1332000" y="2565360"/>
            <a:ext cx="3144600" cy="264312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2" descr="Картинка 43 из 29263"/>
          <p:cNvPicPr/>
          <p:nvPr/>
        </p:nvPicPr>
        <p:blipFill>
          <a:blip r:embed="rId6"/>
          <a:stretch/>
        </p:blipFill>
        <p:spPr>
          <a:xfrm>
            <a:off x="3708360" y="4653000"/>
            <a:ext cx="3500640" cy="15922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8" descr="Картинка 68 из 38438"/>
          <p:cNvPicPr/>
          <p:nvPr/>
        </p:nvPicPr>
        <p:blipFill>
          <a:blip r:embed="rId7"/>
          <a:stretch/>
        </p:blipFill>
        <p:spPr>
          <a:xfrm>
            <a:off x="324000" y="4653000"/>
            <a:ext cx="1714320" cy="17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1" descr="C:\Documents and Settings\Admin\Рабочий стол\Презентации\Мудрая Черепаха.jpg"/>
          <p:cNvPicPr/>
          <p:nvPr/>
        </p:nvPicPr>
        <p:blipFill>
          <a:blip r:embed="rId1"/>
          <a:stretch/>
        </p:blipFill>
        <p:spPr>
          <a:xfrm>
            <a:off x="285840" y="4572000"/>
            <a:ext cx="2286000" cy="2048040"/>
          </a:xfrm>
          <a:prstGeom prst="rect">
            <a:avLst/>
          </a:prstGeom>
          <a:ln w="0">
            <a:noFill/>
          </a:ln>
        </p:spPr>
      </p:pic>
      <p:sp>
        <p:nvSpPr>
          <p:cNvPr id="408" name="Выноска-облако 2"/>
          <p:cNvSpPr/>
          <p:nvPr/>
        </p:nvSpPr>
        <p:spPr>
          <a:xfrm>
            <a:off x="142920" y="714240"/>
            <a:ext cx="6215040" cy="2786040"/>
          </a:xfrm>
          <a:prstGeom prst="cloudCallout">
            <a:avLst>
              <a:gd name="adj1" fmla="val -9250"/>
              <a:gd name="adj2" fmla="val 100759"/>
            </a:avLst>
          </a:prstGeom>
          <a:gradFill rotWithShape="0">
            <a:gsLst>
              <a:gs pos="0">
                <a:srgbClr val="ffe4c3"/>
              </a:gs>
              <a:gs pos="100000">
                <a:srgbClr val="ffb52e"/>
              </a:gs>
            </a:gsLst>
            <a:lin ang="5400000"/>
          </a:gradFill>
          <a:ln w="10080">
            <a:solidFill>
              <a:srgbClr val="f0a22e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Medium"/>
              </a:rPr>
              <a:t>Ребята! Даже самые обычные вещи могут оказаться опасными, если                                                                                    с ними неосторожно или неправильно обращаться. Будьте внимательным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3" descr="Картинка 2 из 8190"/>
          <p:cNvPicPr/>
          <p:nvPr/>
        </p:nvPicPr>
        <p:blipFill>
          <a:blip r:embed="rId2"/>
          <a:stretch/>
        </p:blipFill>
        <p:spPr>
          <a:xfrm>
            <a:off x="4786200" y="3429000"/>
            <a:ext cx="3786480" cy="303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2" descr="Картинка 26 из 22987"/>
          <p:cNvPicPr/>
          <p:nvPr/>
        </p:nvPicPr>
        <p:blipFill>
          <a:blip r:embed="rId1"/>
          <a:stretch/>
        </p:blipFill>
        <p:spPr>
          <a:xfrm>
            <a:off x="142920" y="2571840"/>
            <a:ext cx="4857840" cy="40194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" descr="C:\Documents and Settings\Admin\Рабочий стол\Презентации\Муравей Вопросик.jpg"/>
          <p:cNvPicPr/>
          <p:nvPr/>
        </p:nvPicPr>
        <p:blipFill>
          <a:blip r:embed="rId2"/>
          <a:stretch/>
        </p:blipFill>
        <p:spPr>
          <a:xfrm>
            <a:off x="7572240" y="4572000"/>
            <a:ext cx="1408320" cy="2139840"/>
          </a:xfrm>
          <a:prstGeom prst="rect">
            <a:avLst/>
          </a:prstGeom>
          <a:ln w="0">
            <a:noFill/>
          </a:ln>
        </p:spPr>
      </p:pic>
      <p:sp>
        <p:nvSpPr>
          <p:cNvPr id="412" name="Выноска-облако 4"/>
          <p:cNvSpPr/>
          <p:nvPr/>
        </p:nvSpPr>
        <p:spPr>
          <a:xfrm>
            <a:off x="4357800" y="857160"/>
            <a:ext cx="4572000" cy="2786040"/>
          </a:xfrm>
          <a:prstGeom prst="cloudCallout">
            <a:avLst>
              <a:gd name="adj1" fmla="val 17935"/>
              <a:gd name="adj2" fmla="val 93652"/>
            </a:avLst>
          </a:prstGeom>
          <a:gradFill rotWithShape="0">
            <a:gsLst>
              <a:gs pos="0">
                <a:srgbClr val="ffe4c3"/>
              </a:gs>
              <a:gs pos="100000">
                <a:srgbClr val="ffb52e"/>
              </a:gs>
            </a:gsLst>
            <a:lin ang="5400000"/>
          </a:gradFill>
          <a:ln w="10080">
            <a:solidFill>
              <a:srgbClr val="f0a22e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Medium"/>
              </a:rPr>
              <a:t>Мы рассмотрели предметы, которые могут оказаться опасными дома.                           А что может быть опасно на улиц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Прямоугольник 7"/>
          <p:cNvSpPr/>
          <p:nvPr/>
        </p:nvSpPr>
        <p:spPr>
          <a:xfrm>
            <a:off x="428760" y="714240"/>
            <a:ext cx="42861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Medium"/>
              </a:rPr>
              <a:t>СВЕТОФОР ДЛЯ ТРАНСПО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10" descr="Картинка 37 из 15555"/>
          <p:cNvPicPr/>
          <p:nvPr/>
        </p:nvPicPr>
        <p:blipFill>
          <a:blip r:embed="rId1"/>
          <a:stretch/>
        </p:blipFill>
        <p:spPr>
          <a:xfrm>
            <a:off x="1071720" y="1357200"/>
            <a:ext cx="6823080" cy="5357880"/>
          </a:xfrm>
          <a:prstGeom prst="rect">
            <a:avLst/>
          </a:prstGeom>
          <a:ln w="0">
            <a:noFill/>
          </a:ln>
        </p:spPr>
      </p:pic>
      <p:sp>
        <p:nvSpPr>
          <p:cNvPr id="415" name="Прямоугольник 8"/>
          <p:cNvSpPr/>
          <p:nvPr/>
        </p:nvSpPr>
        <p:spPr>
          <a:xfrm>
            <a:off x="4643280" y="6072120"/>
            <a:ext cx="4357800" cy="642960"/>
          </a:xfrm>
          <a:prstGeom prst="rect">
            <a:avLst/>
          </a:prstGeom>
          <a:solidFill>
            <a:srgbClr val="00ffff"/>
          </a:solidFill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Medium"/>
              </a:rPr>
              <a:t>СВЕТОФОР ДЛЯ ПЕШЕХ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Прямоугольник 2"/>
          <p:cNvSpPr/>
          <p:nvPr/>
        </p:nvSpPr>
        <p:spPr>
          <a:xfrm>
            <a:off x="142920" y="5715000"/>
            <a:ext cx="2857320" cy="714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Medium"/>
              </a:rPr>
              <a:t>ПЕШЕХОДНЫЙ ПЕРЕ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Картинка 2 из 5819"/>
          <p:cNvPicPr/>
          <p:nvPr/>
        </p:nvPicPr>
        <p:blipFill>
          <a:blip r:embed="rId1"/>
          <a:stretch/>
        </p:blipFill>
        <p:spPr>
          <a:xfrm>
            <a:off x="3143160" y="857160"/>
            <a:ext cx="5500800" cy="5570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wheel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5" descr="D:\Общие документы\КАРТИНКИ\ШКОЛА\ПДД\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85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2" descr="Картинка 2 из 5819"/>
          <p:cNvPicPr/>
          <p:nvPr/>
        </p:nvPicPr>
        <p:blipFill>
          <a:blip r:embed="rId2"/>
          <a:stretch/>
        </p:blipFill>
        <p:spPr>
          <a:xfrm>
            <a:off x="2286000" y="0"/>
            <a:ext cx="1714680" cy="15001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AutoShape 5"/>
          <p:cNvSpPr/>
          <p:nvPr/>
        </p:nvSpPr>
        <p:spPr>
          <a:xfrm>
            <a:off x="2124000" y="-100080"/>
            <a:ext cx="6477120" cy="6248520"/>
          </a:xfrm>
          <a:prstGeom prst="irregularSeal2">
            <a:avLst/>
          </a:prstGeom>
          <a:solidFill>
            <a:srgbClr val="ffff00"/>
          </a:solidFill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WordArt 6"/>
          <p:cNvSpPr txBox="1"/>
          <p:nvPr/>
        </p:nvSpPr>
        <p:spPr>
          <a:xfrm>
            <a:off x="3059280" y="1125360"/>
            <a:ext cx="4176720" cy="376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onotype Corsiva"/>
              </a:rPr>
              <a:t>Спасибо</a:t>
            </a:r>
            <a:endParaRPr b="1" lang="en-US" sz="1800" spc="1" strike="noStrike">
              <a:ln w="316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onotype Corsiva"/>
              </a:rPr>
              <a:t>за</a:t>
            </a:r>
            <a:endParaRPr b="1" lang="en-US" sz="1800" spc="1" strike="noStrike">
              <a:ln w="316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onotype Corsiva"/>
              </a:rPr>
              <a:t>внимание!</a:t>
            </a:r>
            <a:endParaRPr b="1" lang="en-US" sz="1800" spc="1" strike="noStrike">
              <a:ln w="316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422" name="Picture 1" descr="C:\Documents and Settings\Admin\Рабочий стол\Презентации\Мудрая Черепаха.jpg"/>
          <p:cNvPicPr/>
          <p:nvPr/>
        </p:nvPicPr>
        <p:blipFill>
          <a:blip r:embed="rId1"/>
          <a:stretch/>
        </p:blipFill>
        <p:spPr>
          <a:xfrm>
            <a:off x="179280" y="4076640"/>
            <a:ext cx="2286000" cy="20480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Admin\Рабочий стол\Презентации\Муравей Вопросик.jpg"/>
          <p:cNvPicPr/>
          <p:nvPr/>
        </p:nvPicPr>
        <p:blipFill>
          <a:blip r:embed="rId2"/>
          <a:stretch/>
        </p:blipFill>
        <p:spPr>
          <a:xfrm>
            <a:off x="7572240" y="4572000"/>
            <a:ext cx="1408320" cy="213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01439"/>
                                      </p:to>
                                    </p:animClr>
                                    <p:animClr clrSpc="rgb">
                                      <p:cBhvr>
                                        <p:cTn id="4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01439"/>
                                      </p:to>
                                    </p:animClr>
                                    <p:set>
                                      <p:cBhvr>
                                        <p:cTn id="4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1" descr="C:\Documents and Settings\Admin\Рабочий стол\Презентации\Мудрая Черепаха.jpg"/>
          <p:cNvPicPr/>
          <p:nvPr/>
        </p:nvPicPr>
        <p:blipFill>
          <a:blip r:embed="rId1"/>
          <a:stretch/>
        </p:blipFill>
        <p:spPr>
          <a:xfrm>
            <a:off x="285840" y="4572000"/>
            <a:ext cx="2286000" cy="2048040"/>
          </a:xfrm>
          <a:prstGeom prst="rect">
            <a:avLst/>
          </a:prstGeom>
          <a:ln w="0">
            <a:noFill/>
          </a:ln>
        </p:spPr>
      </p:pic>
      <p:sp>
        <p:nvSpPr>
          <p:cNvPr id="367" name="Выноска-облако 2"/>
          <p:cNvSpPr/>
          <p:nvPr/>
        </p:nvSpPr>
        <p:spPr>
          <a:xfrm>
            <a:off x="142920" y="785880"/>
            <a:ext cx="6643800" cy="2786040"/>
          </a:xfrm>
          <a:prstGeom prst="cloudCallout">
            <a:avLst>
              <a:gd name="adj1" fmla="val -12824"/>
              <a:gd name="adj2" fmla="val 104060"/>
            </a:avLst>
          </a:prstGeom>
          <a:gradFill rotWithShape="0">
            <a:gsLst>
              <a:gs pos="0">
                <a:srgbClr val="ffe4c3"/>
              </a:gs>
              <a:gs pos="100000">
                <a:srgbClr val="ffb52e"/>
              </a:gs>
            </a:gsLst>
            <a:lin ang="5400000"/>
          </a:gradFill>
          <a:ln w="10080">
            <a:solidFill>
              <a:srgbClr val="f0a22e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Medium"/>
              </a:rPr>
              <a:t>Придя домой мы привыкли чувствовать себя уютно, комфортно и спокойно.  Нам даже в голову не приходит, что дома нас могут поджидать какие-то опас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4" descr="C:\Users\1\Pictures\КАРТИНКИ\АНИМИРОВАННЫЕ КАРТИНКИ\1 (363).gif"/>
          <p:cNvPicPr/>
          <p:nvPr/>
        </p:nvPicPr>
        <p:blipFill>
          <a:blip r:embed="rId2"/>
          <a:stretch/>
        </p:blipFill>
        <p:spPr>
          <a:xfrm>
            <a:off x="4071960" y="3786120"/>
            <a:ext cx="4932360" cy="29289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3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4" descr="Картинка 16 из 9711"/>
          <p:cNvPicPr/>
          <p:nvPr/>
        </p:nvPicPr>
        <p:blipFill>
          <a:blip r:embed="rId1"/>
          <a:stretch/>
        </p:blipFill>
        <p:spPr>
          <a:xfrm>
            <a:off x="7500960" y="785880"/>
            <a:ext cx="1504800" cy="185724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" descr="C:\Documents and Settings\Admin\Рабочий стол\Презентации\Муравей Вопросик.jpg"/>
          <p:cNvPicPr/>
          <p:nvPr/>
        </p:nvPicPr>
        <p:blipFill>
          <a:blip r:embed="rId2"/>
          <a:stretch/>
        </p:blipFill>
        <p:spPr>
          <a:xfrm>
            <a:off x="7572240" y="4572000"/>
            <a:ext cx="1408320" cy="2139840"/>
          </a:xfrm>
          <a:prstGeom prst="rect">
            <a:avLst/>
          </a:prstGeom>
          <a:ln w="0">
            <a:noFill/>
          </a:ln>
        </p:spPr>
      </p:pic>
      <p:sp>
        <p:nvSpPr>
          <p:cNvPr id="371" name="Выноска-облако 4"/>
          <p:cNvSpPr/>
          <p:nvPr/>
        </p:nvSpPr>
        <p:spPr>
          <a:xfrm>
            <a:off x="5143680" y="2857680"/>
            <a:ext cx="3857400" cy="1857240"/>
          </a:xfrm>
          <a:prstGeom prst="cloudCallout">
            <a:avLst>
              <a:gd name="adj1" fmla="val 10773"/>
              <a:gd name="adj2" fmla="val 87226"/>
            </a:avLst>
          </a:prstGeom>
          <a:gradFill rotWithShape="0">
            <a:gsLst>
              <a:gs pos="0">
                <a:srgbClr val="ffe4c3"/>
              </a:gs>
              <a:gs pos="100000">
                <a:srgbClr val="ffb52e"/>
              </a:gs>
            </a:gsLst>
            <a:lin ang="5400000"/>
          </a:gradFill>
          <a:ln w="10080">
            <a:solidFill>
              <a:srgbClr val="f0a22e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Medium"/>
              </a:rPr>
              <a:t>Какие опасности могут нести изображенные предмет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2" descr="Картинка 498 из 45066"/>
          <p:cNvPicPr/>
          <p:nvPr/>
        </p:nvPicPr>
        <p:blipFill>
          <a:blip r:embed="rId3"/>
          <a:stretch/>
        </p:blipFill>
        <p:spPr>
          <a:xfrm>
            <a:off x="5072040" y="857160"/>
            <a:ext cx="2000160" cy="20005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8" descr="Картинка 18 из 33843"/>
          <p:cNvPicPr/>
          <p:nvPr/>
        </p:nvPicPr>
        <p:blipFill>
          <a:blip r:embed="rId4"/>
          <a:stretch/>
        </p:blipFill>
        <p:spPr>
          <a:xfrm>
            <a:off x="5000760" y="5143680"/>
            <a:ext cx="2357280" cy="17143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0" descr="Картинка 15 из 52678"/>
          <p:cNvPicPr/>
          <p:nvPr/>
        </p:nvPicPr>
        <p:blipFill>
          <a:blip r:embed="rId5"/>
          <a:stretch/>
        </p:blipFill>
        <p:spPr>
          <a:xfrm>
            <a:off x="0" y="3857760"/>
            <a:ext cx="2214720" cy="28954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2" descr="Картинка 25 из 122214"/>
          <p:cNvPicPr/>
          <p:nvPr/>
        </p:nvPicPr>
        <p:blipFill>
          <a:blip r:embed="rId6"/>
          <a:stretch/>
        </p:blipFill>
        <p:spPr>
          <a:xfrm>
            <a:off x="285840" y="1000080"/>
            <a:ext cx="1714320" cy="27320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4" descr="Картинка 64 из 257628"/>
          <p:cNvPicPr/>
          <p:nvPr/>
        </p:nvPicPr>
        <p:blipFill>
          <a:blip r:embed="rId7"/>
          <a:stretch/>
        </p:blipFill>
        <p:spPr>
          <a:xfrm>
            <a:off x="2643120" y="3000240"/>
            <a:ext cx="2000160" cy="18478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6" descr="Картинка 9 из 45806"/>
          <p:cNvPicPr/>
          <p:nvPr/>
        </p:nvPicPr>
        <p:blipFill>
          <a:blip r:embed="rId8"/>
          <a:stretch/>
        </p:blipFill>
        <p:spPr>
          <a:xfrm>
            <a:off x="2643120" y="714240"/>
            <a:ext cx="2000160" cy="20005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8" descr="Картинка 20 из 220267"/>
          <p:cNvPicPr/>
          <p:nvPr/>
        </p:nvPicPr>
        <p:blipFill>
          <a:blip r:embed="rId9"/>
          <a:stretch/>
        </p:blipFill>
        <p:spPr>
          <a:xfrm>
            <a:off x="2928960" y="5072040"/>
            <a:ext cx="1643040" cy="1655640"/>
          </a:xfrm>
          <a:prstGeom prst="rect">
            <a:avLst/>
          </a:prstGeom>
          <a:ln w="0">
            <a:noFill/>
          </a:ln>
        </p:spPr>
      </p:pic>
    </p:spTree>
  </p:cSld>
  <p:transition spd="slow">
    <p:wheel/>
    <p:sndAc>
      <p:stSnd>
        <p:snd r:embed="rId10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Прямоугольник 5"/>
          <p:cNvSpPr/>
          <p:nvPr/>
        </p:nvSpPr>
        <p:spPr>
          <a:xfrm>
            <a:off x="5643720" y="1214280"/>
            <a:ext cx="3357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Medium"/>
              </a:rPr>
              <a:t>Надо помнить, что газ – опасное вещество. Если не закрывать конфорку, газ будет распространяться по помещению. Малейшая искра может привести к взрыву. Поэтому, чтобы избежать утечек, уходя из квартиры, надо перекрывать подачу газа специальным кра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12" descr="Картинка 25 из 122214"/>
          <p:cNvPicPr/>
          <p:nvPr/>
        </p:nvPicPr>
        <p:blipFill>
          <a:blip r:embed="rId1"/>
          <a:stretch/>
        </p:blipFill>
        <p:spPr>
          <a:xfrm>
            <a:off x="395280" y="907920"/>
            <a:ext cx="4824360" cy="5616720"/>
          </a:xfrm>
          <a:prstGeom prst="rect">
            <a:avLst/>
          </a:prstGeom>
          <a:ln w="0">
            <a:noFill/>
          </a:ln>
        </p:spPr>
      </p:pic>
    </p:spTree>
  </p:cSld>
  <p:transition spd="slow">
    <p:wheel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Заголовок 1" descr=""/>
          <p:cNvPicPr/>
          <p:nvPr/>
        </p:nvPicPr>
        <p:blipFill>
          <a:blip r:embed="rId1"/>
          <a:stretch/>
        </p:blipFill>
        <p:spPr>
          <a:xfrm>
            <a:off x="-42840" y="109440"/>
            <a:ext cx="9375840" cy="220032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0" spc="-1" strike="noStrike">
                <a:solidFill>
                  <a:srgbClr val="ff0000"/>
                </a:solidFill>
                <a:latin typeface="Franklin Gothic Book"/>
              </a:rPr>
              <a:t>04</a:t>
            </a:r>
            <a:endParaRPr b="0" lang="en-US" sz="20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dissolve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3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7201080" cy="3168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2" descr="Картинка 498 из 45066"/>
          <p:cNvPicPr/>
          <p:nvPr/>
        </p:nvPicPr>
        <p:blipFill>
          <a:blip r:embed="rId1"/>
          <a:stretch/>
        </p:blipFill>
        <p:spPr>
          <a:xfrm>
            <a:off x="6659640" y="4076640"/>
            <a:ext cx="2000160" cy="20001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0" descr="Картинка 15 из 52678"/>
          <p:cNvPicPr/>
          <p:nvPr/>
        </p:nvPicPr>
        <p:blipFill>
          <a:blip r:embed="rId2"/>
          <a:stretch/>
        </p:blipFill>
        <p:spPr>
          <a:xfrm>
            <a:off x="250920" y="3357720"/>
            <a:ext cx="2214360" cy="28936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14" descr="Картинка 64 из 257628"/>
          <p:cNvPicPr/>
          <p:nvPr/>
        </p:nvPicPr>
        <p:blipFill>
          <a:blip r:embed="rId3"/>
          <a:stretch/>
        </p:blipFill>
        <p:spPr>
          <a:xfrm>
            <a:off x="3780000" y="3284640"/>
            <a:ext cx="2000160" cy="1847880"/>
          </a:xfrm>
          <a:prstGeom prst="rect">
            <a:avLst/>
          </a:prstGeom>
          <a:ln w="0">
            <a:noFill/>
          </a:ln>
        </p:spPr>
      </p:pic>
      <p:pic>
        <p:nvPicPr>
          <p:cNvPr id="387" name="Заголовок 4" descr=""/>
          <p:cNvPicPr/>
          <p:nvPr/>
        </p:nvPicPr>
        <p:blipFill>
          <a:blip r:embed="rId4"/>
          <a:stretch/>
        </p:blipFill>
        <p:spPr>
          <a:xfrm>
            <a:off x="384120" y="401760"/>
            <a:ext cx="8004240" cy="27018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1187280" y="2205000"/>
            <a:ext cx="6639120" cy="719280"/>
          </a:xfrm>
          <a:prstGeom prst="rect">
            <a:avLst/>
          </a:prstGeom>
          <a:noFill/>
          <a:ln w="0">
            <a:noFill/>
          </a:ln>
        </p:spPr>
        <p:txBody>
          <a:bodyPr lIns="109800" tIns="0" anchor="t">
            <a:normAutofit/>
          </a:bodyPr>
          <a:p>
            <a:pPr indent="0" algn="ctr">
              <a:lnSpc>
                <a:spcPct val="8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3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ctr">
              <a:lnSpc>
                <a:spcPct val="8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3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wheel spokes="8"/>
    <p:sndAc>
      <p:stSnd>
        <p:snd r:embed="rId5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Облако 15"/>
          <p:cNvSpPr/>
          <p:nvPr/>
        </p:nvSpPr>
        <p:spPr>
          <a:xfrm>
            <a:off x="785880" y="333360"/>
            <a:ext cx="8358120" cy="2303640"/>
          </a:xfrm>
          <a:prstGeom prst="pie">
            <a:avLst/>
          </a:prstGeom>
          <a:solidFill>
            <a:srgbClr val="e1d1cc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Medium"/>
              </a:rPr>
              <a:t>Нельзя выключать прибор из розетки, дёргая его за шнур. Нельзя пользоваться прибором, если повреждён шнур или сломана розет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16" descr="Картинка 9 из 45806"/>
          <p:cNvPicPr/>
          <p:nvPr/>
        </p:nvPicPr>
        <p:blipFill>
          <a:blip r:embed="rId1"/>
          <a:stretch/>
        </p:blipFill>
        <p:spPr>
          <a:xfrm>
            <a:off x="179280" y="2349360"/>
            <a:ext cx="2000520" cy="20005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0" descr="Картинка 15 из 52678"/>
          <p:cNvPicPr/>
          <p:nvPr/>
        </p:nvPicPr>
        <p:blipFill>
          <a:blip r:embed="rId2"/>
          <a:stretch/>
        </p:blipFill>
        <p:spPr>
          <a:xfrm>
            <a:off x="1619280" y="3962520"/>
            <a:ext cx="2214360" cy="289548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" descr="Картинка 498 из 45066"/>
          <p:cNvPicPr/>
          <p:nvPr/>
        </p:nvPicPr>
        <p:blipFill>
          <a:blip r:embed="rId3"/>
          <a:stretch/>
        </p:blipFill>
        <p:spPr>
          <a:xfrm>
            <a:off x="6588000" y="2133720"/>
            <a:ext cx="2000520" cy="20001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14" descr="Картинка 64 из 257628"/>
          <p:cNvPicPr/>
          <p:nvPr/>
        </p:nvPicPr>
        <p:blipFill>
          <a:blip r:embed="rId4"/>
          <a:stretch/>
        </p:blipFill>
        <p:spPr>
          <a:xfrm>
            <a:off x="4788000" y="4797360"/>
            <a:ext cx="2000160" cy="18478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  <p:sndAc>
      <p:stSnd>
        <p:snd r:embed="rId5" name="chimes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2" descr="Картинка 186 из 84811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wind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рия</cp:lastModifiedBy>
  <dcterms:modified xsi:type="dcterms:W3CDTF">2021-11-01T18:43:00Z</dcterms:modified>
  <cp:revision>24</cp:revision>
  <dc:subject/>
  <dc:title>Слайд 1</dc:title>
</cp:coreProperties>
</file>