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5A43-58EE-46EA-9B63-4A1761F9C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894B-F094-4636-B06D-1116EBBE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44B0-E5FA-4459-AED4-20970C2E2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D862-B1E1-4208-B8C6-3F195FAFA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0C17-7A62-43ED-83D2-51578D91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6FE2-B2C9-4062-867A-C450AA74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6F33-B672-4393-860E-B826BE68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D6D7-BB19-4EB8-AB0B-57572FA9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FBF5-A255-4118-AAC3-9C7B8FB3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EB73-0829-4B87-A21E-4EC8D417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0004-E298-49F2-AA3F-F5453F0F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7A12-F64A-4720-B46C-F033F41E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ACDD-FD6D-48FA-8412-FC6AA1A8CD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5" descr="C:\Users\олег\Desktop\פיתוח-אפליקציות-1.jpg"/>
          <p:cNvPicPr/>
          <p:nvPr/>
        </p:nvPicPr>
        <p:blipFill>
          <a:blip r:embed="rId1"/>
          <a:stretch/>
        </p:blipFill>
        <p:spPr>
          <a:xfrm>
            <a:off x="0" y="1897200"/>
            <a:ext cx="9144000" cy="4960800"/>
          </a:xfrm>
          <a:prstGeom prst="rect">
            <a:avLst/>
          </a:prstGeom>
          <a:ln w="0">
            <a:noFill/>
          </a:ln>
        </p:spPr>
      </p:pic>
      <p:sp>
        <p:nvSpPr>
          <p:cNvPr id="44" name="TextBox 7"/>
          <p:cNvSpPr/>
          <p:nvPr/>
        </p:nvSpPr>
        <p:spPr>
          <a:xfrm>
            <a:off x="2133720" y="380880"/>
            <a:ext cx="6019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18th of Dec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dne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videoplayback (online-video-cutter.com)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6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rn new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p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5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o make your dialogue  about sending an-sms messag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ttps://5bucks.ru/wp-content/uploads/2018/09/elektronochka.jpg"/>
          <p:cNvPicPr/>
          <p:nvPr/>
        </p:nvPicPr>
        <p:blipFill>
          <a:blip r:embed="rId1"/>
          <a:stretch/>
        </p:blipFill>
        <p:spPr>
          <a:xfrm>
            <a:off x="5715000" y="373392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0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+</a:t>
            </a:r>
            <a:r>
              <a:rPr b="0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, 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0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+ n, o+ v,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0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+ ther-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ʌ]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  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04560" y="12952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ʌ]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s</a:t>
            </a:r>
            <a:r>
              <a:rPr b="0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, bec</a:t>
            </a:r>
            <a:r>
              <a:rPr b="0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ʌ]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,M</a:t>
            </a:r>
            <a:r>
              <a:rPr b="0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day,am</a:t>
            </a:r>
            <a:r>
              <a:rPr b="0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g,sp</a:t>
            </a:r>
            <a:r>
              <a:rPr b="0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ge,d</a:t>
            </a:r>
            <a:r>
              <a:rPr b="0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ʌ]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</a:t>
            </a:r>
            <a:r>
              <a:rPr b="0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, d</a:t>
            </a:r>
            <a:r>
              <a:rPr b="0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, gl</a:t>
            </a:r>
            <a:r>
              <a:rPr b="0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ʌ]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</a:t>
            </a:r>
            <a:r>
              <a:rPr b="0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, br</a:t>
            </a:r>
            <a:r>
              <a:rPr b="0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, </a:t>
            </a:r>
            <a:r>
              <a:rPr b="0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, an</a:t>
            </a:r>
            <a:r>
              <a:rPr b="0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times for a Monday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one cuts one onion and some cucumb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times for a Sunday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one cuts one onion and some mushroo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+lm,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+sk,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+lf,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+r-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: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]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684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а:]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m,c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а:]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,fl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,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,m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: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]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f,h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: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]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,f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,d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k,p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k parks his car in a car park,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t parks his car in a dark park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Mark didn’t park his car in the car park,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uld Bart park his car in the dark park?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ork in pairs, ask and answer the questions which gadgets you use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. Гаджетами может называться огромное количество устройств, распространённых во всех сферах жизни человека:"/>
          <p:cNvPicPr/>
          <p:nvPr/>
        </p:nvPicPr>
        <p:blipFill>
          <a:blip r:embed="rId1"/>
          <a:stretch/>
        </p:blipFill>
        <p:spPr>
          <a:xfrm>
            <a:off x="380880" y="1295280"/>
            <a:ext cx="8352000" cy="522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s://avatars.mds.yandex.net/get-zen_doc/941737/pub_5d270efefbe6e700ad2e2a76_5d2719868600e100ada88317/scale_1200"/>
          <p:cNvPicPr/>
          <p:nvPr/>
        </p:nvPicPr>
        <p:blipFill>
          <a:blip r:embed="rId1"/>
          <a:stretch/>
        </p:blipFill>
        <p:spPr>
          <a:xfrm>
            <a:off x="0" y="0"/>
            <a:ext cx="5808600" cy="3886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s://hotelier.pro/upload/iblock/358/358817adc41858ec467efa575984e038.jpg"/>
          <p:cNvPicPr/>
          <p:nvPr/>
        </p:nvPicPr>
        <p:blipFill>
          <a:blip r:embed="rId2"/>
          <a:stretch/>
        </p:blipFill>
        <p:spPr>
          <a:xfrm>
            <a:off x="5867280" y="2057400"/>
            <a:ext cx="3276720" cy="188136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6938280" y="83808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457200" y="4952880"/>
            <a:ext cx="911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oes this old man want to do but can`t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s://avatars.mds.yandex.net/get-zen_doc/57035/pub_5d270efefbe6e700ad2e2a76_5d270ff814f98000adfc8e70/scale_1200"/>
          <p:cNvPicPr/>
          <p:nvPr/>
        </p:nvPicPr>
        <p:blipFill>
          <a:blip r:embed="rId1"/>
          <a:stretch/>
        </p:blipFill>
        <p:spPr>
          <a:xfrm>
            <a:off x="304920" y="152280"/>
            <a:ext cx="6237000" cy="449604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1085400" y="5486400"/>
            <a:ext cx="44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 are the boys do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https://hotelier.pro/upload/iblock/358/358817adc41858ec467efa575984e038.jpg"/>
          <p:cNvPicPr/>
          <p:nvPr/>
        </p:nvPicPr>
        <p:blipFill>
          <a:blip r:embed="rId2"/>
          <a:stretch/>
        </p:blipFill>
        <p:spPr>
          <a:xfrm>
            <a:off x="5562720" y="4800600"/>
            <a:ext cx="3276360" cy="188136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7391520" y="1295280"/>
            <a:ext cx="125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iving instructions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s://5bucks.ru/wp-content/uploads/2018/09/elektronochka.jpg"/>
          <p:cNvPicPr/>
          <p:nvPr/>
        </p:nvPicPr>
        <p:blipFill>
          <a:blip r:embed="rId1"/>
          <a:stretch/>
        </p:blipFill>
        <p:spPr>
          <a:xfrm>
            <a:off x="2590920" y="2895480"/>
            <a:ext cx="3962160" cy="3962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ad and mat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523880"/>
            <a:ext cx="40402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the inter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n e-mail add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itch 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mess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‘send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your e-mail accou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952880" y="1447560"/>
            <a:ext cx="381024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жать «отправить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ать доступ к учетной  записи электронной поч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рать адрес электронной поч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ть, подразумев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ир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сообщ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ключаться к сети интерн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Прямая со стрелкой 8"/>
          <p:cNvCxnSpPr/>
          <p:nvPr/>
        </p:nvCxnSpPr>
        <p:spPr>
          <a:xfrm>
            <a:off x="3504240" y="1905120"/>
            <a:ext cx="1524600" cy="35056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" name="Прямая со стрелкой 10"/>
          <p:cNvCxnSpPr/>
          <p:nvPr/>
        </p:nvCxnSpPr>
        <p:spPr>
          <a:xfrm>
            <a:off x="3504960" y="2285640"/>
            <a:ext cx="1448280" cy="76284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Прямая со стрелкой 12"/>
          <p:cNvCxnSpPr/>
          <p:nvPr/>
        </p:nvCxnSpPr>
        <p:spPr>
          <a:xfrm>
            <a:off x="1904760" y="2742840"/>
            <a:ext cx="2896200" cy="106740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1" name="Прямая со стрелкой 16"/>
          <p:cNvCxnSpPr/>
          <p:nvPr/>
        </p:nvCxnSpPr>
        <p:spPr>
          <a:xfrm>
            <a:off x="1523520" y="3505320"/>
            <a:ext cx="3429720" cy="7624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" name="Прямая со стрелкой 19"/>
          <p:cNvCxnSpPr/>
          <p:nvPr/>
        </p:nvCxnSpPr>
        <p:spPr>
          <a:xfrm>
            <a:off x="1294920" y="3962160"/>
            <a:ext cx="3582360" cy="68652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" name="Прямая со стрелкой 21"/>
          <p:cNvCxnSpPr/>
          <p:nvPr/>
        </p:nvCxnSpPr>
        <p:spPr>
          <a:xfrm flipV="1">
            <a:off x="2284920" y="1599840"/>
            <a:ext cx="2515320" cy="282024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Прямая со стрелкой 23"/>
          <p:cNvCxnSpPr/>
          <p:nvPr/>
        </p:nvCxnSpPr>
        <p:spPr>
          <a:xfrm flipV="1">
            <a:off x="4038480" y="2208960"/>
            <a:ext cx="991440" cy="266796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Прямая со стрелкой 28"/>
          <p:cNvCxnSpPr/>
          <p:nvPr/>
        </p:nvCxnSpPr>
        <p:spPr>
          <a:xfrm>
            <a:off x="1981080" y="3123720"/>
            <a:ext cx="3277440" cy="175356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76" name="Picture 2" descr="https://5bucks.ru/wp-content/uploads/2018/09/elektronochka.jpg"/>
          <p:cNvPicPr/>
          <p:nvPr/>
        </p:nvPicPr>
        <p:blipFill>
          <a:blip r:embed="rId1"/>
          <a:stretch/>
        </p:blipFill>
        <p:spPr>
          <a:xfrm>
            <a:off x="0" y="51814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07T17:11:24Z</dcterms:created>
  <dc:creator>олег</dc:creator>
  <dc:description/>
  <dc:language>en-US</dc:language>
  <cp:lastModifiedBy>олег</cp:lastModifiedBy>
  <dcterms:modified xsi:type="dcterms:W3CDTF">2019-12-17T17:10:17Z</dcterms:modified>
  <cp:revision>19</cp:revision>
  <dc:subject/>
  <dc:title>Слайд 1</dc:title>
</cp:coreProperties>
</file>