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832E-FDBB-433D-86BF-ECEBC11B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B4E6-01D3-4A84-858C-719EBF22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805B-2104-4829-ACB4-41346296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76DD-9F50-4DD3-90F3-447B5E26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84DE-3D80-4A3B-B35C-A9E27ECA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BD68-91A5-4A5B-9884-08B5EE2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C851-C632-49BC-AFE8-01E5CA34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A49-1679-4425-87BD-FF9343A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CE7-68D9-4368-A7DA-12B74D2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308-C466-4CE3-8EA2-F0EBFCD1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7248-9228-47AA-8707-9393B20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2994-92FC-4865-8B9F-B107EA27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45E4-A57E-4F5A-9871-BEF9F14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EB73-1BEA-46F1-A285-B499408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B6FB-42FE-46EA-B27D-25517AB1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0962-0497-4B3E-8E3C-54F6396F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837-F62D-479D-9F92-66FD1683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F0EB-6C93-4A00-9011-24A593DC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FAFE-83EF-47D2-BF07-5E30DFC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3A2E-B32C-4E92-8243-29644815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5BDD-50DF-4542-A3BD-1782B2C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E494-F228-4D37-834B-6C97375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2B35-B731-423D-8AF6-C06633E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B92B-5FB9-43AC-B8A2-13E154F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EEB0-6C0F-4D93-BBC4-28E5B6961A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77E-4928-43D8-9974-7E5C6A6DAB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8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генды Михайловского (Инженерного)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Зам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Дидюля - Легенда .mp3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2556000" y="5229360"/>
            <a:ext cx="59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Васильева Ксения и Воробьева Наталья 9а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гласно преданиям, Император предчувствовал свою судьбу, и в последний вечер, выходя из-за стола после ужина, прошептал: "Чему быть, того не миновать"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x_4d4897f5"/>
          <p:cNvPicPr/>
          <p:nvPr/>
        </p:nvPicPr>
        <p:blipFill>
          <a:blip r:embed="rId1"/>
          <a:stretch/>
        </p:blipFill>
        <p:spPr>
          <a:xfrm>
            <a:off x="971640" y="2276640"/>
            <a:ext cx="7416720" cy="4387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51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говаривают, что и в наши времена душа убитого императора иногда посещает свой замо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4" descr="x_01fa4391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51609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x_96ad35f4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2755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пользованные материал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362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обие по истории города. Е. Дмитрие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йт archifact.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вуковое сопровождение: ДиДюЛя - Леген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77480" y="4441680"/>
            <a:ext cx="764388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вторы: Васильева Ксения и Воробьева Наталь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338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хайловский замок -  одно из самых таинственных мест Петербурга. Задуманный как островок спасения несчастного русского императора, замок стал местом его гибели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houses1"/>
          <p:cNvPicPr/>
          <p:nvPr/>
        </p:nvPicPr>
        <p:blipFill>
          <a:blip r:embed="rId1"/>
          <a:stretch/>
        </p:blipFill>
        <p:spPr>
          <a:xfrm>
            <a:off x="3598920" y="1643040"/>
            <a:ext cx="5545080" cy="37800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генда №1.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Явление арханге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99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дной из легенд, часовому, стоявшему в карауле у старого Летнего дворца, явился архангел Михаил и велел на месте Летнего дворца построить храм. Солдат сообщил о явлении ему архангела Павлу I. Император ответил: „Воля его будет исполнена! 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6" descr="35336317_mihaylovskiy_zamok"/>
          <p:cNvPicPr/>
          <p:nvPr/>
        </p:nvPicPr>
        <p:blipFill>
          <a:blip r:embed="rId1"/>
          <a:stretch/>
        </p:blipFill>
        <p:spPr>
          <a:xfrm>
            <a:off x="395280" y="1989000"/>
            <a:ext cx="5003640" cy="41418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генда №2.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адам, Вы обронил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преданию, на одном из дворцовых балов взволнованная танцами Анна Лопухина вдруг обронила перчатку. Павел I, первым из присутствующих мужчин поднял ее и обратил внимание на необычный, желто-оранжевый цвет перчатки. Император тут же отправил ее архитектору Бренне в качестве образца для составления колора дворц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x_032f26d9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992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генда №3.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збука смер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нце 1800 года по Петербургу разошлись слухи о некой юродивой со Смоленского кладбища, которая пророчила Павлу I  столько лет жизни, сколько букв в изречении над главным фасадом Михайловского замка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МУ ТВОЕМУ ПОДОБАЕТЪ СВЯТЫНЯ ГОСПОДНЯ ВЪ ДОЛГОТУ ДНЕ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Выходит 47. 47-й год жизни Павла выпал на 1801 год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800px-Saint_Petersburg_St_Michael's_Castle"/>
          <p:cNvPicPr/>
          <p:nvPr/>
        </p:nvPicPr>
        <p:blipFill>
          <a:blip r:embed="rId1"/>
          <a:stretch/>
        </p:blipFill>
        <p:spPr>
          <a:xfrm>
            <a:off x="324000" y="603360"/>
            <a:ext cx="8569080" cy="5935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генда №4.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Его прозрачное величество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смерти Павла I, замок пустовал… Позже царская семья решила разместить здесь Главное инженерное училище. Однажды команда солдат, перевозящая военное имущество, была вынуждена заночевать в пустом дворце. Офицер позволил подчиненным осмотреть бывшие царские покои. Вскоре один солдат с испуганным лицом, доложил о виденном им призраке со свечою в ру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x_8a21bd46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761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59:50Z</dcterms:created>
  <dc:creator>Users</dc:creator>
  <dc:description/>
  <dc:language>en-US</dc:language>
  <cp:lastModifiedBy>home</cp:lastModifiedBy>
  <dcterms:modified xsi:type="dcterms:W3CDTF">2021-10-31T20:27:41Z</dcterms:modified>
  <cp:revision>12</cp:revision>
  <dc:subject/>
  <dc:title>Легенды Михайловского (Инженерного)  Замка.</dc:title>
</cp:coreProperties>
</file>