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F0F-0D79-4FA7-9E2D-5F39A632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E5B-E013-4946-9D69-765F527F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64B-8DDB-42F0-B8FB-1721F3E7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131-9F28-44CA-9455-0FE8E939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325-5D50-4563-A3F0-1D23D34A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5BB-EAFD-4E85-B602-9A782CB8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47A-8879-41F2-B343-C02A8081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4A6-DACB-4879-9ECC-A56A6ED8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FD6-C1A8-42EC-853A-304482B5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7E0-3D71-471F-A712-EC4860D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832-F4E2-4F41-8D58-E98666E0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594-2034-4F2A-A06E-42A8684F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BF9E-336C-47E7-8BA2-1B8F58D83B9C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191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joy English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39640" y="173160"/>
            <a:ext cx="7818480" cy="220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881440" y="2781360"/>
            <a:ext cx="3133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20000" cy="26481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ая прямоугольная выноска 2"/>
          <p:cNvSpPr/>
          <p:nvPr/>
        </p:nvSpPr>
        <p:spPr>
          <a:xfrm>
            <a:off x="3371760" y="1268280"/>
            <a:ext cx="3600720" cy="1440000"/>
          </a:xfrm>
          <a:prstGeom prst="wedgeRoundRectCallout">
            <a:avLst>
              <a:gd name="adj1" fmla="val -55800"/>
              <a:gd name="adj2" fmla="val 81703"/>
              <a:gd name="adj3" fmla="val 16667"/>
            </a:avLst>
          </a:prstGeom>
          <a:solidFill>
            <a:srgbClr val="7a7a7a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I am slim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Овальная выноска 2" descr=""/>
          <p:cNvPicPr/>
          <p:nvPr/>
        </p:nvPicPr>
        <p:blipFill>
          <a:blip r:embed="rId1"/>
          <a:stretch/>
        </p:blipFill>
        <p:spPr>
          <a:xfrm>
            <a:off x="4359240" y="171360"/>
            <a:ext cx="4863960" cy="43642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2"/>
          <a:stretch/>
        </p:blipFill>
        <p:spPr>
          <a:xfrm>
            <a:off x="811080" y="2749680"/>
            <a:ext cx="454212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2340000" y="2619360"/>
            <a:ext cx="4032360" cy="359100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  <p:sp>
        <p:nvSpPr>
          <p:cNvPr id="48" name="Овальная выноска 4"/>
          <p:cNvSpPr/>
          <p:nvPr/>
        </p:nvSpPr>
        <p:spPr>
          <a:xfrm>
            <a:off x="4248000" y="404640"/>
            <a:ext cx="4248360" cy="1295640"/>
          </a:xfrm>
          <a:prstGeom prst="wedgeEllipseCallout">
            <a:avLst>
              <a:gd name="adj1" fmla="val -41328"/>
              <a:gd name="adj2" fmla="val 133888"/>
            </a:avLst>
          </a:prstGeom>
          <a:solidFill>
            <a:srgbClr val="7a7a7a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He is merr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5607000" cy="3587760"/>
          </a:xfrm>
          <a:prstGeom prst="rect">
            <a:avLst/>
          </a:prstGeom>
          <a:ln w="0">
            <a:noFill/>
          </a:ln>
        </p:spPr>
      </p:pic>
      <p:sp>
        <p:nvSpPr>
          <p:cNvPr id="50" name="Выноска-облако 2"/>
          <p:cNvSpPr/>
          <p:nvPr/>
        </p:nvSpPr>
        <p:spPr>
          <a:xfrm>
            <a:off x="3054240" y="4335480"/>
            <a:ext cx="5689800" cy="2016000"/>
          </a:xfrm>
          <a:prstGeom prst="cloudCallout">
            <a:avLst>
              <a:gd name="adj1" fmla="val -15611"/>
              <a:gd name="adj2" fmla="val -98773"/>
            </a:avLst>
          </a:prstGeom>
          <a:solidFill>
            <a:srgbClr val="a8edf6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Book Antiqua"/>
              </a:rPr>
              <a:t>I am sad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672300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2449800" cy="417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713120" y="2205000"/>
            <a:ext cx="2202120" cy="417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4765680" y="2217600"/>
            <a:ext cx="2160720" cy="415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tretch/>
        </p:blipFill>
        <p:spPr>
          <a:xfrm>
            <a:off x="4765680" y="2200320"/>
            <a:ext cx="2214720" cy="417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4716360" y="2214720"/>
            <a:ext cx="25941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e        is       sad.         Ye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o,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s         he       sad?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3616200" y="2241720"/>
            <a:ext cx="91440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Равнобедренный треугольник 5"/>
          <p:cNvSpPr/>
          <p:nvPr/>
        </p:nvSpPr>
        <p:spPr>
          <a:xfrm>
            <a:off x="2286000" y="22860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803160" y="229536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Блок-схема: узел 13"/>
          <p:cNvSpPr/>
          <p:nvPr/>
        </p:nvSpPr>
        <p:spPr>
          <a:xfrm flipH="1">
            <a:off x="4647600" y="3246480"/>
            <a:ext cx="75960" cy="10620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Равнобедренный треугольник 14"/>
          <p:cNvSpPr/>
          <p:nvPr/>
        </p:nvSpPr>
        <p:spPr>
          <a:xfrm>
            <a:off x="803160" y="42242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4" name="Прямая со стрелкой 15"/>
          <p:cNvCxnSpPr/>
          <p:nvPr/>
        </p:nvCxnSpPr>
        <p:spPr>
          <a:xfrm>
            <a:off x="1108080" y="492876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5" name="Прямоугольник 16"/>
          <p:cNvSpPr/>
          <p:nvPr/>
        </p:nvSpPr>
        <p:spPr>
          <a:xfrm>
            <a:off x="3762360" y="4103640"/>
            <a:ext cx="91440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Прямоугольник 17"/>
          <p:cNvSpPr/>
          <p:nvPr/>
        </p:nvSpPr>
        <p:spPr>
          <a:xfrm>
            <a:off x="2286000" y="426564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Прямоугольник 18"/>
          <p:cNvSpPr/>
          <p:nvPr/>
        </p:nvSpPr>
        <p:spPr>
          <a:xfrm>
            <a:off x="6934320" y="304812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Равнобедренный треугольник 19"/>
          <p:cNvSpPr/>
          <p:nvPr/>
        </p:nvSpPr>
        <p:spPr>
          <a:xfrm>
            <a:off x="7924680" y="30481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9" name="Прямая со стрелкой 20"/>
          <p:cNvCxnSpPr/>
          <p:nvPr/>
        </p:nvCxnSpPr>
        <p:spPr>
          <a:xfrm>
            <a:off x="8153280" y="380952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0" name="Прямоугольник 21"/>
          <p:cNvSpPr/>
          <p:nvPr/>
        </p:nvSpPr>
        <p:spPr>
          <a:xfrm>
            <a:off x="6372360" y="4579920"/>
            <a:ext cx="9144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Равнобедренный треугольник 22"/>
          <p:cNvSpPr/>
          <p:nvPr/>
        </p:nvSpPr>
        <p:spPr>
          <a:xfrm>
            <a:off x="7461360" y="4560840"/>
            <a:ext cx="1060200" cy="800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2" name="Прямая со стрелкой 23"/>
          <p:cNvCxnSpPr/>
          <p:nvPr/>
        </p:nvCxnSpPr>
        <p:spPr>
          <a:xfrm>
            <a:off x="7724520" y="5140080"/>
            <a:ext cx="533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3" name="Стрелка вниз 24"/>
          <p:cNvSpPr/>
          <p:nvPr/>
        </p:nvSpPr>
        <p:spPr>
          <a:xfrm rot="13944600">
            <a:off x="5122440" y="3682080"/>
            <a:ext cx="484200" cy="124308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7a7a7a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Стрелка вниз 25"/>
          <p:cNvSpPr/>
          <p:nvPr/>
        </p:nvSpPr>
        <p:spPr>
          <a:xfrm rot="18341400">
            <a:off x="5002200" y="4917600"/>
            <a:ext cx="484200" cy="74484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7a7a7a"/>
          </a:solidFill>
          <a:ln w="255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27040" y="19080"/>
            <a:ext cx="781848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8258040" y="4629240"/>
            <a:ext cx="8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7" name="Прямая со стрелкой 27"/>
          <p:cNvCxnSpPr/>
          <p:nvPr/>
        </p:nvCxnSpPr>
        <p:spPr>
          <a:xfrm>
            <a:off x="2514600" y="303984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8" name="Прямоугольник 3"/>
          <p:cNvSpPr/>
          <p:nvPr/>
        </p:nvSpPr>
        <p:spPr>
          <a:xfrm>
            <a:off x="395280" y="3984480"/>
            <a:ext cx="4405320" cy="2346480"/>
          </a:xfrm>
          <a:prstGeom prst="rect">
            <a:avLst/>
          </a:prstGeom>
          <a:solidFill>
            <a:srgbClr val="9d1e23"/>
          </a:solidFill>
          <a:ln w="25560">
            <a:solidFill>
              <a:srgbClr val="9d1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4800600" y="2852640"/>
            <a:ext cx="4343400" cy="1584360"/>
          </a:xfrm>
          <a:prstGeom prst="rect">
            <a:avLst/>
          </a:prstGeom>
          <a:solidFill>
            <a:srgbClr val="9d1e23"/>
          </a:solidFill>
          <a:ln w="25560">
            <a:solidFill>
              <a:srgbClr val="9d1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4800600" y="4437000"/>
            <a:ext cx="4343400" cy="1871640"/>
          </a:xfrm>
          <a:prstGeom prst="rect">
            <a:avLst/>
          </a:prstGeom>
          <a:solidFill>
            <a:srgbClr val="9d1e23"/>
          </a:solidFill>
          <a:ln w="25560">
            <a:solidFill>
              <a:srgbClr val="9d1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173160"/>
            <a:ext cx="7818480" cy="2200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2627280" y="2921040"/>
            <a:ext cx="3959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39640" y="173160"/>
            <a:ext cx="7818480" cy="220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19280" y="2822400"/>
            <a:ext cx="400068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7:28:55Z</dcterms:created>
  <dc:creator>Иванова Александра</dc:creator>
  <dc:description/>
  <dc:language>en-US</dc:language>
  <cp:lastModifiedBy>Пользователь Windows</cp:lastModifiedBy>
  <dcterms:modified xsi:type="dcterms:W3CDTF">2021-11-01T20:29:15Z</dcterms:modified>
  <cp:revision>8</cp:revision>
  <dc:subject/>
  <dc:title>Lesson 37</dc:title>
</cp:coreProperties>
</file>