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11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28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42.gif" ContentType="image/gif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FAB-3D74-47D6-B667-EF63D30A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7A5-F8F6-4E19-9BAA-A7A99B2B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118-73EB-427A-ACEC-43A892B2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B62-D736-4579-B5FF-1FEC0C64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851-E2B9-4B78-A4B6-0215C2C6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FC5-92E9-49C4-A69A-AC58DBC1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893-BCAB-4299-B335-7CEA0CFD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1117-7491-4249-BF6A-F3DF5C8D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637-2BE8-49A1-A46C-9525D42E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2FF-D97E-4DA3-9F88-C573C541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99B-D780-460D-805E-63101B99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666-B6BC-4415-BC4F-3974A40A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DF05-B93F-4747-8134-871BAA89F8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ru.wikipedia.org/wiki/&#1048;&#1079;&#1086;&#1073;&#1088;&#1072;&#1078;&#1077;&#1085;&#1080;&#1077;:Black_Sea_map.png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48;&#1079;&#1086;&#1073;&#1088;&#1072;&#1078;&#1077;&#1085;&#1080;&#1077;:645px-White_Sea_map_ru.png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Sea_of_Okhotsk_map.pn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geophoto.ru/?action=show&amp;view=full&amp;id=2484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geophoto.ru/?action=show&amp;view=full&amp;id=24873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Barents_Sea_map.pn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8;&#1077;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foto.primkray.ru/topfoto.php?fid=1180399973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Black_Sea_map.png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0256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Segoe Print"/>
              </a:rPr>
              <a:t>МОРЯ  РОСС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j0303378"/>
          <p:cNvPicPr/>
          <p:nvPr/>
        </p:nvPicPr>
        <p:blipFill>
          <a:blip r:embed="rId1"/>
          <a:stretch/>
        </p:blipFill>
        <p:spPr>
          <a:xfrm flipH="1">
            <a:off x="3419640" y="4192560"/>
            <a:ext cx="2016000" cy="1636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j0354420"/>
          <p:cNvPicPr/>
          <p:nvPr/>
        </p:nvPicPr>
        <p:blipFill>
          <a:blip r:embed="rId2"/>
          <a:stretch/>
        </p:blipFill>
        <p:spPr>
          <a:xfrm flipH="1">
            <a:off x="9756360" y="4653000"/>
            <a:ext cx="1800360" cy="1392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j0296968"/>
          <p:cNvPicPr/>
          <p:nvPr/>
        </p:nvPicPr>
        <p:blipFill>
          <a:blip r:embed="rId3"/>
          <a:stretch/>
        </p:blipFill>
        <p:spPr>
          <a:xfrm flipH="1">
            <a:off x="9612360" y="2955960"/>
            <a:ext cx="1512720" cy="134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873520" y="414000"/>
            <a:ext cx="627048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краинное море Северного Ледовитого оке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самых суровых морей, средняя температура воздуха над которым в январе   – 3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 море впадает самая длинная река России Л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 названо в честь братьев Дмитрия и Харитон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усских полярных исследов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laptev1"/>
          <p:cNvPicPr/>
          <p:nvPr/>
        </p:nvPicPr>
        <p:blipFill>
          <a:blip r:embed="rId1"/>
          <a:stretch/>
        </p:blipFill>
        <p:spPr>
          <a:xfrm>
            <a:off x="324000" y="476280"/>
            <a:ext cx="2857320" cy="268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iberia2"/>
          <p:cNvPicPr/>
          <p:nvPr/>
        </p:nvPicPr>
        <p:blipFill>
          <a:blip r:embed="rId2"/>
          <a:stretch/>
        </p:blipFill>
        <p:spPr>
          <a:xfrm>
            <a:off x="179280" y="3602160"/>
            <a:ext cx="4680000" cy="2995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vo_ldah"/>
          <p:cNvPicPr/>
          <p:nvPr/>
        </p:nvPicPr>
        <p:blipFill>
          <a:blip r:embed="rId3"/>
          <a:stretch/>
        </p:blipFill>
        <p:spPr>
          <a:xfrm>
            <a:off x="5003640" y="3619440"/>
            <a:ext cx="3913200" cy="2978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j0303378"/>
          <p:cNvPicPr/>
          <p:nvPr/>
        </p:nvPicPr>
        <p:blipFill>
          <a:blip r:embed="rId4"/>
          <a:stretch/>
        </p:blipFill>
        <p:spPr>
          <a:xfrm flipH="1">
            <a:off x="1109520" y="1413000"/>
            <a:ext cx="130176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03280" y="401760"/>
            <a:ext cx="594036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часть Северного Ледовитого оке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дно из самых холодных морей России, только близ устьев рек температура воды летом выше 0°C. Часты туманы и штор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́льшую часть года море покрыто ль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е расположено между островами Новая Земля и Северная Зем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 море впадает крупнейшая по площади водосборного бассейна река России – Об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Карское море на карте"/>
          <p:cNvPicPr/>
          <p:nvPr/>
        </p:nvPicPr>
        <p:blipFill>
          <a:blip r:embed="rId1"/>
          <a:stretch/>
        </p:blipFill>
        <p:spPr>
          <a:xfrm>
            <a:off x="173160" y="596880"/>
            <a:ext cx="3208320" cy="2925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Летние пейзажи."/>
          <p:cNvPicPr/>
          <p:nvPr/>
        </p:nvPicPr>
        <p:blipFill>
          <a:blip r:embed="rId2"/>
          <a:stretch/>
        </p:blipFill>
        <p:spPr>
          <a:xfrm>
            <a:off x="179280" y="3933720"/>
            <a:ext cx="4103640" cy="266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В кильватер за ледоколом"/>
          <p:cNvPicPr/>
          <p:nvPr/>
        </p:nvPicPr>
        <p:blipFill>
          <a:blip r:embed="rId3"/>
          <a:stretch/>
        </p:blipFill>
        <p:spPr>
          <a:xfrm>
            <a:off x="4643280" y="3933720"/>
            <a:ext cx="4249800" cy="262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j0303378"/>
          <p:cNvPicPr/>
          <p:nvPr/>
        </p:nvPicPr>
        <p:blipFill>
          <a:blip r:embed="rId4"/>
          <a:stretch/>
        </p:blipFill>
        <p:spPr>
          <a:xfrm flipH="1">
            <a:off x="1440000" y="1522440"/>
            <a:ext cx="790560" cy="6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фото | Евгений Гусев | мыс Шмидта"/>
          <p:cNvPicPr/>
          <p:nvPr/>
        </p:nvPicPr>
        <p:blipFill>
          <a:blip r:embed="rId1"/>
          <a:stretch/>
        </p:blipFill>
        <p:spPr>
          <a:xfrm>
            <a:off x="250920" y="3867120"/>
            <a:ext cx="4176720" cy="2684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9"/>
          <p:cNvPicPr/>
          <p:nvPr/>
        </p:nvPicPr>
        <p:blipFill>
          <a:blip r:embed="rId2"/>
          <a:stretch/>
        </p:blipFill>
        <p:spPr>
          <a:xfrm>
            <a:off x="4716360" y="3860640"/>
            <a:ext cx="4187880" cy="2664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142800" y="742680"/>
            <a:ext cx="5784840" cy="24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краинное море Северного Ледовитого оке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оды летом от 4 до 12 °C, зимой от −1,6 до −1,8 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ктября — ноября по май — июнь море покрыто льд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ны бассейн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я – Россия, Соединенные штаты Аме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е расположено между Чукоткой и Аляс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hukchi1"/>
          <p:cNvPicPr/>
          <p:nvPr/>
        </p:nvPicPr>
        <p:blipFill>
          <a:blip r:embed="rId3"/>
          <a:stretch/>
        </p:blipFill>
        <p:spPr>
          <a:xfrm>
            <a:off x="285840" y="662040"/>
            <a:ext cx="2857320" cy="27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j0303378"/>
          <p:cNvPicPr/>
          <p:nvPr/>
        </p:nvPicPr>
        <p:blipFill>
          <a:blip r:embed="rId4"/>
          <a:stretch/>
        </p:blipFill>
        <p:spPr>
          <a:xfrm flipH="1">
            <a:off x="755280" y="1268280"/>
            <a:ext cx="141444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kmch01684m"/>
          <p:cNvPicPr/>
          <p:nvPr/>
        </p:nvPicPr>
        <p:blipFill>
          <a:blip r:embed="rId1"/>
          <a:stretch/>
        </p:blipFill>
        <p:spPr>
          <a:xfrm>
            <a:off x="4500720" y="3933720"/>
            <a:ext cx="4143240" cy="270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gulls_1"/>
          <p:cNvPicPr/>
          <p:nvPr/>
        </p:nvPicPr>
        <p:blipFill>
          <a:blip r:embed="rId2"/>
          <a:stretch/>
        </p:blipFill>
        <p:spPr>
          <a:xfrm>
            <a:off x="179280" y="3933720"/>
            <a:ext cx="4210200" cy="2632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bering1"/>
          <p:cNvPicPr/>
          <p:nvPr/>
        </p:nvPicPr>
        <p:blipFill>
          <a:blip r:embed="rId3"/>
          <a:stretch/>
        </p:blipFill>
        <p:spPr>
          <a:xfrm>
            <a:off x="250920" y="765000"/>
            <a:ext cx="3333600" cy="2419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j0303378"/>
          <p:cNvPicPr/>
          <p:nvPr/>
        </p:nvPicPr>
        <p:blipFill>
          <a:blip r:embed="rId4"/>
          <a:stretch/>
        </p:blipFill>
        <p:spPr>
          <a:xfrm rot="21429000">
            <a:off x="1184400" y="1590840"/>
            <a:ext cx="1388880" cy="1064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506760" y="29880"/>
            <a:ext cx="53848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 — море на севере Тихого оке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покрыто ль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м температура поверхностных вод +5…+10 °C, но сохраняются плавучие ль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 море впадает крупная река Анады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е названо в честь мореплавателя, офицера русского флота, датчанина по происхожд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именный залив соединя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е 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Берег Балтийского моря"/>
          <p:cNvPicPr/>
          <p:nvPr/>
        </p:nvPicPr>
        <p:blipFill>
          <a:blip r:embed="rId1"/>
          <a:stretch/>
        </p:blipFill>
        <p:spPr>
          <a:xfrm>
            <a:off x="258840" y="3975120"/>
            <a:ext cx="4033800" cy="2684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Балтийское море 3"/>
          <p:cNvPicPr/>
          <p:nvPr/>
        </p:nvPicPr>
        <p:blipFill>
          <a:blip r:embed="rId2"/>
          <a:stretch/>
        </p:blipFill>
        <p:spPr>
          <a:xfrm>
            <a:off x="4788000" y="4006800"/>
            <a:ext cx="3889440" cy="26528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699000" y="831960"/>
            <a:ext cx="5194080" cy="15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внутриматериковое окраинное море, глубоко вдающееся в материк, принадлежит бассейну Атлантического оке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евности и до XVIII века было известно как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яжское мор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западное из морей, относящихся к бассейну Атлантического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этому морю относится Финский залив с портом Санкт-Петербург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юго-восточном побережь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я располагается порт Калинингр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Картинка 11 из 87"/>
          <p:cNvPicPr/>
          <p:nvPr/>
        </p:nvPicPr>
        <p:blipFill>
          <a:blip r:embed="rId3"/>
          <a:stretch/>
        </p:blipFill>
        <p:spPr>
          <a:xfrm>
            <a:off x="231840" y="836640"/>
            <a:ext cx="3763800" cy="2663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j0303378"/>
          <p:cNvPicPr/>
          <p:nvPr/>
        </p:nvPicPr>
        <p:blipFill>
          <a:blip r:embed="rId4"/>
          <a:stretch/>
        </p:blipFill>
        <p:spPr>
          <a:xfrm flipH="1">
            <a:off x="1798200" y="2168640"/>
            <a:ext cx="5778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492000" y="981000"/>
            <a:ext cx="5472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краинное море Северного Ледовитого оке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́льшую часть года море покрыто ль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ысел моржа, тюл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е расположено между Новосибирскими островами и островом Вранг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пор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я – Пе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 море впадает река Колыма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esiberian1"/>
          <p:cNvPicPr/>
          <p:nvPr/>
        </p:nvPicPr>
        <p:blipFill>
          <a:blip r:embed="rId1"/>
          <a:stretch/>
        </p:blipFill>
        <p:spPr>
          <a:xfrm>
            <a:off x="468360" y="758880"/>
            <a:ext cx="2851200" cy="2957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S7P5"/>
          <p:cNvPicPr/>
          <p:nvPr/>
        </p:nvPicPr>
        <p:blipFill>
          <a:blip r:embed="rId2"/>
          <a:stretch/>
        </p:blipFill>
        <p:spPr>
          <a:xfrm>
            <a:off x="324000" y="4005360"/>
            <a:ext cx="4103640" cy="2631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1108"/>
          <p:cNvPicPr/>
          <p:nvPr/>
        </p:nvPicPr>
        <p:blipFill>
          <a:blip r:embed="rId3"/>
          <a:stretch/>
        </p:blipFill>
        <p:spPr>
          <a:xfrm>
            <a:off x="4788000" y="3981600"/>
            <a:ext cx="4070160" cy="2685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j0303378"/>
          <p:cNvPicPr/>
          <p:nvPr/>
        </p:nvPicPr>
        <p:blipFill>
          <a:blip r:embed="rId4"/>
          <a:stretch/>
        </p:blipFill>
        <p:spPr>
          <a:xfrm flipH="1">
            <a:off x="899640" y="1660680"/>
            <a:ext cx="1800360" cy="115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нк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81160" y="960480"/>
          <a:ext cx="7200720" cy="3962520"/>
        </p:xfrm>
        <a:graphic>
          <a:graphicData uri="http://schemas.openxmlformats.org/drawingml/2006/table">
            <a:tbl>
              <a:tblPr/>
              <a:tblGrid>
                <a:gridCol w="793800"/>
                <a:gridCol w="2590560"/>
                <a:gridCol w="576360"/>
                <a:gridCol w="324000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оке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о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07080">
                <a:tc rowSpan="4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4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х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р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от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енц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rowSpan="4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4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лан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ск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в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птев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rowSpan="4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4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ый Ледови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кот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инг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тий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точно-Сибир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141560" y="5013360"/>
          <a:ext cx="7678440" cy="579240"/>
        </p:xfrm>
        <a:graphic>
          <a:graphicData uri="http://schemas.openxmlformats.org/drawingml/2006/table">
            <a:tbl>
              <a:tblPr/>
              <a:tblGrid>
                <a:gridCol w="767844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Установите соответствие между морями и бассейнами океанов, к которым они относятся. Заполните таблицу, записав цифры правильных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214280" y="5661000"/>
          <a:ext cx="7123320" cy="1081080"/>
        </p:xfrm>
        <a:graphic>
          <a:graphicData uri="http://schemas.openxmlformats.org/drawingml/2006/table">
            <a:tbl>
              <a:tblPr/>
              <a:tblGrid>
                <a:gridCol w="2374920"/>
                <a:gridCol w="2373480"/>
                <a:gridCol w="2374920"/>
              </a:tblGrid>
              <a:tr h="585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5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5,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6,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4, 7, 8, 9,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141560" y="571680"/>
          <a:ext cx="6095880" cy="3348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979640" y="1268280"/>
            <a:ext cx="41749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верный - Ледови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ке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ренцево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укотск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ск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точно – Сибирск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е Лапте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154560" y="4267080"/>
            <a:ext cx="288144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ихий оке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рингово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хотское мо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понск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79280" y="4292640"/>
            <a:ext cx="28083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тлантический оке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ёр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зовск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лтийск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j0303378"/>
          <p:cNvPicPr/>
          <p:nvPr/>
        </p:nvPicPr>
        <p:blipFill>
          <a:blip r:embed="rId1"/>
          <a:stretch/>
        </p:blipFill>
        <p:spPr>
          <a:xfrm>
            <a:off x="3635280" y="4476600"/>
            <a:ext cx="1873440" cy="1521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Картинка 28 из 7494"/>
          <p:cNvPicPr/>
          <p:nvPr/>
        </p:nvPicPr>
        <p:blipFill>
          <a:blip r:embed="rId2"/>
          <a:srcRect l="0" t="13155" r="0" b="0"/>
          <a:stretch/>
        </p:blipFill>
        <p:spPr>
          <a:xfrm>
            <a:off x="179280" y="1347840"/>
            <a:ext cx="2052720" cy="23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S8P5"/>
          <p:cNvPicPr/>
          <p:nvPr/>
        </p:nvPicPr>
        <p:blipFill>
          <a:blip r:embed="rId3"/>
          <a:stretch/>
        </p:blipFill>
        <p:spPr>
          <a:xfrm>
            <a:off x="6154560" y="1268280"/>
            <a:ext cx="2767320" cy="20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Моря 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russiaseas"/>
          <p:cNvPicPr/>
          <p:nvPr/>
        </p:nvPicPr>
        <p:blipFill>
          <a:blip r:embed="rId1"/>
          <a:stretch/>
        </p:blipFill>
        <p:spPr>
          <a:xfrm>
            <a:off x="468360" y="836640"/>
            <a:ext cx="8207280" cy="57531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04000" y="5805360"/>
            <a:ext cx="17496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j0303378"/>
          <p:cNvPicPr/>
          <p:nvPr/>
        </p:nvPicPr>
        <p:blipFill>
          <a:blip r:embed="rId2"/>
          <a:stretch/>
        </p:blipFill>
        <p:spPr>
          <a:xfrm flipH="1" rot="80400">
            <a:off x="4066560" y="1915200"/>
            <a:ext cx="431640" cy="407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j0303378"/>
          <p:cNvPicPr/>
          <p:nvPr/>
        </p:nvPicPr>
        <p:blipFill>
          <a:blip r:embed="rId3"/>
          <a:stretch/>
        </p:blipFill>
        <p:spPr>
          <a:xfrm flipH="1" rot="80400">
            <a:off x="5147640" y="2059560"/>
            <a:ext cx="431640" cy="407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j0303378"/>
          <p:cNvPicPr/>
          <p:nvPr/>
        </p:nvPicPr>
        <p:blipFill>
          <a:blip r:embed="rId4"/>
          <a:stretch/>
        </p:blipFill>
        <p:spPr>
          <a:xfrm flipH="1" rot="80400">
            <a:off x="5866920" y="1843560"/>
            <a:ext cx="432000" cy="407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j0303378"/>
          <p:cNvPicPr/>
          <p:nvPr/>
        </p:nvPicPr>
        <p:blipFill>
          <a:blip r:embed="rId5"/>
          <a:stretch/>
        </p:blipFill>
        <p:spPr>
          <a:xfrm flipH="1" rot="80400">
            <a:off x="6516000" y="1483200"/>
            <a:ext cx="431640" cy="407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j0303378"/>
          <p:cNvPicPr/>
          <p:nvPr/>
        </p:nvPicPr>
        <p:blipFill>
          <a:blip r:embed="rId6"/>
          <a:stretch/>
        </p:blipFill>
        <p:spPr>
          <a:xfrm flipH="1" rot="80400">
            <a:off x="3202920" y="1699200"/>
            <a:ext cx="431640" cy="407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j0303378"/>
          <p:cNvPicPr/>
          <p:nvPr/>
        </p:nvPicPr>
        <p:blipFill>
          <a:blip r:embed="rId7"/>
          <a:stretch/>
        </p:blipFill>
        <p:spPr>
          <a:xfrm flipH="1" rot="80400">
            <a:off x="2410920" y="1915200"/>
            <a:ext cx="43200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j0303378"/>
          <p:cNvPicPr/>
          <p:nvPr/>
        </p:nvPicPr>
        <p:blipFill>
          <a:blip r:embed="rId8"/>
          <a:stretch/>
        </p:blipFill>
        <p:spPr>
          <a:xfrm flipH="1" rot="80400">
            <a:off x="1186920" y="1556280"/>
            <a:ext cx="432000" cy="407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j0303378"/>
          <p:cNvPicPr/>
          <p:nvPr/>
        </p:nvPicPr>
        <p:blipFill>
          <a:blip r:embed="rId9"/>
          <a:stretch/>
        </p:blipFill>
        <p:spPr>
          <a:xfrm flipH="1" rot="78600">
            <a:off x="514440" y="3044160"/>
            <a:ext cx="457200" cy="431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j0303378"/>
          <p:cNvPicPr/>
          <p:nvPr/>
        </p:nvPicPr>
        <p:blipFill>
          <a:blip r:embed="rId10"/>
          <a:stretch/>
        </p:blipFill>
        <p:spPr>
          <a:xfrm flipH="1" rot="80400">
            <a:off x="970920" y="2996280"/>
            <a:ext cx="43164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j0303378"/>
          <p:cNvPicPr/>
          <p:nvPr/>
        </p:nvPicPr>
        <p:blipFill>
          <a:blip r:embed="rId11"/>
          <a:stretch/>
        </p:blipFill>
        <p:spPr>
          <a:xfrm rot="79800">
            <a:off x="7595280" y="2781000"/>
            <a:ext cx="433080" cy="407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j0303378"/>
          <p:cNvPicPr/>
          <p:nvPr/>
        </p:nvPicPr>
        <p:blipFill>
          <a:blip r:embed="rId12"/>
          <a:stretch/>
        </p:blipFill>
        <p:spPr>
          <a:xfrm rot="79200">
            <a:off x="7018920" y="4149000"/>
            <a:ext cx="360360" cy="407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j0303378"/>
          <p:cNvPicPr/>
          <p:nvPr/>
        </p:nvPicPr>
        <p:blipFill>
          <a:blip r:embed="rId13"/>
          <a:stretch/>
        </p:blipFill>
        <p:spPr>
          <a:xfrm rot="79200">
            <a:off x="6586920" y="5012640"/>
            <a:ext cx="360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5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5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5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5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5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j0303378"/>
          <p:cNvPicPr/>
          <p:nvPr/>
        </p:nvPicPr>
        <p:blipFill>
          <a:blip r:embed="rId1"/>
          <a:stretch/>
        </p:blipFill>
        <p:spPr>
          <a:xfrm flipH="1">
            <a:off x="3564000" y="3597120"/>
            <a:ext cx="1800000" cy="1608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MMj03034990000[1]"/>
          <p:cNvPicPr/>
          <p:nvPr/>
        </p:nvPicPr>
        <p:blipFill>
          <a:blip r:embed="rId2"/>
          <a:stretch/>
        </p:blipFill>
        <p:spPr>
          <a:xfrm>
            <a:off x="9901080" y="2133720"/>
            <a:ext cx="17290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5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нк отв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01600" y="1111320"/>
          <a:ext cx="7201080" cy="4173480"/>
        </p:xfrm>
        <a:graphic>
          <a:graphicData uri="http://schemas.openxmlformats.org/drawingml/2006/table">
            <a:tbl>
              <a:tblPr/>
              <a:tblGrid>
                <a:gridCol w="734040"/>
                <a:gridCol w="2395080"/>
                <a:gridCol w="218880"/>
                <a:gridCol w="545400"/>
                <a:gridCol w="3307680"/>
              </a:tblGrid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оке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 rowSpan="1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о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20400"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400"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101600" y="5375160"/>
          <a:ext cx="7585200" cy="579600"/>
        </p:xfrm>
        <a:graphic>
          <a:graphicData uri="http://schemas.openxmlformats.org/drawingml/2006/table">
            <a:tbl>
              <a:tblPr/>
              <a:tblGrid>
                <a:gridCol w="758520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Установите соответствие между морями и бассейнами океанов, к которым они относятся. Заполните таблицу, записав цифры правильных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141560" y="5954760"/>
          <a:ext cx="7122960" cy="731880"/>
        </p:xfrm>
        <a:graphic>
          <a:graphicData uri="http://schemas.openxmlformats.org/drawingml/2006/table">
            <a:tbl>
              <a:tblPr/>
              <a:tblGrid>
                <a:gridCol w="2374920"/>
                <a:gridCol w="2638080"/>
                <a:gridCol w="21099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01600" y="690480"/>
          <a:ext cx="6135840" cy="335160"/>
        </p:xfrm>
        <a:graphic>
          <a:graphicData uri="http://schemas.openxmlformats.org/drawingml/2006/table">
            <a:tbl>
              <a:tblPr/>
              <a:tblGrid>
                <a:gridCol w="613584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DSC_0001[1]"/>
          <p:cNvPicPr/>
          <p:nvPr/>
        </p:nvPicPr>
        <p:blipFill>
          <a:blip r:embed="rId1"/>
          <a:stretch/>
        </p:blipFill>
        <p:spPr>
          <a:xfrm>
            <a:off x="324000" y="3781440"/>
            <a:ext cx="4248000" cy="288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751-2[1]"/>
          <p:cNvPicPr/>
          <p:nvPr/>
        </p:nvPicPr>
        <p:blipFill>
          <a:blip r:embed="rId2"/>
          <a:stretch/>
        </p:blipFill>
        <p:spPr>
          <a:xfrm>
            <a:off x="4788000" y="3781440"/>
            <a:ext cx="4059000" cy="29462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00280" y="756720"/>
            <a:ext cx="5346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рное мор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нутреннее море бассейна Атлантического оке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сохранились млекопитающие эндемики – белобрюхий тюлень и дельфин – афа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Карта Чёрного моря"/>
          <p:cNvPicPr/>
          <p:nvPr/>
        </p:nvPicPr>
        <p:blipFill>
          <a:blip r:embed="rId3"/>
          <a:stretch/>
        </p:blipFill>
        <p:spPr>
          <a:xfrm>
            <a:off x="324000" y="777960"/>
            <a:ext cx="3176280" cy="241452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2"/>
          <p:cNvSpPr/>
          <p:nvPr/>
        </p:nvSpPr>
        <p:spPr>
          <a:xfrm>
            <a:off x="3747960" y="309420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упнейший незамерзающий порт на побережье 1 моря – Новороссийс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3757680" y="2270160"/>
            <a:ext cx="540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амое тёплое море на территории России, одно из любимых мест отдыха российских 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2" descr=""/>
          <p:cNvPicPr/>
          <p:nvPr/>
        </p:nvPicPr>
        <p:blipFill>
          <a:blip r:embed="rId1"/>
          <a:stretch/>
        </p:blipFill>
        <p:spPr>
          <a:xfrm>
            <a:off x="4789440" y="344520"/>
            <a:ext cx="4092480" cy="30668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0" y="404640"/>
            <a:ext cx="608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70ee8"/>
                </a:solidFill>
                <a:latin typeface="Tahoma"/>
              </a:rPr>
              <a:t>Мор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70ee8"/>
                </a:solidFill>
                <a:latin typeface="Tahoma"/>
              </a:rPr>
              <a:t>Атлантическо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70ee8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470ee8"/>
                </a:solidFill>
                <a:latin typeface="Tahoma"/>
              </a:rPr>
              <a:t>оке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" descr=""/>
          <p:cNvPicPr/>
          <p:nvPr/>
        </p:nvPicPr>
        <p:blipFill>
          <a:blip r:embed="rId2"/>
          <a:stretch/>
        </p:blipFill>
        <p:spPr>
          <a:xfrm>
            <a:off x="380880" y="3213000"/>
            <a:ext cx="4091040" cy="2952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https://avatars.mds.yandex.net/get-pdb/2343012/440cca3d-16b2-4d2e-af7b-e0164c3b6a8f/s1200"/>
          <p:cNvPicPr/>
          <p:nvPr/>
        </p:nvPicPr>
        <p:blipFill>
          <a:blip r:embed="rId3"/>
          <a:stretch/>
        </p:blipFill>
        <p:spPr>
          <a:xfrm>
            <a:off x="4789440" y="3860640"/>
            <a:ext cx="40924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171003B"/>
          <p:cNvPicPr/>
          <p:nvPr/>
        </p:nvPicPr>
        <p:blipFill>
          <a:blip r:embed="rId1"/>
          <a:stretch/>
        </p:blipFill>
        <p:spPr>
          <a:xfrm>
            <a:off x="324000" y="476280"/>
            <a:ext cx="4679640" cy="3052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4284720" y="11592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70ee8"/>
                </a:solidFill>
                <a:latin typeface="Tahoma"/>
              </a:rPr>
              <a:t>Мо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70ee8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470ee8"/>
                </a:solidFill>
                <a:latin typeface="Tahoma"/>
              </a:rPr>
              <a:t>Северного Ледовит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70ee8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470ee8"/>
                </a:solidFill>
                <a:latin typeface="Tahoma"/>
              </a:rPr>
              <a:t>океа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697014"/>
          <p:cNvPicPr/>
          <p:nvPr/>
        </p:nvPicPr>
        <p:blipFill>
          <a:blip r:embed="rId2"/>
          <a:stretch/>
        </p:blipFill>
        <p:spPr>
          <a:xfrm>
            <a:off x="3708360" y="3357720"/>
            <a:ext cx="525636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0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pri0008"/>
          <p:cNvPicPr/>
          <p:nvPr/>
        </p:nvPicPr>
        <p:blipFill>
          <a:blip r:embed="rId1"/>
          <a:srcRect l="0" t="0" r="3370" b="2518"/>
          <a:stretch/>
        </p:blipFill>
        <p:spPr>
          <a:xfrm>
            <a:off x="155520" y="2997360"/>
            <a:ext cx="4899240" cy="36446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468360" y="47628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Tahoma"/>
              </a:rPr>
              <a:t>Моря Тихого оке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https://avatars.mds.yandex.net/get-pdb/1016500/f2cf7aa0-2868-44d1-b600-b732ee12192a/s1200"/>
          <p:cNvPicPr/>
          <p:nvPr/>
        </p:nvPicPr>
        <p:blipFill>
          <a:blip r:embed="rId2"/>
          <a:stretch/>
        </p:blipFill>
        <p:spPr>
          <a:xfrm>
            <a:off x="3924360" y="1557360"/>
            <a:ext cx="48956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я каких трёх океанов омывают берега Росс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ерите правильный вариант ответа и запишите в блан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Тихий, Атлантический, Инди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Атлантический, Тихий, Северный Ледови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Тихий, Индийский, Северный Ледови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бланке расположите океаны, к бассейнам которых относятся моря России, по мере увеличения их площ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 характеристикам, географическому положению, контурам морей определите, о каком море пойдёт речь, и в соответствующей ячейке напротив цифры запишите название каждого мо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DSC_0001[1]"/>
          <p:cNvPicPr/>
          <p:nvPr/>
        </p:nvPicPr>
        <p:blipFill>
          <a:blip r:embed="rId1"/>
          <a:stretch/>
        </p:blipFill>
        <p:spPr>
          <a:xfrm>
            <a:off x="324000" y="3781440"/>
            <a:ext cx="4248000" cy="288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1751-2[1]"/>
          <p:cNvPicPr/>
          <p:nvPr/>
        </p:nvPicPr>
        <p:blipFill>
          <a:blip r:embed="rId2"/>
          <a:stretch/>
        </p:blipFill>
        <p:spPr>
          <a:xfrm>
            <a:off x="4788000" y="3781440"/>
            <a:ext cx="4059000" cy="2946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00280" y="756720"/>
            <a:ext cx="5346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ор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нутреннее море бассейна Атлантического оке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сохранились млекопитающие эндемики – белобрюхий тюлень и дельфин – афа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Карта Чёрного мор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777960"/>
            <a:ext cx="3176280" cy="241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j0303378"/>
          <p:cNvPicPr/>
          <p:nvPr/>
        </p:nvPicPr>
        <p:blipFill>
          <a:blip r:embed="rId5"/>
          <a:stretch/>
        </p:blipFill>
        <p:spPr>
          <a:xfrm flipH="1">
            <a:off x="1618920" y="1413000"/>
            <a:ext cx="576360" cy="5731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3747960" y="309420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упнейший незамерзающий порт на побережье 1 моря – Новороссийс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757680" y="2270160"/>
            <a:ext cx="540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амое тёплое море на территории России, одно из любимых мест отдыха российских 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Это белое Белое море.   2005 г."/>
          <p:cNvPicPr/>
          <p:nvPr/>
        </p:nvPicPr>
        <p:blipFill>
          <a:blip r:embed="rId1"/>
          <a:stretch/>
        </p:blipFill>
        <p:spPr>
          <a:xfrm>
            <a:off x="4716360" y="3573360"/>
            <a:ext cx="4281480" cy="310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Россия - Карелия - Белое море -  Туристическая фотогалерея - В ОТПУСК.РУ"/>
          <p:cNvPicPr/>
          <p:nvPr/>
        </p:nvPicPr>
        <p:blipFill>
          <a:blip r:embed="rId2"/>
          <a:stretch/>
        </p:blipFill>
        <p:spPr>
          <a:xfrm>
            <a:off x="179280" y="3573360"/>
            <a:ext cx="4321440" cy="3137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Белое мор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353880"/>
            <a:ext cx="3144600" cy="2924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5"/>
          <p:cNvSpPr/>
          <p:nvPr/>
        </p:nvSpPr>
        <p:spPr>
          <a:xfrm>
            <a:off x="3773520" y="519480"/>
            <a:ext cx="5472000" cy="29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е — относится к Северному Ледовитому океа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море зимой замерз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ый морской порт на этом море – Архангель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ре впадает река Северная Дв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ственное из морей Северного Ледовитого океана, являющееся внутрен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6" descr="j0303378"/>
          <p:cNvPicPr/>
          <p:nvPr/>
        </p:nvPicPr>
        <p:blipFill>
          <a:blip r:embed="rId5"/>
          <a:stretch/>
        </p:blipFill>
        <p:spPr>
          <a:xfrm flipH="1">
            <a:off x="971640" y="1681200"/>
            <a:ext cx="7920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708360" y="333360"/>
            <a:ext cx="5348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часть Тихого оке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ктября по май-июнь северная часть моря покрыта льд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оре Тихого океана с трёх сторон окружено суш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соте приливов это море держит первенство среди морей России. В Пенжинской губе залива Шелихова приливы достигают 13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е добываю крабов и кальмаров близ берегов Камча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Расположение Охотского моря">
            <a:hlinkClick r:id="rId1"/>
          </p:cNvPr>
          <p:cNvPicPr/>
          <p:nvPr/>
        </p:nvPicPr>
        <p:blipFill>
          <a:blip r:embed="rId2"/>
          <a:srcRect l="2211" t="7347" r="15035" b="21627"/>
          <a:stretch/>
        </p:blipFill>
        <p:spPr>
          <a:xfrm>
            <a:off x="412920" y="693720"/>
            <a:ext cx="3398760" cy="266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brt002280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2920" y="3979800"/>
            <a:ext cx="4014720" cy="266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brt007168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4005360"/>
            <a:ext cx="4032000" cy="2676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j0303378"/>
          <p:cNvPicPr/>
          <p:nvPr/>
        </p:nvPicPr>
        <p:blipFill>
          <a:blip r:embed="rId7"/>
          <a:stretch/>
        </p:blipFill>
        <p:spPr>
          <a:xfrm>
            <a:off x="1979640" y="2100240"/>
            <a:ext cx="647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780000" y="549000"/>
            <a:ext cx="5184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краинное море Северного Ледовитого океана. Оно омывает берега России и Норве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ее холодное из северных мо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го-западная ча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я зимой не замерзает из-за влияния Нордкапского те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й незамерзающий пор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я – Мурман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300px-Barents_Sea_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549360"/>
            <a:ext cx="3313080" cy="3036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S2P1"/>
          <p:cNvPicPr/>
          <p:nvPr/>
        </p:nvPicPr>
        <p:blipFill>
          <a:blip r:embed="rId3"/>
          <a:stretch/>
        </p:blipFill>
        <p:spPr>
          <a:xfrm>
            <a:off x="179280" y="3789360"/>
            <a:ext cx="439272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Хождение за три моря"/>
          <p:cNvPicPr/>
          <p:nvPr/>
        </p:nvPicPr>
        <p:blipFill>
          <a:blip r:embed="rId4"/>
          <a:stretch/>
        </p:blipFill>
        <p:spPr>
          <a:xfrm>
            <a:off x="4859280" y="3789360"/>
            <a:ext cx="4105440" cy="2813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j0303378"/>
          <p:cNvPicPr/>
          <p:nvPr/>
        </p:nvPicPr>
        <p:blipFill>
          <a:blip r:embed="rId5"/>
          <a:stretch/>
        </p:blipFill>
        <p:spPr>
          <a:xfrm flipH="1">
            <a:off x="1690560" y="1366920"/>
            <a:ext cx="8654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35080" y="518760"/>
            <a:ext cx="491652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 — море в составе Тихого океана, отделяется от него Японскими островами и островом Сахалин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ывает берега России, Кореи и Япо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ная часть моря зимой замерз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е – самое южное из морей Тихого оке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е порт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я – Владивосток, Нахо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08110003-we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3645000"/>
            <a:ext cx="3960720" cy="2813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Уголок Находк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645000"/>
            <a:ext cx="4176720" cy="2774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jap1"/>
          <p:cNvPicPr/>
          <p:nvPr/>
        </p:nvPicPr>
        <p:blipFill>
          <a:blip r:embed="rId5"/>
          <a:stretch/>
        </p:blipFill>
        <p:spPr>
          <a:xfrm>
            <a:off x="468360" y="519120"/>
            <a:ext cx="3144960" cy="2693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j0303378"/>
          <p:cNvPicPr/>
          <p:nvPr/>
        </p:nvPicPr>
        <p:blipFill>
          <a:blip r:embed="rId6"/>
          <a:stretch/>
        </p:blipFill>
        <p:spPr>
          <a:xfrm>
            <a:off x="1116000" y="1341360"/>
            <a:ext cx="136836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563640" y="727200"/>
            <a:ext cx="5221080" cy="16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е расположено на юге европейской части России, глубоко врезано в суш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а Чёрного моря">
            <a:hlinkClick r:id="rId1"/>
          </p:cNvPr>
          <p:cNvPicPr/>
          <p:nvPr/>
        </p:nvPicPr>
        <p:blipFill>
          <a:blip r:embed="rId2"/>
          <a:srcRect l="27576" t="0" r="0" b="8752"/>
          <a:stretch/>
        </p:blipFill>
        <p:spPr>
          <a:xfrm>
            <a:off x="430200" y="577800"/>
            <a:ext cx="3303720" cy="316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Азовское море, Крымское побережье"/>
          <p:cNvPicPr/>
          <p:nvPr/>
        </p:nvPicPr>
        <p:blipFill>
          <a:blip r:embed="rId3"/>
          <a:stretch/>
        </p:blipFill>
        <p:spPr>
          <a:xfrm>
            <a:off x="3840120" y="4167360"/>
            <a:ext cx="4910040" cy="226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Крым Азовское побережье"/>
          <p:cNvPicPr/>
          <p:nvPr/>
        </p:nvPicPr>
        <p:blipFill>
          <a:blip r:embed="rId4"/>
          <a:stretch/>
        </p:blipFill>
        <p:spPr>
          <a:xfrm>
            <a:off x="250920" y="4005360"/>
            <a:ext cx="3448080" cy="25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j0303378"/>
          <p:cNvPicPr/>
          <p:nvPr/>
        </p:nvPicPr>
        <p:blipFill>
          <a:blip r:embed="rId5"/>
          <a:stretch/>
        </p:blipFill>
        <p:spPr>
          <a:xfrm flipH="1">
            <a:off x="2050560" y="981000"/>
            <a:ext cx="435240" cy="3589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3903840" y="1819440"/>
            <a:ext cx="5138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ты моря: Ейск, Темрюк, Ростов-на-Д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ченским пролив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е соединяется     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3850200" y="1328760"/>
            <a:ext cx="48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упная река, впадающая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ре, - Д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903840" y="3300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ре – самое мелководное в ми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Трапеция 5"/>
          <p:cNvSpPr/>
          <p:nvPr/>
        </p:nvSpPr>
        <p:spPr>
          <a:xfrm rot="10573200">
            <a:off x="1609560" y="834840"/>
            <a:ext cx="1371600" cy="652320"/>
          </a:xfrm>
          <a:custGeom>
            <a:avLst/>
            <a:gdLst/>
            <a:ahLst/>
            <a:rect l="l" t="t" r="r" b="b"/>
            <a:pathLst>
              <a:path w="1371600" h="652463">
                <a:moveTo>
                  <a:pt x="0" y="652463"/>
                </a:moveTo>
                <a:lnTo>
                  <a:pt x="159814" y="0"/>
                </a:lnTo>
                <a:lnTo>
                  <a:pt x="1211786" y="0"/>
                </a:lnTo>
                <a:lnTo>
                  <a:pt x="1371600" y="652463"/>
                </a:lnTo>
                <a:lnTo>
                  <a:pt x="0" y="652463"/>
                </a:lnTo>
                <a:close/>
              </a:path>
            </a:pathLst>
          </a:custGeom>
          <a:noFill/>
          <a:ln w="255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1332000" y="1700280"/>
            <a:ext cx="1008000" cy="288720"/>
          </a:xfrm>
          <a:prstGeom prst="rect">
            <a:avLst/>
          </a:prstGeom>
          <a:solidFill>
            <a:srgbClr val="6cbcc2"/>
          </a:solidFill>
          <a:ln w="25560">
            <a:solidFill>
              <a:srgbClr val="6cb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13:27:32Z</dcterms:created>
  <dc:creator>Еремина О. Н. </dc:creator>
  <dc:description/>
  <dc:language>en-US</dc:language>
  <cp:lastModifiedBy>Пользователь</cp:lastModifiedBy>
  <dcterms:modified xsi:type="dcterms:W3CDTF">2020-03-04T21:09:27Z</dcterms:modified>
  <cp:revision>81</cp:revision>
  <dc:subject/>
  <dc:title>Путешестви по России. Моря. Реки.Озера.</dc:title>
</cp:coreProperties>
</file>