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EEE-ED9C-4A60-89AF-C54A9B3E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609-B51F-4D4E-B662-491A9BC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94D-8861-4F2C-9A9C-F5045D4A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F7B-B434-4E38-876E-556278DF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812-373F-48D6-BB90-8724F52F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608-18FB-4D13-BDBC-57652B9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3DE-3B23-4AE0-9AA2-BA4D222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CA9-27E7-4B50-98A2-A31B385A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F13-BF7C-4F0C-A7CC-39C4DB99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2AE-2717-44C2-995B-064179C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A97-5945-4089-BDB5-605A728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994-0A3B-47D1-834F-E84D9E80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9F24-B925-4C1F-8A24-2633D278B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0373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БОЗНАЧИТЬ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ИСЬМЕ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ЯГКОСТЬ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Х   ЗВУК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русского языка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743200" y="4260960"/>
            <a:ext cx="3828960" cy="2289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914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те  слова на две группы по твердости и мягкости согласных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к, пень, Митя, радуга, зелень, труба, рубашка, пили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60948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к                   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уба              Мит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дуга             зел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башка          пилил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6096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черкните буквы, которые обозначают всегда мягкие согласные звук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    </a:t>
            </a: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й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к    </a:t>
            </a: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   т   ш   </a:t>
            </a:r>
            <a:r>
              <a:rPr b="0" i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м   </a:t>
            </a:r>
            <a:r>
              <a:rPr b="0" i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 </a:t>
            </a: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черкните буквы, которые обозначают всегда твердые согласные звук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й    к    </a:t>
            </a: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ц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т   </a:t>
            </a: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ч   м   щ  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391520" cy="6629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5032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 апреля.</a:t>
            </a:r>
            <a:br>
              <a:rPr sz="4400"/>
            </a:br>
            <a:r>
              <a:rPr b="0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295280" y="0"/>
            <a:ext cx="6080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4"/>
          <p:cNvSpPr/>
          <p:nvPr/>
        </p:nvSpPr>
        <p:spPr>
          <a:xfrm>
            <a:off x="1523880" y="1619280"/>
            <a:ext cx="51818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Воробей, ворона , пенал , карандаш, лисица, со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4"/>
          <p:cNvSpPr/>
          <p:nvPr/>
        </p:nvSpPr>
        <p:spPr>
          <a:xfrm>
            <a:off x="2556000" y="171360"/>
            <a:ext cx="33224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30 апр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Класс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1"/>
          <p:cNvSpPr/>
          <p:nvPr/>
        </p:nvSpPr>
        <p:spPr>
          <a:xfrm flipH="1">
            <a:off x="2960640" y="3540240"/>
            <a:ext cx="98640" cy="1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7"/>
          <p:cNvSpPr/>
          <p:nvPr/>
        </p:nvSpPr>
        <p:spPr>
          <a:xfrm flipH="1">
            <a:off x="4262400" y="3487680"/>
            <a:ext cx="98640" cy="106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8"/>
          <p:cNvSpPr/>
          <p:nvPr/>
        </p:nvSpPr>
        <p:spPr>
          <a:xfrm flipH="1">
            <a:off x="5563800" y="3502080"/>
            <a:ext cx="98280" cy="1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воре звенит кап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есяц наш апрел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ЕЛ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УЛЬ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вёрдые и мягкие согласные звуки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Как обозначить на письме мягкость согласных звуков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4047840"/>
            <a:ext cx="7046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681120" y="838080"/>
            <a:ext cx="7781760" cy="462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ь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</cp:lastModifiedBy>
  <dcterms:modified xsi:type="dcterms:W3CDTF">2021-11-01T18:12:14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