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zvono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650-84AF-42D9-B036-46E0405D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838-A021-427F-922A-7C92E356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BC2-345D-4661-93E3-E516A456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680-C599-41B4-B18F-BA432E8F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CFD-9948-4FC0-8527-03A658B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96A-931A-447A-A3BA-8BD27F7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516-C6DC-46BC-A46A-40BBA512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E1E-D2FF-4EF4-8E14-C461BBF6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EED-B5B6-4E16-A424-D604FDF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6B4-1F7E-496D-B761-215FA5D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A31-31A0-4EEE-8ECB-E6B4671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EC4-D637-4927-BD13-B11105D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67EE-03BD-4182-826F-3ABFA3B6B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audio" Target="../media/zvonok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are you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http://www.statusyblog.ru/1/4/smailiki.jpg"/>
          <p:cNvPicPr/>
          <p:nvPr/>
        </p:nvPicPr>
        <p:blipFill>
          <a:blip r:embed="rId1"/>
          <a:stretch/>
        </p:blipFill>
        <p:spPr>
          <a:xfrm>
            <a:off x="71280" y="1757520"/>
            <a:ext cx="2643480" cy="2823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http://seoonly.ru/wp-content/uploads/2011/06/smiles.jpg"/>
          <p:cNvPicPr/>
          <p:nvPr/>
        </p:nvPicPr>
        <p:blipFill>
          <a:blip r:embed="rId2"/>
          <a:stretch/>
        </p:blipFill>
        <p:spPr>
          <a:xfrm>
            <a:off x="2843280" y="1757520"/>
            <a:ext cx="3384360" cy="2751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http://cdnimg.rg.ru/img/content/48/31/35/s640x480_cr.jpg"/>
          <p:cNvPicPr/>
          <p:nvPr/>
        </p:nvPicPr>
        <p:blipFill>
          <a:blip r:embed="rId3"/>
          <a:stretch/>
        </p:blipFill>
        <p:spPr>
          <a:xfrm>
            <a:off x="6518160" y="1757520"/>
            <a:ext cx="2517840" cy="2751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324000" y="4581360"/>
            <a:ext cx="23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am O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203640" y="4508640"/>
            <a:ext cx="24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so 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605560" y="4653000"/>
            <a:ext cx="28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8" descr="mult-pict"/>
          <p:cNvPicPr/>
          <p:nvPr/>
        </p:nvPicPr>
        <p:blipFill>
          <a:blip r:embed="rId1"/>
          <a:stretch/>
        </p:blipFill>
        <p:spPr>
          <a:xfrm>
            <a:off x="3867120" y="4941720"/>
            <a:ext cx="1714680" cy="1676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сли порядковые сложн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вадцать пер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wenty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irst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0492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орок четвёр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72428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orty-f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04920" y="403848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емьдесят восьм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029200" y="4038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venty-e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mult-pict"/>
          <p:cNvPicPr/>
          <p:nvPr/>
        </p:nvPicPr>
        <p:blipFill>
          <a:blip r:embed="rId1"/>
          <a:stretch/>
        </p:blipFill>
        <p:spPr>
          <a:xfrm>
            <a:off x="0" y="692280"/>
            <a:ext cx="2651040" cy="3228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им на приме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038480" y="16765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22860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igh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2971800"/>
            <a:ext cx="632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ighty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57200" y="3962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Второй урок начинается в 10 ч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80880" y="5334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co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lesson begins at ten o’clo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ssess you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правильно 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итал хорошо, называл правильно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лял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частвовал в диало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ыл активным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8"/>
          <p:cNvSpPr/>
          <p:nvPr/>
        </p:nvSpPr>
        <p:spPr>
          <a:xfrm>
            <a:off x="857160" y="1857240"/>
            <a:ext cx="58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ssess  you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Объект 3" descr="http://seoonly.ru/wp-content/uploads/2011/06/smiles.jpg"/>
          <p:cNvPicPr/>
          <p:nvPr/>
        </p:nvPicPr>
        <p:blipFill>
          <a:blip r:embed="rId1"/>
          <a:stretch/>
        </p:blipFill>
        <p:spPr>
          <a:xfrm>
            <a:off x="179280" y="2317680"/>
            <a:ext cx="2952720" cy="2687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http://www.statusyblog.ru/1/4/smailiki.jpg"/>
          <p:cNvPicPr/>
          <p:nvPr/>
        </p:nvPicPr>
        <p:blipFill>
          <a:blip r:embed="rId2"/>
          <a:stretch/>
        </p:blipFill>
        <p:spPr>
          <a:xfrm>
            <a:off x="3276720" y="1407960"/>
            <a:ext cx="2779560" cy="25657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http://cs407826.vk.me/v407826648/18e0/YUSCfVXHh-Y.jpg"/>
          <p:cNvPicPr/>
          <p:nvPr/>
        </p:nvPicPr>
        <p:blipFill>
          <a:blip r:embed="rId3"/>
          <a:stretch/>
        </p:blipFill>
        <p:spPr>
          <a:xfrm>
            <a:off x="6219720" y="2455920"/>
            <a:ext cx="2764080" cy="2582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250920" y="52214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o so –”3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3276720" y="4351320"/>
            <a:ext cx="30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ood job-”4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5940360" y="551484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Well done-”5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0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are you toda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http://www.statusyblog.ru/1/4/smailiki.jpg"/>
          <p:cNvPicPr/>
          <p:nvPr/>
        </p:nvPicPr>
        <p:blipFill>
          <a:blip r:embed="rId1"/>
          <a:stretch/>
        </p:blipFill>
        <p:spPr>
          <a:xfrm>
            <a:off x="71280" y="1757520"/>
            <a:ext cx="2643480" cy="2823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http://seoonly.ru/wp-content/uploads/2011/06/smiles.jpg"/>
          <p:cNvPicPr/>
          <p:nvPr/>
        </p:nvPicPr>
        <p:blipFill>
          <a:blip r:embed="rId2"/>
          <a:stretch/>
        </p:blipFill>
        <p:spPr>
          <a:xfrm>
            <a:off x="2843280" y="1757520"/>
            <a:ext cx="3384360" cy="275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http://cdnimg.rg.ru/img/content/48/31/35/s640x480_cr.jpg"/>
          <p:cNvPicPr/>
          <p:nvPr/>
        </p:nvPicPr>
        <p:blipFill>
          <a:blip r:embed="rId3"/>
          <a:stretch/>
        </p:blipFill>
        <p:spPr>
          <a:xfrm>
            <a:off x="6518160" y="1757520"/>
            <a:ext cx="2517840" cy="2751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24000" y="4581360"/>
            <a:ext cx="23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am O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203640" y="4508640"/>
            <a:ext cx="24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so 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5605560" y="4653000"/>
            <a:ext cx="28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 am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ri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0_6d427_c1136db8_XL"/>
          <p:cNvPicPr/>
          <p:nvPr/>
        </p:nvPicPr>
        <p:blipFill>
          <a:blip r:embed="rId2"/>
          <a:stretch/>
        </p:blipFill>
        <p:spPr>
          <a:xfrm>
            <a:off x="1187280" y="0"/>
            <a:ext cx="7056720" cy="6624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4" descr="d180d0b8d181d183d0bdd0bed0ba162"/>
          <p:cNvPicPr/>
          <p:nvPr/>
        </p:nvPicPr>
        <p:blipFill>
          <a:blip r:embed="rId3"/>
          <a:stretch/>
        </p:blipFill>
        <p:spPr>
          <a:xfrm>
            <a:off x="5502240" y="2349360"/>
            <a:ext cx="3641760" cy="45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Picture 5" descr="ecoles"/>
          <p:cNvPicPr/>
          <p:nvPr/>
        </p:nvPicPr>
        <p:blipFill>
          <a:blip r:embed="rId4"/>
          <a:stretch/>
        </p:blipFill>
        <p:spPr>
          <a:xfrm>
            <a:off x="0" y="3332160"/>
            <a:ext cx="3743280" cy="35258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0" name="AutoShape 6"/>
          <p:cNvSpPr/>
          <p:nvPr/>
        </p:nvSpPr>
        <p:spPr>
          <a:xfrm>
            <a:off x="1979640" y="549360"/>
            <a:ext cx="4105080" cy="2158920"/>
          </a:xfrm>
          <a:prstGeom prst="wedgeRoundRectCallout">
            <a:avLst>
              <a:gd name="adj1" fmla="val 81361"/>
              <a:gd name="adj2" fmla="val 138162"/>
              <a:gd name="adj3" fmla="val 16667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nk you for the lesson! Good-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tHANKS"/>
          <p:cNvPicPr/>
          <p:nvPr/>
        </p:nvPicPr>
        <p:blipFill>
          <a:blip r:embed="rId5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180d0b8d181d183d0bdd0bed0ba162"/>
          <p:cNvPicPr/>
          <p:nvPr/>
        </p:nvPicPr>
        <p:blipFill>
          <a:blip r:embed="rId6"/>
          <a:stretch/>
        </p:blipFill>
        <p:spPr>
          <a:xfrm>
            <a:off x="6956280" y="3213000"/>
            <a:ext cx="2187720" cy="2708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0"/>
          <a:ext cx="8280360" cy="3289320"/>
        </p:xfrm>
        <a:graphic>
          <a:graphicData uri="http://schemas.openxmlformats.org/drawingml/2006/table">
            <a:tbl>
              <a:tblPr/>
              <a:tblGrid>
                <a:gridCol w="2303280"/>
                <a:gridCol w="2460600"/>
                <a:gridCol w="3516480"/>
              </a:tblGrid>
              <a:tr h="328932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p]  pen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b]  book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t]  take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g]  g</a:t>
                      </a:r>
                      <a:r>
                        <a:rPr b="1" lang="ru-RU" sz="20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ð]  the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s]  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z]  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ru-RU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] Thank </a:t>
                      </a:r>
                      <a:r>
                        <a:rPr b="1" lang="ru-RU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    yo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h]  hand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m]  map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n]  no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ŋ]  bring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8360" y="1989000"/>
          <a:ext cx="8291520" cy="2448000"/>
        </p:xfrm>
        <a:graphic>
          <a:graphicData uri="http://schemas.openxmlformats.org/drawingml/2006/table">
            <a:tbl>
              <a:tblPr/>
              <a:tblGrid>
                <a:gridCol w="2685960"/>
                <a:gridCol w="2119320"/>
                <a:gridCol w="3486240"/>
              </a:tblGrid>
              <a:tr h="244800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i:]  green, pl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i]  sit, win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e]  pen, de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æ]  bag, m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ru-RU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:]  class, 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o]  box, 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o:]  door, 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u]  book, 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u:]  t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ru-RU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]  under, 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ə:]  curtain, 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ə]  under, tea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8360" y="4437000"/>
          <a:ext cx="8280360" cy="2421000"/>
        </p:xfrm>
        <a:graphic>
          <a:graphicData uri="http://schemas.openxmlformats.org/drawingml/2006/table">
            <a:tbl>
              <a:tblPr/>
              <a:tblGrid>
                <a:gridCol w="4753080"/>
                <a:gridCol w="3527280"/>
              </a:tblGrid>
              <a:tr h="242100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ei]  take, 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ou]  go, 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ai]  my, f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au]  now,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oi]  toy, b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iə]  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ru-RU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r>
                        <a:rPr b="1" lang="en-US" sz="2800" spc="-1" strike="noStrike">
                          <a:solidFill>
                            <a:srgbClr val="def6f1"/>
                          </a:solidFill>
                          <a:latin typeface="Times New Roman"/>
                          <a:ea typeface="Times New Roman"/>
                        </a:rPr>
                        <a:t>ə]  chair, 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0063c6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2"/>
          <p:cNvSpPr/>
          <p:nvPr/>
        </p:nvSpPr>
        <p:spPr>
          <a:xfrm>
            <a:off x="539640" y="2288880"/>
            <a:ext cx="94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ork in pair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subjects do you have o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on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I hav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glish, Russian and Rea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your favourite su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favourite subject is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ковые числи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mult-pict"/>
          <p:cNvPicPr/>
          <p:nvPr/>
        </p:nvPicPr>
        <p:blipFill>
          <a:blip r:embed="rId1"/>
          <a:stretch/>
        </p:blipFill>
        <p:spPr>
          <a:xfrm>
            <a:off x="2050920" y="1433520"/>
            <a:ext cx="50421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к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11430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ерв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1430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480" y="18288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eco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втор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18288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09480" y="25146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ir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трети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2514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09480" y="32004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четвёрт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32004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09480" y="3809880"/>
            <a:ext cx="381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i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ят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3809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609480" y="44197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i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шест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44197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952880" y="12193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e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седьм</a:t>
            </a:r>
            <a:r>
              <a:rPr b="0" lang="ru-RU" sz="3200" spc="-1" strike="noStrike">
                <a:solidFill>
                  <a:srgbClr val="def6f1"/>
                </a:solidFill>
                <a:latin typeface="Comic Sans MS"/>
                <a:ea typeface="Arial"/>
              </a:rPr>
              <a:t>о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343400" y="12193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52880" y="1905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ig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восьмо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4343400" y="19051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4952880" y="25909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i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вят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4343400" y="25909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5257800" y="32767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сяты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4648320" y="32767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5105520" y="388620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Ele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одиннадцат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4419720" y="396252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5105520" y="54100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3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el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венадцат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4419720" y="49528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8" descr="mult-pict"/>
          <p:cNvPicPr/>
          <p:nvPr/>
        </p:nvPicPr>
        <p:blipFill>
          <a:blip r:embed="rId1"/>
          <a:stretch/>
        </p:blipFill>
        <p:spPr>
          <a:xfrm>
            <a:off x="2906640" y="5054760"/>
            <a:ext cx="1716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752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ков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3 до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43000" y="1828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i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три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0880" y="18288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143000" y="2438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четыр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0880" y="24382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143000" y="30481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i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пят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80880" y="30481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143000" y="36576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i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шест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80880" y="36576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143000" y="4267080"/>
            <a:ext cx="6705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v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ем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80880" y="42670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143000" y="48006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восем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80880" y="48006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438280" y="54100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i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евятн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676520" y="54100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mult-pict"/>
          <p:cNvPicPr/>
          <p:nvPr/>
        </p:nvPicPr>
        <p:blipFill>
          <a:blip r:embed="rId1"/>
          <a:stretch/>
        </p:blipFill>
        <p:spPr>
          <a:xfrm>
            <a:off x="7219800" y="762120"/>
            <a:ext cx="17146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ковые дес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33520" y="106668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Comic Sans MS"/>
                <a:ea typeface="Arial"/>
              </a:rPr>
              <a:t>Оканчиваются н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–eth </a:t>
            </a:r>
            <a:r>
              <a:rPr b="0" lang="ru-RU" sz="3600" spc="-1" strike="noStrike">
                <a:solidFill>
                  <a:srgbClr val="0066cc"/>
                </a:solidFill>
                <a:latin typeface="Comic Sans MS"/>
                <a:ea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66cc"/>
                </a:solidFill>
                <a:latin typeface="Comic Sans MS"/>
                <a:ea typeface="Arial"/>
              </a:rPr>
              <a:t>меняется н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43000" y="18288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w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ва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0880" y="18288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1430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i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тридца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0880" y="24382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43000" y="304812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ороково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0880" y="304812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143000" y="3657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i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пятидеся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0880" y="36576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143000" y="4267080"/>
            <a:ext cx="601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i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шестидеся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380880" y="426708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143000" y="48006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v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емидеся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80880" y="4800600"/>
            <a:ext cx="838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2590920" y="541008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восьмидеся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1828800" y="541008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2590920" y="59436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i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евяностый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1828800" y="5943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8" descr="mult-pict"/>
          <p:cNvPicPr/>
          <p:nvPr/>
        </p:nvPicPr>
        <p:blipFill>
          <a:blip r:embed="rId1"/>
          <a:stretch/>
        </p:blipFill>
        <p:spPr>
          <a:xfrm>
            <a:off x="6781680" y="2133720"/>
            <a:ext cx="1716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8" descr="mult-pict"/>
          <p:cNvPicPr/>
          <p:nvPr/>
        </p:nvPicPr>
        <p:blipFill>
          <a:blip r:embed="rId1"/>
          <a:stretch/>
        </p:blipFill>
        <p:spPr>
          <a:xfrm>
            <a:off x="3867120" y="4941720"/>
            <a:ext cx="171468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сли порядковые сложн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вадцать пер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wenty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irst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492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орок четвёр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72428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orty-f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04920" y="403848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емьдесят восьм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029200" y="4038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venty-e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mult-pict"/>
          <p:cNvPicPr/>
          <p:nvPr/>
        </p:nvPicPr>
        <p:blipFill>
          <a:blip r:embed="rId1"/>
          <a:stretch/>
        </p:blipFill>
        <p:spPr>
          <a:xfrm>
            <a:off x="3867120" y="4941720"/>
            <a:ext cx="1714680" cy="1676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сли порядковые сложн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Двадцать пер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wenty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irst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0492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орок четвёр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724280" y="28954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Forty-f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04920" y="403848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Семьдесят восьм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5029200" y="4038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eventy-e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13:14Z</dcterms:created>
  <dc:creator>Elena</dc:creator>
  <dc:description/>
  <dc:language>en-US</dc:language>
  <cp:lastModifiedBy>Наталья Плотникова</cp:lastModifiedBy>
  <dcterms:modified xsi:type="dcterms:W3CDTF">2021-11-01T15:31:37Z</dcterms:modified>
  <cp:revision>1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440300000000010250800207f7000400038000</vt:lpwstr>
  </property>
</Properties>
</file>