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57C-F0C7-4FCA-8B17-753C0CC4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C24-5C42-48DD-A8C2-15B8984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EC9-FA10-48EF-B519-F0E8AD59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941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307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6941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9307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7BA-8C21-4AEE-85BC-B8DB992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911D-31DF-4F96-A0EF-6F05243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F96FE-606F-4B5B-9933-94E2233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32900-D6EB-4160-BA65-E2421C6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5FB89-4E49-404E-B0B7-29BBF572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BFD8-86DA-4AE0-885E-85F28C6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0F9D2-7295-4944-BBDF-CAE50453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00428-7DC3-450D-B7B0-5123CCE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20D-0E3D-425C-88D2-7F8A355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8CA96-DA7E-4277-A607-A2D2710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42546-4C71-45ED-B3DD-8C2DBF8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F376F-8139-4540-BA2D-0BADC73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3B66-263B-4C48-95FF-31C0524F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941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307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16941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29307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42E45-4AF7-4A79-B0F4-758092E8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FFC7-CC0C-4F20-8815-9C19237F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F4F7-A91A-4AA4-834C-459F7C4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8CD6-01EE-454A-9879-402F50B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0EEC-05C6-44E8-9251-E8A2CFF5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E683-9AEA-4D71-A4CB-89545C5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581-19CC-43B3-A2CB-18DB0D1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5B2D-1260-4F84-B6E2-F177AAD7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14EF-DFAC-4188-8C00-013B610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DF54-F0BD-468B-BF44-3027A4C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9780-E596-4E12-AB71-780280C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5F93-2E5E-4413-9374-F6D7F38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97ED-48AA-41DA-915C-88DDFF61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6941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9307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16941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29307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6B36-9FCD-486E-9D59-513B7C5C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8BD7-6E52-4893-B536-7BA9F944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6F41-4526-4B9B-AD23-1890E41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773D-0223-48A3-84F2-A0142DB1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40A-7F47-4BBA-A273-03AE5B9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5AE6-3097-4A2D-AB6D-27775BC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B796-1E9A-45B4-870C-BFC0B54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3819-4AB2-4D2E-B061-128BFE01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C03F-2F68-4E11-A7DB-D97299C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1F02-7926-4216-BE19-19F09EA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A691-D81A-414D-95DA-324224D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F1E3-A501-49FB-A3D6-6FC19BF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C3F3-9079-40A8-B5B9-64EB3600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6941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9307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16941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29307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6A5B-6D31-4830-A951-DF92E09A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F8FB-4DFC-40AD-9262-2042D3CC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F8B-172C-405B-9154-62266E8F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F1E0-F052-48B6-8528-5A24AC2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8A40C-A6C8-4448-8256-7348021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3B3F-C50E-44F8-8879-EBD023C3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FCC7C-DF54-4A8A-9468-5EFB253C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2FF2-06EC-4A41-A562-8BE76FC1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84E1-1360-402F-AD50-CBF6EF9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6386E-1EEF-4826-BEF5-DCD310D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2D6B-D29C-4F71-AD66-0F77D2E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3884A-DE91-4EF8-9FAA-C19C264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18DD9-75E6-49D8-8C50-E0B5B5F3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810-8C23-4F9E-913F-921BCF5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6941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930760" y="160020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16941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2930760" y="3964320"/>
            <a:ext cx="117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F75C-DDFC-4D88-AD9E-93980E9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842-76A5-4C97-9DF1-D20E2B2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31360" y="396432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1FE-CE0D-403E-B828-EBAFDEB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31360" y="1600200"/>
            <a:ext cx="1784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57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8CA-4DE7-416A-BF8B-510A9DC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586B38-7E62-497D-836D-2484A15E17FA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3037D6-5433-4AC1-BC38-D3F30421E5A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6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3200040" cy="72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chemeClr val="accent1"/>
                </a:solidFill>
                <a:latin typeface="Franklin Gothic Book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14560"/>
            <a:ext cx="2742840" cy="91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981080"/>
            <a:ext cx="7086240" cy="38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6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3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815652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A0835D-A09B-4A92-88A9-6F499ACDE595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055D92-E77B-48B2-B523-816DBEF5BB0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body"/>
          </p:nvPr>
        </p:nvSpPr>
        <p:spPr>
          <a:xfrm>
            <a:off x="426708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455B71-2F82-4FF9-9E7C-1428B6D45EF7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машние животные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Содержимое 4" descr="maxresdefault[1]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76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1043640" y="0"/>
            <a:ext cx="8100000" cy="68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зентация «Домашние животные и их детеныш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ля младшей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 Янова Е. М. воспитатель МКДОУ Латненский детский сад «Родничок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14800" cy="92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«Четвертый лишний»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D:\дом жив конспект\800[1].jpg"/>
          <p:cNvPicPr/>
          <p:nvPr/>
        </p:nvPicPr>
        <p:blipFill>
          <a:blip r:embed="rId1"/>
          <a:stretch/>
        </p:blipFill>
        <p:spPr>
          <a:xfrm>
            <a:off x="755640" y="1340640"/>
            <a:ext cx="2553480" cy="230400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3" descr="depositphotos_6850425-White-black-milch-cow-on-green-grass-pasture[1].jpg"/>
          <p:cNvPicPr/>
          <p:nvPr/>
        </p:nvPicPr>
        <p:blipFill>
          <a:blip r:embed="rId2"/>
          <a:stretch/>
        </p:blipFill>
        <p:spPr>
          <a:xfrm>
            <a:off x="4284000" y="1412640"/>
            <a:ext cx="2920320" cy="194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www.mrwallpaper.com/wallpapers/red-fox-eyes-1024x576.jpg"/>
          <p:cNvPicPr/>
          <p:nvPr/>
        </p:nvPicPr>
        <p:blipFill>
          <a:blip r:embed="rId3"/>
          <a:stretch/>
        </p:blipFill>
        <p:spPr>
          <a:xfrm>
            <a:off x="4140000" y="4005000"/>
            <a:ext cx="3394080" cy="190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alupka24.ru/wp-content/uploads/2015/09/svinya1.jpg"/>
          <p:cNvPicPr/>
          <p:nvPr/>
        </p:nvPicPr>
        <p:blipFill>
          <a:blip r:embed="rId4"/>
          <a:stretch/>
        </p:blipFill>
        <p:spPr>
          <a:xfrm>
            <a:off x="395640" y="3933000"/>
            <a:ext cx="321264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D:\дом жив конспект\1425228100_20122308104538[1].jpg"/>
          <p:cNvPicPr/>
          <p:nvPr/>
        </p:nvPicPr>
        <p:blipFill>
          <a:blip r:embed="rId1"/>
          <a:stretch/>
        </p:blipFill>
        <p:spPr>
          <a:xfrm>
            <a:off x="467640" y="3645000"/>
            <a:ext cx="3237120" cy="2418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дом жив конспект\fb97bf2d91012a64005082b9fb298e81[1].jpg"/>
          <p:cNvPicPr/>
          <p:nvPr/>
        </p:nvPicPr>
        <p:blipFill>
          <a:blip r:embed="rId2"/>
          <a:stretch/>
        </p:blipFill>
        <p:spPr>
          <a:xfrm>
            <a:off x="5004000" y="3717000"/>
            <a:ext cx="3024000" cy="226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ko44.ru/media/k2/items/cache/dfed0432455f85aaf82e63707ac5fa7c_XL.jpg"/>
          <p:cNvPicPr/>
          <p:nvPr/>
        </p:nvPicPr>
        <p:blipFill>
          <a:blip r:embed="rId3"/>
          <a:stretch/>
        </p:blipFill>
        <p:spPr>
          <a:xfrm>
            <a:off x="4860000" y="836640"/>
            <a:ext cx="3530520" cy="2232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D:\дом жив конспект\1425126719_l[1].jpg"/>
          <p:cNvPicPr/>
          <p:nvPr/>
        </p:nvPicPr>
        <p:blipFill>
          <a:blip r:embed="rId4"/>
          <a:stretch/>
        </p:blipFill>
        <p:spPr>
          <a:xfrm>
            <a:off x="539640" y="980640"/>
            <a:ext cx="3223440" cy="20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4" descr="depositphotos_6850425-White-black-milch-cow-on-green-grass-pasture[1].jpg"/>
          <p:cNvPicPr/>
          <p:nvPr/>
        </p:nvPicPr>
        <p:blipFill>
          <a:blip r:embed="rId1"/>
          <a:stretch/>
        </p:blipFill>
        <p:spPr>
          <a:xfrm>
            <a:off x="467640" y="476640"/>
            <a:ext cx="4038120" cy="268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D:\дом жив конспект\800[1].jpg"/>
          <p:cNvPicPr/>
          <p:nvPr/>
        </p:nvPicPr>
        <p:blipFill>
          <a:blip r:embed="rId2"/>
          <a:stretch/>
        </p:blipFill>
        <p:spPr>
          <a:xfrm>
            <a:off x="5076000" y="404640"/>
            <a:ext cx="3456000" cy="273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alupka24.ru/wp-content/uploads/2015/09/svinya1.jpg"/>
          <p:cNvPicPr/>
          <p:nvPr/>
        </p:nvPicPr>
        <p:blipFill>
          <a:blip r:embed="rId3"/>
          <a:stretch/>
        </p:blipFill>
        <p:spPr>
          <a:xfrm>
            <a:off x="539640" y="3789000"/>
            <a:ext cx="3786480" cy="2376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data.photo.sibnet.ru/upload/imgbig/119911475083.jpg"/>
          <p:cNvPicPr/>
          <p:nvPr/>
        </p:nvPicPr>
        <p:blipFill>
          <a:blip r:embed="rId4"/>
          <a:stretch/>
        </p:blipFill>
        <p:spPr>
          <a:xfrm>
            <a:off x="4716000" y="3357000"/>
            <a:ext cx="39855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67640" y="548640"/>
            <a:ext cx="7944480" cy="595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c000"/>
                </a:solidFill>
                <a:latin typeface="Franklin Gothic Book"/>
              </a:rPr>
              <a:t>Гладишь- ласкается,</a:t>
            </a:r>
            <a:br>
              <a:rPr sz="4600"/>
            </a:br>
            <a:r>
              <a:rPr b="0" lang="ru-RU" sz="4600" spc="-1" strike="noStrike">
                <a:solidFill>
                  <a:srgbClr val="ffc000"/>
                </a:solidFill>
                <a:latin typeface="Franklin Gothic Book"/>
              </a:rPr>
              <a:t>Дразнишь- кусается.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Содержимое 3" descr="1425126719_l[1].jpg"/>
          <p:cNvPicPr/>
          <p:nvPr/>
        </p:nvPicPr>
        <p:blipFill>
          <a:blip r:embed="rId1"/>
          <a:stretch/>
        </p:blipFill>
        <p:spPr>
          <a:xfrm>
            <a:off x="693720" y="1600200"/>
            <a:ext cx="6994440" cy="45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Есть бородка, шерсть и нож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Ушки, хвост, а также рож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Хоть я блею, не пою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Молоко тебе даю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Содержимое 3" descr="800[1].jpg"/>
          <p:cNvPicPr/>
          <p:nvPr/>
        </p:nvPicPr>
        <p:blipFill>
          <a:blip r:embed="rId1"/>
          <a:stretch/>
        </p:blipFill>
        <p:spPr>
          <a:xfrm>
            <a:off x="2051640" y="1845000"/>
            <a:ext cx="5015880" cy="45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Кто имеет пятачок, не зажатый в кулачек</a:t>
            </a:r>
            <a:r>
              <a:rPr b="0" lang="en-US" sz="2800" spc="-1" strike="noStrike">
                <a:solidFill>
                  <a:srgbClr val="c00000"/>
                </a:solidFill>
                <a:latin typeface="Aharoni"/>
              </a:rPr>
              <a:t>?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На ногах копытца, ест и пьет с корытца.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http://alupka24.ru/wp-content/uploads/2015/09/svinya1.jpg"/>
          <p:cNvPicPr/>
          <p:nvPr/>
        </p:nvPicPr>
        <p:blipFill>
          <a:blip r:embed="rId1"/>
          <a:stretch/>
        </p:blipFill>
        <p:spPr>
          <a:xfrm>
            <a:off x="899640" y="1845000"/>
            <a:ext cx="7211520" cy="452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меня конюшня- дом. Угости меня овс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рива вьется за спиной, не угонишься за мной!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Содержимое 3" descr="fb97bf2d91012a64005082b9fb298e81[1].jpg"/>
          <p:cNvPicPr/>
          <p:nvPr/>
        </p:nvPicPr>
        <p:blipFill>
          <a:blip r:embed="rId1"/>
          <a:stretch/>
        </p:blipFill>
        <p:spPr>
          <a:xfrm>
            <a:off x="1171440" y="1600200"/>
            <a:ext cx="6039000" cy="45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Голодная – мычит, сытая –жует,</a:t>
            </a:r>
            <a:br>
              <a:rPr sz="4600"/>
            </a:b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Всем ребятам молоко дает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Содержимое 3" descr="depositphotos_6850425-White-black-milch-cow-on-green-grass-pasture[1].jpg"/>
          <p:cNvPicPr/>
          <p:nvPr/>
        </p:nvPicPr>
        <p:blipFill>
          <a:blip r:embed="rId1"/>
          <a:stretch/>
        </p:blipFill>
        <p:spPr>
          <a:xfrm>
            <a:off x="789840" y="1600200"/>
            <a:ext cx="6802200" cy="45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Мягкие лапки,</a:t>
            </a:r>
            <a:br>
              <a:rPr sz="4600"/>
            </a:b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 А в лапках царапки.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Содержимое 3" descr="1425228100_20122308104538[1].jpg"/>
          <p:cNvPicPr/>
          <p:nvPr/>
        </p:nvPicPr>
        <p:blipFill>
          <a:blip r:embed="rId1"/>
          <a:stretch/>
        </p:blipFill>
        <p:spPr>
          <a:xfrm>
            <a:off x="1159920" y="1600200"/>
            <a:ext cx="6061680" cy="452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49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физкультминутка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3007800" cy="5217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шка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орожно, словно кошка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дивана от окошка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сочках я пройдусь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ягу и в кольцо свернусь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теперь пора проснуться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рямиться, потянуться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легко с дивана спрыгну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инку я дугою выгну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теперь крадусь, как кошка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инку я прогну немножко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из блюдца молочко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акаю язычком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пкой грудку и животик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помою, словно котик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пять свернусь колечком,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вно кот у тёплой печки. (И. Лопухина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Содержимое 4" descr="muscle-sprain-stretch-and-overexertion-big[1].jpg"/>
          <p:cNvPicPr/>
          <p:nvPr/>
        </p:nvPicPr>
        <p:blipFill>
          <a:blip r:embed="rId1"/>
          <a:stretch/>
        </p:blipFill>
        <p:spPr>
          <a:xfrm>
            <a:off x="4284000" y="908640"/>
            <a:ext cx="3455280" cy="380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786800" cy="77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«Назови маму и ее малышей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?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»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http://hitgid.com/images/%D0%BA%D0%BE%D1%88%D0%BA%D0%B0-%D1%81-%D0%BA%D0%BE%D1%82%D1%8F%D1%82%D0%B0%D0%BC%D0%B8-5.jpg"/>
          <p:cNvPicPr/>
          <p:nvPr/>
        </p:nvPicPr>
        <p:blipFill>
          <a:blip r:embed="rId1"/>
          <a:stretch/>
        </p:blipFill>
        <p:spPr>
          <a:xfrm>
            <a:off x="467640" y="1124640"/>
            <a:ext cx="2736000" cy="2052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ttp://mediasubs.ru/group/uploads/po/pozitiv/image/1409245248-812143-299900.jpg"/>
          <p:cNvPicPr/>
          <p:nvPr/>
        </p:nvPicPr>
        <p:blipFill>
          <a:blip r:embed="rId2"/>
          <a:stretch/>
        </p:blipFill>
        <p:spPr>
          <a:xfrm>
            <a:off x="5940000" y="1340640"/>
            <a:ext cx="2954520" cy="184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http://img2i.spoki.tvnet.lv/upload/articles/33/331640/images/Paris-interesanti-testi-11.jpg"/>
          <p:cNvPicPr/>
          <p:nvPr/>
        </p:nvPicPr>
        <p:blipFill>
          <a:blip r:embed="rId3"/>
          <a:stretch/>
        </p:blipFill>
        <p:spPr>
          <a:xfrm>
            <a:off x="2988000" y="2277000"/>
            <a:ext cx="2918160" cy="194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agbz.ru/uploads/images/news/o-perspektivah-kobylego-moloka.jpg"/>
          <p:cNvPicPr/>
          <p:nvPr/>
        </p:nvPicPr>
        <p:blipFill>
          <a:blip r:embed="rId4"/>
          <a:stretch/>
        </p:blipFill>
        <p:spPr>
          <a:xfrm>
            <a:off x="3204000" y="4610880"/>
            <a:ext cx="2995920" cy="2246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http://images.ua.prom.st/9308462_w640_h640_5065.jpg"/>
          <p:cNvPicPr/>
          <p:nvPr/>
        </p:nvPicPr>
        <p:blipFill>
          <a:blip r:embed="rId5"/>
          <a:stretch/>
        </p:blipFill>
        <p:spPr>
          <a:xfrm>
            <a:off x="5940000" y="3861000"/>
            <a:ext cx="2971440" cy="194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https://23.img.avito.st/640x480/1827962523.jpg"/>
          <p:cNvPicPr/>
          <p:nvPr/>
        </p:nvPicPr>
        <p:blipFill>
          <a:blip r:embed="rId6"/>
          <a:stretch/>
        </p:blipFill>
        <p:spPr>
          <a:xfrm>
            <a:off x="251640" y="3789000"/>
            <a:ext cx="2945880" cy="248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72</TotalTime>
  <Application>LibreOffice/7.4.7.2$Linux_X86_64 LibreOffice_project/40$Build-2</Application>
  <AppVersion>15.0000</AppVersion>
  <Words>169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04:18:48Z</dcterms:created>
  <dc:creator>dns</dc:creator>
  <dc:description/>
  <dc:language>en-US</dc:language>
  <cp:lastModifiedBy>Serg</cp:lastModifiedBy>
  <dcterms:modified xsi:type="dcterms:W3CDTF">2021-02-13T17:16:41Z</dcterms:modified>
  <cp:revision>37</cp:revision>
  <dc:subject/>
  <dc:title>Домашние животны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