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86F-CBE4-475E-922D-FB52F66F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591-56E2-4D8F-A5F9-ABE32A4E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690-A621-4389-ABFB-D70B67A9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9AE-CD2A-44CB-AB7B-45B19A5D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C195-20A6-45A5-87A0-F628156B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2195-E3B2-4E76-89B5-E205BBE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9A8-843B-4B5F-847E-CA699468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2500-F12A-4FF0-AF3C-221B299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7FB-892F-4601-AB3B-1307F30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17D-3289-4C99-84CD-689ABFDB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EF6-0791-469F-98BC-5F869E1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239-BE70-4CD9-9E88-40B7299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3550-F692-4E6C-875A-1E1B0A0A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B328-4817-4FFB-A484-872C9DF2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B0BB-40D9-4E8C-A4D0-7B223CAD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046F-6D59-45B9-91D6-816CCBE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8DD-D7B3-42E0-A2FD-689CE03B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BCB75-4DFF-4EAC-8105-3C6391B5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20BEF-4841-49C9-A9CF-3887903A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D08BD-EB87-40AE-90A8-751B386D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13A27-3C32-48E5-BDAB-B671BBC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45C75-E4E7-4260-8795-5025B53A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A6B-5D9B-41AF-B9F3-FAACE999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A97CE-E47F-465A-BBF2-1C88795C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47916-CA6F-4D16-95B6-12E1F9F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4F7B1-A694-4534-AC9A-BBBC805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36E44-EF5D-490C-8E3C-7706D3F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C94DA-DF85-4A29-BCAF-B773549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48131-4414-4D4E-BC65-3A99840F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46646-E23F-44CB-B18C-01ED869D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C4B1-A327-424F-A63A-EA70CF6F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93DF-2709-4473-AF8B-286AB4F3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938E-7029-4776-8D45-61789C09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8DF-DD09-4C55-A8A4-EEE7FFDC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5F7B-881D-4A9B-B3A9-D091973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1A53-1238-4D07-900B-009CA2F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2DF2-200B-4964-892E-ABE67C0A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0B23-7B10-4FB4-B46E-748D66E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6C69-E2F9-4921-ACAB-0FBE040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CC1C-CBD0-41CD-8148-A39FB12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96EE-6E1E-4DEB-8705-E679D517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5D55-431E-4C8F-BB10-C7C8CBFF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3372-1439-4CC3-B046-609401B1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CDCEF-CDFF-4638-AFAB-729DD110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07A-11AE-46B3-BD79-AC48F97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B7985-4E01-4DC7-AC4B-4FB420A9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714F0-0D88-41D1-A747-B802A17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C5E62-399C-4BF3-AF19-A158C4C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4F178-D779-42BD-B7AE-8020A73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D53A8-7128-4E22-8910-924130FF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16AAB-F1D9-449E-9548-135A56E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AA0FE-BCCB-4A78-8533-095EB2D3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5D32D-69F7-44A7-8746-B14925D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CF8BE-2C32-4837-83DE-64E39CF6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00D99-671C-4100-9F89-91E695DC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DCA-7A67-46F0-86EA-FBB79B5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FDE23-A01F-4E3D-BD6E-2CE50921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22BA5-9F43-437C-A4FC-EBA2271C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9B9E4-5AC1-44E8-B8EC-DD9F7073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9F8F4-7FDB-4B3F-BA53-06F93497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8C3C2-A8A7-4BDE-97A1-C1C9F30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9859C-A996-4745-A104-0F9058EE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9A86A-9A34-415A-8924-4316CF5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CBA64-F9B9-45FE-AAAA-A4C27A9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FAF51-5B30-46A3-950D-F104292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FB5DF-0E54-4773-882D-097AE66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A70-F2A8-4438-B0D9-9C92128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36B83-3DB6-465B-8AF6-4248B46E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36504-F604-4A7C-8FF7-F23FF55F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63A27-22DF-49EB-B3D0-2EF4AAA3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01E2E-CEFE-484E-B6C7-6AEC5BBB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45EDF-5CA1-4A01-9521-E62AED7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1B5BB-AB3E-49BD-BF81-41E756C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15BAB-B75E-4F3D-81FC-F6B06516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F42EE-2F4D-49EC-8B11-3DBF2B8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10A6E-739C-4BE0-AEA2-CE3EDAA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A9B17-0A56-45D6-86EC-3B59D9F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7D0-0E06-4973-8CE2-7982F2B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C4F7A-5975-4584-B92E-D1F459B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CE9BF-566E-4736-B0B6-88626899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7CAC8-DDCE-4504-9A19-59F5228C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34A7A-A471-43FE-A5EA-8E10A6D1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CCC1D-6064-4897-BE80-AF5F581C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7E9-40D1-4C40-9945-28403D1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D91-533A-4D1E-9A1E-8AFAD07E26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FAB-CE6C-4F80-BFCD-C4EA3A80FC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AC4-B0E4-4ACC-971C-B39BC05628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B80-1783-4715-966E-2CC878DFFB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D834-384B-48A9-AA65-BEB767FBFE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6F5-94B7-4587-AF41-8B43ACF332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6A6-6D07-4E7C-93BE-6CFAD77B79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ПРЕЗЕНТАЦИЯ</a:t>
            </a:r>
            <a:br>
              <a:rPr sz="2700"/>
            </a:br>
            <a:r>
              <a:rPr b="1" lang="ru-RU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К УРОКУ АНГЛИЙСКОГО ЯЗЫКА</a:t>
            </a:r>
            <a:br>
              <a:rPr sz="2700"/>
            </a:br>
            <a:r>
              <a:rPr b="1" lang="ru-RU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ПО УЧЕБНИКУ </a:t>
            </a:r>
            <a:r>
              <a:rPr b="1" lang="en-US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SPOTLIGHT 6</a:t>
            </a:r>
            <a:br>
              <a:rPr sz="2700"/>
            </a:br>
            <a:r>
              <a:rPr b="1" lang="ru-RU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ПО ТЕМЕ </a:t>
            </a:r>
            <a:r>
              <a:rPr b="1" lang="en-US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“MY FAVOURITE DAY</a:t>
            </a:r>
            <a:r>
              <a:rPr b="1" lang="en-US" sz="2700" spc="-1" strike="noStrike">
                <a:solidFill>
                  <a:srgbClr val="138677"/>
                </a:solidFill>
                <a:latin typeface="Century Schoolbook"/>
              </a:rPr>
              <a:t>”</a:t>
            </a:r>
            <a:endParaRPr b="0" lang="en-US" sz="27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76720" y="3886200"/>
            <a:ext cx="40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подготовила: Плотникова Н. 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МКОУ «Средняя школа №3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4067280" y="6237360"/>
            <a:ext cx="172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г. Люди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STEN AND REPEAT</a:t>
            </a:r>
            <a:endParaRPr b="0" lang="en-US" sz="5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very week has seven days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ow! How many you ca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me Sunday, Monday, Tuesday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dnesday, Thursday, Friday, Saturday.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hat day is it today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ÐÐ¾ÑÐ¾Ð¶ÐµÐµ Ð¸Ð·Ð¾Ð±ÑÐ°Ð¶ÐµÐ½Ð¸Ðµ"/>
          <p:cNvPicPr/>
          <p:nvPr/>
        </p:nvPicPr>
        <p:blipFill>
          <a:blip r:embed="rId1"/>
          <a:srcRect l="0" t="16220" r="3654" b="12304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READ AND MATCH</a:t>
            </a:r>
            <a:endParaRPr b="0" lang="en-US" sz="27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981000"/>
            <a:ext cx="3657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Put 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Put up a t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Set off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Arriv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Build a fi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Leisure activit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Scout club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The res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Tie kno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70320" y="981000"/>
            <a:ext cx="3657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Надева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Остальны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Сложить косте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Отправляться в пу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Занятия в свободное врем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Клуб скаут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Завязывать узл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Ставить палатк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Приезжать, прибыва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2" name="Прямая со стрелкой 6"/>
          <p:cNvCxnSpPr/>
          <p:nvPr/>
        </p:nvCxnSpPr>
        <p:spPr>
          <a:xfrm flipV="1">
            <a:off x="1692360" y="1267560"/>
            <a:ext cx="2520000" cy="73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3" name="Прямая со стрелкой 10"/>
          <p:cNvCxnSpPr/>
          <p:nvPr/>
        </p:nvCxnSpPr>
        <p:spPr>
          <a:xfrm>
            <a:off x="2556000" y="1915920"/>
            <a:ext cx="1800720" cy="3097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4" name="Прямая со стрелкой 12"/>
          <p:cNvCxnSpPr/>
          <p:nvPr/>
        </p:nvCxnSpPr>
        <p:spPr>
          <a:xfrm>
            <a:off x="1692000" y="2491920"/>
            <a:ext cx="2592720" cy="289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5" name="Прямая со стрелкой 14"/>
          <p:cNvCxnSpPr/>
          <p:nvPr/>
        </p:nvCxnSpPr>
        <p:spPr>
          <a:xfrm>
            <a:off x="1619280" y="2997360"/>
            <a:ext cx="2737080" cy="27360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6" name="Прямая со стрелкой 16"/>
          <p:cNvCxnSpPr/>
          <p:nvPr/>
        </p:nvCxnSpPr>
        <p:spPr>
          <a:xfrm flipV="1">
            <a:off x="2411280" y="2275920"/>
            <a:ext cx="1874160" cy="13690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7" name="Прямая со стрелкой 18"/>
          <p:cNvCxnSpPr/>
          <p:nvPr/>
        </p:nvCxnSpPr>
        <p:spPr>
          <a:xfrm flipV="1">
            <a:off x="3276720" y="3212640"/>
            <a:ext cx="1080000" cy="937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/>
          <p:nvPr/>
        </p:nvCxnSpPr>
        <p:spPr>
          <a:xfrm flipV="1">
            <a:off x="2268000" y="4076280"/>
            <a:ext cx="2088360" cy="505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69" name="Прямая со стрелкой 22"/>
          <p:cNvCxnSpPr/>
          <p:nvPr/>
        </p:nvCxnSpPr>
        <p:spPr>
          <a:xfrm flipV="1">
            <a:off x="1908000" y="1915560"/>
            <a:ext cx="2593440" cy="33850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70" name="Прямая со стрелкой 24"/>
          <p:cNvCxnSpPr/>
          <p:nvPr/>
        </p:nvCxnSpPr>
        <p:spPr>
          <a:xfrm flipV="1">
            <a:off x="1835280" y="4723560"/>
            <a:ext cx="2521440" cy="1081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READ AND TRANSLATE THE UNDERLINED WORD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My friend comes to me </a:t>
            </a:r>
            <a:r>
              <a:rPr b="1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and</a:t>
            </a: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we have a good time toge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I brush my teeth </a:t>
            </a:r>
            <a:r>
              <a:rPr b="1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after that </a:t>
            </a: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I wash my fa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He has breakfast </a:t>
            </a:r>
            <a:r>
              <a:rPr b="1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before</a:t>
            </a: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he goes to schoo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We celebrate New Year at home </a:t>
            </a:r>
            <a:r>
              <a:rPr b="1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then</a:t>
            </a: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we come to visit our frien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She goes to bed </a:t>
            </a:r>
            <a:r>
              <a:rPr b="1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when</a:t>
            </a:r>
            <a:r>
              <a:rPr b="0" lang="en-US" sz="2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 it is ti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THE KEYS TO EX. 3 B P. 40</a:t>
            </a:r>
            <a:endParaRPr b="0" lang="en-US" sz="48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1. and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2. after that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3. then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4. when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5. befor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HOMEWORK</a:t>
            </a:r>
            <a:endParaRPr b="0" lang="en-US" sz="6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 Learn new words.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 Ex. 5 P. 4</a:t>
            </a:r>
            <a:r>
              <a:rPr b="0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</a:t>
            </a:r>
            <a:r>
              <a:rPr b="0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*  Write 5 questions to your friend about his (her) favourite day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38677"/>
                </a:solidFill>
                <a:latin typeface="Times New Roman"/>
                <a:ea typeface="Times New Roman"/>
              </a:rPr>
              <a:t>ИНТЕРНЕТ РЕСУРСЫ:</a:t>
            </a:r>
            <a:endParaRPr b="0" lang="en-US" sz="5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91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i.ytimg.com/vi/3TX7UtZtcz0/hqdefault.jp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english.ru/dni-nedeli-stishki-i-dogovorki-na-anglijskom-yazyke/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english.ru/fizkultminutka/zaryadka-ili-fizkultminutka-na-anglijskom-yazyke/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08:56:34Z</dcterms:created>
  <dc:creator>сергей</dc:creator>
  <dc:description/>
  <dc:language>en-US</dc:language>
  <cp:lastModifiedBy>сергей</cp:lastModifiedBy>
  <dcterms:modified xsi:type="dcterms:W3CDTF">2018-07-30T12:14:45Z</dcterms:modified>
  <cp:revision>9</cp:revision>
  <dc:subject/>
  <dc:title>Презентация  к уроку английского языка  по учебнику Spotlight 6 по теме “My favourite day”</dc:title>
</cp:coreProperties>
</file>