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1F35-5FC8-48E4-B308-FE7BCABA3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CC86-8C06-48DA-8B2C-70DE37E22D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FB54-500F-4E75-92D6-A2B056F10F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C70-FC88-4CC1-9F8C-3C414512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36B-8AFB-434D-84EB-B43654C6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90A-761C-4675-AA8F-2A28A1DC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72D-6659-491A-9347-CA7C339F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43E-BDFA-4685-91F8-2D331AA4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D16-784B-4DD0-8579-1DD8A52F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720-174A-4231-AFE7-5EB91F5B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C02-9EA2-410A-A6AA-2ECD9E5F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D8A-0F9B-4E00-B98E-25A20503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CE9-DB95-48A0-A9FA-5A766F2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438-C3CE-4229-BFBE-02C1898D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4F8-21E8-4AE3-A5CF-4F503B43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2F6D-D603-42AD-90E0-AC306126A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838080" y="91440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ston"/>
              </a:rPr>
              <a:t>Преемственность  в организации  внеурочной деятельности «Начальная школа – основная шко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sto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ib1.keep4u.ru/b/070903/7e63ac4ca24881055e.jpg"/>
          <p:cNvPicPr/>
          <p:nvPr/>
        </p:nvPicPr>
        <p:blipFill>
          <a:blip r:embed="rId1"/>
          <a:stretch/>
        </p:blipFill>
        <p:spPr>
          <a:xfrm>
            <a:off x="7045200" y="3733920"/>
            <a:ext cx="2098800" cy="3124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Arial"/>
              </a:rPr>
              <a:t>Преемств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914400" y="1317600"/>
            <a:ext cx="743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 </a:t>
            </a:r>
            <a:r>
              <a:rPr b="0" lang="ru-RU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реемственностью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следует понимать соотнесение содержания и методов обучения на каждом промежуточном этапе с предшествующим и последующим этапами и с конечными целями и задачами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14240" y="5331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1447560"/>
            <a:ext cx="64008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неурочная деятельность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ащихся объединяет все виды деятельности школьников (кроме учебной), в которых целесообразно решение задач их воспитания и социа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141"/>
          <p:cNvPicPr/>
          <p:nvPr/>
        </p:nvPicPr>
        <p:blipFill>
          <a:blip r:embed="rId1"/>
          <a:stretch/>
        </p:blipFill>
        <p:spPr>
          <a:xfrm>
            <a:off x="7086600" y="4064040"/>
            <a:ext cx="16938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4400" spc="-1" strike="noStrike">
                <a:solidFill>
                  <a:srgbClr val="002060"/>
                </a:solidFill>
                <a:latin typeface="Arial"/>
              </a:rPr>
              <a:t>Преиму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неурочная деятельность привлекает школьников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бровольностью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астия, свободой индивидуального выбора материала, форм общения с искусством слова, способов творческого самовыражения - возможностью делать то, что хочешь и мож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 внеурочной деятельности более откровенно само общение, разноплановое, полифункциональное (межличностное, познавательное, художественное, творческое),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заимоотношения же учителя и учащихся отличает открытость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и неформальность, атмосфера подлинного со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Объект 4"/>
          <p:cNvGraphicFramePr/>
          <p:nvPr/>
        </p:nvGraphicFramePr>
        <p:xfrm>
          <a:off x="533520" y="228600"/>
          <a:ext cx="8458200" cy="58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845820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Уровни результатов вне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128736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Первый уровень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Приобретение школьником социальных знаний, первичного понимания социальной реальности и повседневной жизни (общественных нормах, устройстве общества, правила поведения) Взаимодействие учитель - уче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Второй уровень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Получение опыта переживания и позитивного отношения к базовым ценностям общества  (человек, семья, Отечество, природа, мир, знания, культура) Взаимодействие ученик – учен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Третий уровен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Получение опыта самостоятельного общественного действия в открытом социуме Взаимодействие ученик - соци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A4A2-08CE-491E-8C47-18FA5009F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8B87-8FB2-4378-BE7D-86DCB3574A47}" type="slidenum">
              <a:rPr b="0" lang="ru-RU" sz="1200" spc="-1" strike="noStrike">
                <a:solidFill>
                  <a:srgbClr val="a4c5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749D-5F26-456E-8BA6-1F3B90365C87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0" y="1049400"/>
            <a:ext cx="1008000" cy="56721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5672160"/>
              <a:gd name="textAreaBottom" fmla="*/ 5623200 h 5672160"/>
            </a:gdLst>
            <a:ahLst/>
            <a:rect l="textAreaLeft" t="textAreaTop" r="textAreaRight" b="textAreaBottom"/>
            <a:pathLst>
              <a:path w="21600" h="121511">
                <a:moveTo>
                  <a:pt x="3600" y="0"/>
                </a:moveTo>
                <a:arcTo wR="3600" hR="3600" stAng="16200000" swAng="-5400000"/>
                <a:lnTo>
                  <a:pt x="0" y="117911"/>
                </a:lnTo>
                <a:arcTo wR="3600" hR="3600" stAng="10800000" swAng="-5400000"/>
                <a:lnTo>
                  <a:pt x="18000" y="1215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1066680" y="1143000"/>
            <a:ext cx="505080" cy="431640"/>
          </a:xfrm>
          <a:custGeom>
            <a:avLst/>
            <a:gdLst>
              <a:gd name="textAreaLeft" fmla="*/ 78840 w 505080"/>
              <a:gd name="textAreaRight" fmla="*/ 442080 w 50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600200" y="838080"/>
            <a:ext cx="2158920" cy="609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Игр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3962520" y="76212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/>
          <p:cNvSpPr/>
          <p:nvPr/>
        </p:nvSpPr>
        <p:spPr>
          <a:xfrm>
            <a:off x="1676520" y="2705040"/>
            <a:ext cx="2160360" cy="99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Познава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1600200" y="5030640"/>
            <a:ext cx="2273400" cy="1065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6"/>
          <p:cNvSpPr/>
          <p:nvPr/>
        </p:nvSpPr>
        <p:spPr>
          <a:xfrm>
            <a:off x="4800600" y="4800600"/>
            <a:ext cx="4152960" cy="1676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6"/>
          <p:cNvSpPr/>
          <p:nvPr/>
        </p:nvSpPr>
        <p:spPr>
          <a:xfrm>
            <a:off x="4876920" y="762120"/>
            <a:ext cx="3886200" cy="609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7"/>
          <p:cNvSpPr/>
          <p:nvPr/>
        </p:nvSpPr>
        <p:spPr>
          <a:xfrm>
            <a:off x="3943440" y="292104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7"/>
          <p:cNvSpPr/>
          <p:nvPr/>
        </p:nvSpPr>
        <p:spPr>
          <a:xfrm>
            <a:off x="3962520" y="525780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extBox 25" descr=""/>
          <p:cNvPicPr/>
          <p:nvPr/>
        </p:nvPicPr>
        <p:blipFill>
          <a:blip r:embed="rId1"/>
          <a:stretch/>
        </p:blipFill>
        <p:spPr>
          <a:xfrm>
            <a:off x="450720" y="847800"/>
            <a:ext cx="652680" cy="55594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7"/>
          <p:cNvSpPr/>
          <p:nvPr/>
        </p:nvSpPr>
        <p:spPr>
          <a:xfrm>
            <a:off x="1066680" y="2994120"/>
            <a:ext cx="505080" cy="431640"/>
          </a:xfrm>
          <a:custGeom>
            <a:avLst/>
            <a:gdLst>
              <a:gd name="textAreaLeft" fmla="*/ 78840 w 505080"/>
              <a:gd name="textAreaRight" fmla="*/ 442080 w 50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7"/>
          <p:cNvSpPr/>
          <p:nvPr/>
        </p:nvSpPr>
        <p:spPr>
          <a:xfrm>
            <a:off x="1066680" y="5334120"/>
            <a:ext cx="505080" cy="431640"/>
          </a:xfrm>
          <a:custGeom>
            <a:avLst/>
            <a:gdLst>
              <a:gd name="textAreaLeft" fmla="*/ 78840 w 505080"/>
              <a:gd name="textAreaRight" fmla="*/ 442080 w 50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9"/>
          <p:cNvSpPr/>
          <p:nvPr/>
        </p:nvSpPr>
        <p:spPr>
          <a:xfrm>
            <a:off x="4876920" y="762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1"/>
          <p:cNvSpPr/>
          <p:nvPr/>
        </p:nvSpPr>
        <p:spPr>
          <a:xfrm>
            <a:off x="5105520" y="5257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6"/>
          <p:cNvSpPr/>
          <p:nvPr/>
        </p:nvSpPr>
        <p:spPr>
          <a:xfrm>
            <a:off x="4686480" y="1981080"/>
            <a:ext cx="4267080" cy="2438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4744800" y="2085840"/>
            <a:ext cx="4313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знавательные бесе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факультативы, олимпи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идактический теа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нтеллектуальные клу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сследовательские проек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нтеллектуальные марафо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онференции, школьные муз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1849320" y="50608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но-ценнос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0"/>
          <p:cNvSpPr/>
          <p:nvPr/>
        </p:nvSpPr>
        <p:spPr>
          <a:xfrm>
            <a:off x="4818240" y="5024520"/>
            <a:ext cx="430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Этическая бес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ебаты, тематические дисп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блемно-ценно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иску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1149480" y="914400"/>
            <a:ext cx="7484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ериально – техни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дро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формационно – методи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сихолого – педагоги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нитарно – гигиени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инансово - экономи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00000"/>
                </a:solidFill>
                <a:latin typeface="Arial"/>
              </a:rPr>
              <a:t>Спасибо за внимание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ночка</cp:lastModifiedBy>
  <dcterms:modified xsi:type="dcterms:W3CDTF">2016-02-17T17:50:33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