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BAFD-EC47-47BE-AE12-2FE53F331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B107-7824-42D1-B40E-DE6AD8DE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0422-1218-4746-AB4B-A7AADA9EB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C2A1-CF3D-4CB2-B941-9DC3A05CA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76CB-29F4-416E-A397-0ADF18B7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9D7A-5ACE-4014-AE75-2C036AF1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D6BF-32B4-4565-8585-F7505F77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FC43-08D6-4A21-8E78-89328BCE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58B2-B79F-4DE1-A789-DE3BEAF2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4A80-9897-4008-BE3D-D921D2ED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A983-B764-4197-A51C-33212D4E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D394-B13A-46AA-9456-C449C71B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E0BA-8E27-4D50-82D1-814DBC4812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ba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«Почини ковер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активная игра для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ой младшей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итатель: Тимергалиева Л.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23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6634080" y="457200"/>
            <a:ext cx="1944720" cy="1981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ли – были мыш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шки – шалуни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т как – то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шли мышки погу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36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533520" y="-55440"/>
            <a:ext cx="7924680" cy="6913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7524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990720" y="3276720"/>
            <a:ext cx="1573200" cy="2133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2971800" y="1219320"/>
            <a:ext cx="5711760" cy="3573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3"/>
          <a:stretch/>
        </p:blipFill>
        <p:spPr>
          <a:xfrm>
            <a:off x="4343400" y="4876920"/>
            <a:ext cx="1695600" cy="1495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"/>
          <p:cNvPicPr/>
          <p:nvPr/>
        </p:nvPicPr>
        <p:blipFill>
          <a:blip r:embed="rId4"/>
          <a:stretch/>
        </p:blipFill>
        <p:spPr>
          <a:xfrm>
            <a:off x="609480" y="1828800"/>
            <a:ext cx="1752840" cy="1676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"/>
          <p:cNvPicPr/>
          <p:nvPr/>
        </p:nvPicPr>
        <p:blipFill>
          <a:blip r:embed="rId5"/>
          <a:stretch/>
        </p:blipFill>
        <p:spPr>
          <a:xfrm>
            <a:off x="2133720" y="4724280"/>
            <a:ext cx="1876320" cy="1762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"/>
          <p:cNvPicPr/>
          <p:nvPr/>
        </p:nvPicPr>
        <p:blipFill>
          <a:blip r:embed="rId6"/>
          <a:stretch/>
        </p:blipFill>
        <p:spPr>
          <a:xfrm>
            <a:off x="7391520" y="4800600"/>
            <a:ext cx="1752480" cy="16765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моги бабушке починить кове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598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406 0.03426 C 0.06563 0.00093 0.06615 -0.0324 0.06858 -0.06574 C 0.07049 -0.09189 0.07361 -0.1199 0.08681 -0.13912 C 0.08941 -0.14953 0.09358 -0.15555 0.10052 -0.15902 C 0.11076 -0.17407 0.10556 -0.1706 0.11424 -0.17453 C 0.11701 -0.17708 0.11892 -0.18194 0.12188 -0.18356 C 0.12917 -0.1875 0.13715 -0.1875 0.14462 -0.19004 C 0.15955 -0.19514 0.17344 -0.19907 0.18872 -0.20115 C 0.19913 -0.20625 0.21007 -0.20972 0.22083 -0.21227 C 0.22969 -0.21759 0.23941 -0.22014 0.24826 -0.22569 C 0.25087 -0.22731 0.25556 -0.23171 0.25886 -0.2324 C 0.26441 -0.23356 0.26997 -0.23379 0.27552 -0.23449 C 0.27847 -0.23611 0.2816 -0.23819 0.28472 -0.23912 C 0.29236 -0.2412 0.30747 -0.2456 0.30747 -0.24537 C 0.32361 -0.25787 0.29879 -0.24027 0.33195 -0.25231 C 0.33438 -0.25324 0.33559 -0.2581 0.33802 -0.25902 C 0.3434 -0.26111 0.34931 -0.26064 0.35486 -0.26134 C 0.36597 -0.26666 0.35764 -0.26342 0.38073 -0.26342 E">
                                      <p:cBhvr>
                                        <p:cTn id="29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250" autoRev="1" fill="hold"/>
                                        <p:tgtEl>
                                          <p:spTgt spid="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250" autoRev="1" fill="hold"/>
                                        <p:tgtEl>
                                          <p:spTgt spid="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25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25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3886200" y="4343400"/>
            <a:ext cx="2438280" cy="2151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5477040" cy="3581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"/>
          <p:cNvPicPr/>
          <p:nvPr/>
        </p:nvPicPr>
        <p:blipFill>
          <a:blip r:embed="rId3"/>
          <a:stretch/>
        </p:blipFill>
        <p:spPr>
          <a:xfrm>
            <a:off x="762120" y="4114800"/>
            <a:ext cx="1573200" cy="2133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"/>
          <p:cNvPicPr/>
          <p:nvPr/>
        </p:nvPicPr>
        <p:blipFill>
          <a:blip r:embed="rId4"/>
          <a:stretch/>
        </p:blipFill>
        <p:spPr>
          <a:xfrm>
            <a:off x="6172200" y="838080"/>
            <a:ext cx="1876320" cy="1762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"/>
          <p:cNvPicPr/>
          <p:nvPr/>
        </p:nvPicPr>
        <p:blipFill>
          <a:blip r:embed="rId5"/>
          <a:stretch/>
        </p:blipFill>
        <p:spPr>
          <a:xfrm>
            <a:off x="6629400" y="3733920"/>
            <a:ext cx="17524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51 -0.13518 C 0.00122 -0.15347 -0.00174 -0.21851 -0.01476 -0.24097 C -0.01962 -0.26342 -0.01285 -0.23958 -0.02083 -0.25439 C -0.02795 -0.26713 -0.01649 -0.25648 -0.02899 -0.26574 C -0.04774 -0.29768 -0.0283 -0.26666 -0.04306 -0.28657 C -0.04462 -0.28865 -0.04618 -0.29074 -0.04722 -0.29305 C -0.04809 -0.29537 -0.04792 -0.29814 -0.04931 -0.3 C -0.05295 -0.30532 -0.06163 -0.31388 -0.06163 -0.31365 C -0.06528 -0.32731 -0.07326 -0.33842 -0.08212 -0.34814 C -0.0842 -0.35069 -0.08576 -0.35439 -0.08802 -0.35717 C -0.1033 -0.37754 -0.12587 -0.39838 -0.14896 -0.40509 C -0.15538 -0.4118 -0.15469 -0.41574 -0.16319 -0.41898 C -0.17049 -0.42453 -0.17674 -0.43101 -0.18368 -0.43703 C -0.18958 -0.44745 -0.20017 -0.45578 -0.20816 -0.46458 C -0.20972 -0.46643 -0.21042 -0.46944 -0.21215 -0.47129 C -0.22552 -0.48657 -0.21528 -0.47037 -0.22639 -0.48518 C -0.22778 -0.4875 -0.22865 -0.49027 -0.23038 -0.49213 C -0.23212 -0.49398 -0.23455 -0.49467 -0.23646 -0.49652 C -0.24184 -0.50162 -0.24774 -0.50879 -0.25278 -0.51481 C -0.25608 -0.51875 -0.25816 -0.52407 -0.26094 -0.52847 C -0.26181 -0.53032 -0.26389 -0.53125 -0.2651 -0.5331 C -0.26667 -0.53472 -0.26806 -0.53588 -0.2691 -0.53773 C -0.27483 -0.54699 -0.26979 -0.54676 -0.275 -0.54676 E">
                                      <p:cBhvr>
                                        <p:cTn id="59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25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250" autoRev="1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5891400" cy="3535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2"/>
          <a:stretch/>
        </p:blipFill>
        <p:spPr>
          <a:xfrm>
            <a:off x="914400" y="3124080"/>
            <a:ext cx="571680" cy="905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3"/>
          <a:stretch/>
        </p:blipFill>
        <p:spPr>
          <a:xfrm>
            <a:off x="2057400" y="5753160"/>
            <a:ext cx="533520" cy="1104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"/>
          <p:cNvPicPr/>
          <p:nvPr/>
        </p:nvPicPr>
        <p:blipFill>
          <a:blip r:embed="rId4"/>
          <a:stretch/>
        </p:blipFill>
        <p:spPr>
          <a:xfrm>
            <a:off x="5029200" y="990720"/>
            <a:ext cx="1724040" cy="1542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"/>
          <p:cNvPicPr/>
          <p:nvPr/>
        </p:nvPicPr>
        <p:blipFill>
          <a:blip r:embed="rId5"/>
          <a:stretch/>
        </p:blipFill>
        <p:spPr>
          <a:xfrm>
            <a:off x="5943600" y="5753160"/>
            <a:ext cx="533520" cy="1104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"/>
          <p:cNvPicPr/>
          <p:nvPr/>
        </p:nvPicPr>
        <p:blipFill>
          <a:blip r:embed="rId6"/>
          <a:stretch/>
        </p:blipFill>
        <p:spPr>
          <a:xfrm>
            <a:off x="990720" y="4038480"/>
            <a:ext cx="571320" cy="9050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авай, украсим этот кове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7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3483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42 0.1118 L 0.30208 -0.11042 E">
                                      <p:cBhvr>
                                        <p:cTn id="88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-0.15486 L 0.70208 -0.25486 E">
                                      <p:cBhvr>
                                        <p:cTn id="93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5 -0.18889 E">
                                      <p:cBhvr>
                                        <p:cTn id="98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46945E-018 L 0.15 -0.18889 E">
                                      <p:cBhvr>
                                        <p:cTn id="103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11111E-006 C -0.00225 0.03704 -0.00347 0.07407 -0.00659 0.11111 C -0.00607 0.15764 -0.00503 0.25092 -0.00503 0.25116 E">
                                      <p:cBhvr>
                                        <p:cTn id="108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ba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Молодец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4319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</cp:lastModifiedBy>
  <dcterms:modified xsi:type="dcterms:W3CDTF">2019-02-03T14:37:1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