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F42-B0E4-4518-931F-EA1C20A6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F3D-39D6-47B4-8CDE-CB04B6F4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33A-3AC3-4F7B-9AF9-3E49C3B8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DC3-4D48-4E05-A944-C8BEE5F5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BCE-D09C-4A88-9397-54EB1A48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A22-CD89-4244-B20E-9B7F4EC7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003-519B-4E74-9EA8-00D1761C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924-8831-4087-8993-D4D60F4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0FA-E8C2-4B51-87A7-620DC8AC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26E-D115-4C84-8104-375BFE5D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D22-091D-4978-95B5-CC1B2E3D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4FB-FC28-4DB1-9F17-9989E254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C62-C5DA-46B7-9CFF-2E9491FA3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33360" y="0"/>
            <a:ext cx="98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04T11:07:47Z</dcterms:created>
  <dc:creator>admin</dc:creator>
  <dc:description/>
  <dc:language>en-US</dc:language>
  <cp:lastModifiedBy>admin</cp:lastModifiedBy>
  <dcterms:modified xsi:type="dcterms:W3CDTF">2021-09-04T12:05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