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8F7-C026-461C-AE65-9D7D1C85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95B-AE22-4E68-92ED-55E30CF6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D6563-E90C-47D8-8FBD-4EDD5D94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A26F4-94D9-4ECF-81CE-57E65498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D5036-33CB-4C49-AB0E-BA4AFE1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BA0BC-3B93-4CD8-A33F-28F3895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A838C-30EA-4178-B5D0-5B7FAD77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039F3-785B-4EDB-82D3-9D9877BD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73991-5F78-4093-A0AC-CC3D5556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8035F-861F-4A7B-BAB6-ED1B91DC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D51C4-C7E7-4064-A815-55B158A0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D1BE3-DB35-4DD0-AD95-9442C4D3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68A-B237-4432-B9D4-AC7CA508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09B48-2C73-4D38-A546-B637F369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325B8-9099-45FF-A1C0-0C34734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40F89-8513-47A6-89C7-F2CBB6BA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B1F13-5FA5-4323-A545-20DDB5E4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D2403-5F35-47BD-9093-FFCCDC86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B14E0-B615-453A-8218-8F8EE8BE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CF3BD-A852-42E4-AE8C-7BC5BDB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9AECA-830B-4F2B-8EC8-734D4414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8B37E-D31C-420C-9578-B4E30F87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082E7-CAF3-4BC9-B588-F33F73B2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C6D-56D4-4B9E-8409-0A5CB6DA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DAC58-6904-4D74-AFA0-B669C1FE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E87E8-99CC-40A7-87F5-4573A06B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51B108-3DC4-425E-8C08-945649A2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65E1ED-5BF6-4250-A08D-219362C7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76B639-87BD-47E7-B88A-A5CA4F6E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74C99D-F349-45FF-99AD-E64734F2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44E7F6-8D95-410F-8F66-EE310E0F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6AAF3F-4CB4-4733-ABFC-4A23D64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D704B0-C70E-4FB0-83DC-11E510FD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63E69A-9164-49EE-9CB3-C8D16C8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112-EB83-4DF5-B2C2-62475200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B2F861-D22D-4A18-AE64-24DD8499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45CE99-E19D-4B91-983B-01513C40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6EEA3E-1BCF-46E5-B533-695AE06A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444A-7B84-4785-AD00-0F4A118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3725-FE21-45EA-AE6C-AB3F835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EC88-CEA5-4955-B293-C8B6FCD0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3E57-40B7-49F7-BF2B-1180E331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7CE6-C428-49BB-9284-8A3A4EA2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F4E5-92CC-4152-B879-F2DFFD3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00A-AFEB-44AE-95C7-AA76D52F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C2D0-22E0-4550-BDDC-2A59FC64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131F-D95B-48DE-BCF7-8B18528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93F3-9FCD-4BC7-87C6-5685991E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A977-5EB2-4AE1-BEFD-3F3A1196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E1C0-FDB4-4C24-9719-9DFF3D35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6291-F1A7-4AFB-84A2-391608BF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DD98-DA14-4A45-A5D7-A84F6FA3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DDCA-F817-4E80-AFB9-710E9BEB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6F7C-D3C1-4BC4-BB39-46A33909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2BB0-17F0-42CA-9750-F8D450D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DBB-296F-4898-8F49-086F5C5A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CA5A-3AB5-4AE9-8CD1-57E29057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B2F1-A43B-4D81-8AF4-63F1BCCF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AA59-C869-4EF4-A791-40130E99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B62D-5F99-40B5-BF80-41488E3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4A77-E554-48E2-8571-13FD026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9B48-56F6-4591-A01E-960C86BC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9410-BD15-4441-AB99-89215D61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06C38-175B-4897-A302-6F95A406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D97D-A822-4A05-9F46-9126B1D6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8834A-E91A-43D3-8BB0-2912622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DF6-C11E-41B7-819C-9AC27559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DBB9-83A7-43EF-BCA0-372F5D10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47CE-5D57-4632-9DFF-42D1FF65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BAFC-0009-4A7E-9088-C0A055FF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E1EF-C84B-4481-92F6-5B499BE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EAAB-54B4-403C-B5AB-79C8A0E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15A0-1138-489C-A238-0BB6457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1A0D-A420-4F7B-A81B-F8932B06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3AEB-65A8-4229-8DAB-15BEB8E0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4777-6204-4DE3-81FC-FCF187E4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0310C-F03E-4125-AA64-386BD879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8DD-AB3D-4629-98A8-7E8812DE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E35C4-0B18-4B9A-9DFA-40445F3A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6AE5-63F7-4C9B-9ED4-FA57AC0F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8863-928A-4EA2-86A0-A0813398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37E1-A760-40B1-B5AE-09278333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EFEC3-FA5C-4EDD-B439-4F515554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FD8CD-7909-44A0-9DAB-517FC869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0711-BB3D-4F74-B9C8-9961FA7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6117-FA88-4E7B-8D58-25C6E73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F1A1-B340-4465-9535-0395E5D8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7CF1-D0F9-4E0B-A9A7-F1253EAC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307-5C30-47D1-905E-156609C2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304E-89E8-43CB-86E7-7CE7D929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676C-2E3E-490D-8795-1DFC3401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7D233-361E-4B29-947B-12B40CC7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17382-D57B-4885-9065-B99E907C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114D5-6645-410F-B1CF-8209010E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6D8F-354A-4083-84CE-FE95B85A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F3C82-9F14-47EE-B7B3-FB2C1161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CCD11-638D-4978-A566-E29D73F5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B2D01-BB0C-4697-A830-B64340D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C623-580C-42C4-B844-F9B89642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429-4698-489B-AB23-45557B0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7485E-A562-44E0-9439-BE7375AE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34C73-BB3C-46D9-A229-64CDF9C8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4F50-9B58-4D9D-A0B5-FD80C774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E9A7-95FF-4BF2-B6EF-7FE930E1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3E7C-F7A1-464D-AEBA-013FC7B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24F9E-0944-45C3-82C4-25619C7B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371D6-65C7-4169-9741-C9DE1AC7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708F-B751-4D52-AC79-0738A038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7FF69-0F80-4241-A2FA-2101998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3FDA3-C049-4A7B-84CB-320628E2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A7B-B622-4DFE-A9F6-0C874DBD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86354-0781-4B3E-91E5-C275704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0C731-0F8A-4153-BC0C-1C86050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00472-E8B2-4B60-B785-C56AF5A4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6E164-2A47-4FD8-87CA-72C36346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C302-EC6C-4F6C-A670-34ADE5BE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80086-B65E-41EB-B9B2-84BEB8DB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64897-45B5-41F3-89B8-BE862C50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5D93A-909E-4544-92E1-1A6EF721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AB42B-C039-4318-BD6E-E366C52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2A14B-8693-49EA-A5A4-B7A4DBAB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543-5B3D-48BD-8FE9-C77B4A97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473B-9C8F-4339-8C6C-D7D59B0C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D2776-9DDB-4921-84EB-8F9A1ED9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98BB-9982-4F94-A628-F97169E1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56982-B8CB-4560-8428-461AF2D4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3C08-FE91-4054-AAD2-932D0CD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5C6BA-B3C8-4DF9-B454-E62D6C80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DCCB5-D3C3-472E-9E94-384C4C0D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D7C47-E0A5-4A6A-89B3-7D10E8D3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5713D-7510-4E09-82DD-FA477FF2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496AC-84A6-4930-889B-71BB9BBE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142-AACD-4118-9ED2-D7BC7231AE2B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03D-26B0-425C-8A59-4A7DE6D4DDC7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1272-317B-4090-A44F-E262EE981EF9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676C-BDE1-48A9-BB40-B5F8FEA418C0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6F0B-25D3-46C9-8048-A1AFF85B2B6B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529-4E46-40C3-834B-298FEB0991C6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575f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CDAA-6EA0-4426-A7C0-78860DEC4576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575f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7283-0672-43DB-B8FD-7089D486E982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898F-F755-4EDC-A211-64D2CDF7DC37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56E4-06DD-45CA-B5C9-4A10930864A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0F5E-854A-4879-B8C4-989D5921D720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qt94W2-rIo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211280" y="3789360"/>
            <a:ext cx="493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ПОДГОТОВИЛА: ПЛОТНИКОВА Н. 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УЧИТЕЛЬ АНГЛИЙСКОГО ЯЗЫКА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МКОУ «СРЕДНЯЯ ШКОЛА №3»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ru-RU" sz="3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Презентация</a:t>
            </a:r>
            <a:br>
              <a:rPr sz="3200"/>
            </a:br>
            <a:r>
              <a:rPr b="1" lang="ru-RU" sz="3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к уроку английского языка</a:t>
            </a:r>
            <a:br>
              <a:rPr sz="3200"/>
            </a:br>
            <a:r>
              <a:rPr b="1" lang="ru-RU" sz="3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по учебнику </a:t>
            </a:r>
            <a:r>
              <a:rPr b="1" lang="en-US" sz="3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Spotlight 6</a:t>
            </a:r>
            <a:br>
              <a:rPr sz="3200"/>
            </a:br>
            <a:r>
              <a:rPr b="1" lang="ru-RU" sz="3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по теме </a:t>
            </a:r>
            <a:r>
              <a:rPr b="1" lang="en-US" sz="32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“TV programmes”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3924360" y="5732640"/>
            <a:ext cx="2376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г. Люди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560" name="What do you do in the morning [Family and  Friends 2, Unit 8- What's the time]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562" name="Содержимое 3" descr="ÐÐ°ÑÑÐ¸Ð½ÐºÐ¸ Ð¿Ð¾ Ð·Ð°Ð¿ÑÐ¾ÑÑ ÐºÐ°ÑÑÐ¸Ð½ÐºÐ¸ ÑÐ² Ð¿ÑÐ¾Ð³ÑÐ°Ð¼Ð¼"/>
          <p:cNvPicPr/>
          <p:nvPr/>
        </p:nvPicPr>
        <p:blipFill>
          <a:blip r:embed="rId1"/>
          <a:stretch/>
        </p:blipFill>
        <p:spPr>
          <a:xfrm>
            <a:off x="0" y="0"/>
            <a:ext cx="3708360" cy="19890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4" descr="ÐÐ°ÑÑÐ¸Ð½ÐºÐ¸ Ð¿Ð¾ Ð·Ð°Ð¿ÑÐ¾ÑÑ ÐºÐ°ÑÑÐ¸Ð½ÐºÐ¸ ÑÐ² Ð¿ÑÐ¾Ð³ÑÐ°Ð¼Ð¼"/>
          <p:cNvPicPr/>
          <p:nvPr/>
        </p:nvPicPr>
        <p:blipFill>
          <a:blip r:embed="rId2"/>
          <a:stretch/>
        </p:blipFill>
        <p:spPr>
          <a:xfrm>
            <a:off x="2484360" y="198900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5" descr="ÐÐ°ÑÑÐ¸Ð½ÐºÐ¸ Ð¿Ð¾ Ð·Ð°Ð¿ÑÐ¾ÑÑ ÐºÐ°ÑÑÐ¸Ð½ÐºÐ¸ ÑÐ² Ð¿ÑÐ¾Ð³ÑÐ°Ð¼Ð¼"/>
          <p:cNvPicPr/>
          <p:nvPr/>
        </p:nvPicPr>
        <p:blipFill>
          <a:blip r:embed="rId3"/>
          <a:stretch/>
        </p:blipFill>
        <p:spPr>
          <a:xfrm>
            <a:off x="5508720" y="0"/>
            <a:ext cx="3635280" cy="206064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6" descr="ÐÐ°ÑÑÐ¸Ð½ÐºÐ¸ Ð¿Ð¾ Ð·Ð°Ð¿ÑÐ¾ÑÑ ÐºÐ°ÑÑÐ¸Ð½ÐºÐ¸ ÑÐ² Ð¿ÑÐ¾Ð³ÑÐ°Ð¼Ð¼"/>
          <p:cNvPicPr/>
          <p:nvPr/>
        </p:nvPicPr>
        <p:blipFill>
          <a:blip r:embed="rId4"/>
          <a:stretch/>
        </p:blipFill>
        <p:spPr>
          <a:xfrm>
            <a:off x="5076720" y="4292640"/>
            <a:ext cx="4067280" cy="256536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7" descr="ÐÐ°ÑÑÐ¸Ð½ÐºÐ¸ Ð¿Ð¾ Ð·Ð°Ð¿ÑÐ¾ÑÑ ÐºÐ°ÑÑÐ¸Ð½ÐºÐ¸ ÑÐ² Ð¿ÑÐ¾Ð³ÑÐ°Ð¼Ð¼"/>
          <p:cNvPicPr/>
          <p:nvPr/>
        </p:nvPicPr>
        <p:blipFill>
          <a:blip r:embed="rId5"/>
          <a:stretch/>
        </p:blipFill>
        <p:spPr>
          <a:xfrm>
            <a:off x="0" y="4292640"/>
            <a:ext cx="4067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Read and match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1680" y="1412640"/>
            <a:ext cx="403848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tcom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w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ality show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cience fi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liciou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wfu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gust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l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rribl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or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Реалити шоу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Научная фантастика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Новости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Комедия положени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Ужасны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Отвратительны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Скучны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Вкусны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Скучный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Ужасны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570" name="Прямая со стрелкой 7"/>
          <p:cNvCxnSpPr/>
          <p:nvPr/>
        </p:nvCxnSpPr>
        <p:spPr>
          <a:xfrm>
            <a:off x="1547280" y="1699920"/>
            <a:ext cx="3312360" cy="129780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1" name="Прямая со стрелкой 10"/>
          <p:cNvCxnSpPr/>
          <p:nvPr/>
        </p:nvCxnSpPr>
        <p:spPr>
          <a:xfrm>
            <a:off x="1116000" y="2133360"/>
            <a:ext cx="3744000" cy="43236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2" name="Прямая со стрелкой 16"/>
          <p:cNvCxnSpPr/>
          <p:nvPr/>
        </p:nvCxnSpPr>
        <p:spPr>
          <a:xfrm flipV="1">
            <a:off x="2410920" y="1628280"/>
            <a:ext cx="2521800" cy="100872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3" name="Прямая со стрелкой 18"/>
          <p:cNvCxnSpPr/>
          <p:nvPr/>
        </p:nvCxnSpPr>
        <p:spPr>
          <a:xfrm flipV="1">
            <a:off x="2411280" y="2060280"/>
            <a:ext cx="2448720" cy="100872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4" name="Прямая со стрелкой 20"/>
          <p:cNvCxnSpPr/>
          <p:nvPr/>
        </p:nvCxnSpPr>
        <p:spPr>
          <a:xfrm>
            <a:off x="1835280" y="3499920"/>
            <a:ext cx="3024720" cy="129780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5" name="Прямая со стрелкой 22"/>
          <p:cNvCxnSpPr/>
          <p:nvPr/>
        </p:nvCxnSpPr>
        <p:spPr>
          <a:xfrm flipV="1">
            <a:off x="1258560" y="3428280"/>
            <a:ext cx="3601080" cy="57708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6" name="Прямая со стрелкой 24"/>
          <p:cNvCxnSpPr/>
          <p:nvPr/>
        </p:nvCxnSpPr>
        <p:spPr>
          <a:xfrm flipV="1">
            <a:off x="1908000" y="3933360"/>
            <a:ext cx="2952000" cy="50400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7" name="Прямая со стрелкой 26"/>
          <p:cNvCxnSpPr/>
          <p:nvPr/>
        </p:nvCxnSpPr>
        <p:spPr>
          <a:xfrm>
            <a:off x="971280" y="4868640"/>
            <a:ext cx="3888360" cy="36108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8" name="Прямая со стрелкой 29"/>
          <p:cNvCxnSpPr/>
          <p:nvPr/>
        </p:nvCxnSpPr>
        <p:spPr>
          <a:xfrm>
            <a:off x="1763280" y="5373720"/>
            <a:ext cx="3096360" cy="28800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579" name="Прямая со стрелкой 36"/>
          <p:cNvCxnSpPr/>
          <p:nvPr/>
        </p:nvCxnSpPr>
        <p:spPr>
          <a:xfrm flipV="1">
            <a:off x="1332000" y="4365000"/>
            <a:ext cx="3528000" cy="1440360"/>
          </a:xfrm>
          <a:prstGeom prst="straightConnector1">
            <a:avLst/>
          </a:prstGeom>
          <a:ln w="9360">
            <a:solidFill>
              <a:srgbClr val="fe863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Say true or false , then  correct if it is false</a:t>
            </a: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.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581" name="Содержимое 7" descr=""/>
          <p:cNvPicPr/>
          <p:nvPr/>
        </p:nvPicPr>
        <p:blipFill>
          <a:blip r:embed="rId1"/>
          <a:srcRect l="55864" t="35367" r="1589" b="1974"/>
          <a:stretch/>
        </p:blipFill>
        <p:spPr>
          <a:xfrm>
            <a:off x="2627280" y="620640"/>
            <a:ext cx="4248360" cy="3024360"/>
          </a:xfrm>
          <a:prstGeom prst="rect">
            <a:avLst/>
          </a:prstGeom>
          <a:ln w="0">
            <a:noFill/>
          </a:ln>
        </p:spPr>
      </p:pic>
      <p:sp>
        <p:nvSpPr>
          <p:cNvPr id="582" name="TextBox 8"/>
          <p:cNvSpPr/>
          <p:nvPr/>
        </p:nvSpPr>
        <p:spPr>
          <a:xfrm>
            <a:off x="179280" y="364500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36%</a:t>
            </a:r>
            <a:r>
              <a:rPr b="0" lang="en-US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 of US teens like reality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2. 19% of US teens like sitc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3. 12% of US teens like music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4. 7 % of US teens like reality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5. 10% of US teens like talk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6. 9%  of US teens like science f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7. 6%  of  US teens like s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584" name="videoplayback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Homework</a:t>
            </a:r>
            <a:endParaRPr b="0" lang="en-US" sz="48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1. Learn new words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2. Ex. 8 b P. 39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*  Ex.11 P. 39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d2512"/>
                </a:solidFill>
                <a:latin typeface="Georgia"/>
              </a:rPr>
              <a:t>Интернет ресурсы: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24000" y="141300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2611c"/>
                </a:solidFill>
                <a:uFillTx/>
                <a:latin typeface="Georgia"/>
                <a:hlinkClick r:id="rId1"/>
              </a:rPr>
              <a:t>https://www.youtube.com/watch?v=bqt94W2-rI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s://www.youtube.com/watch?v=YQLmX2hMlh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www.artbait.ru/img/Portfolio_Ekp_Logo_02.jp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www.tele.ru/upload/iblock/bda/evelina-khromchenko-na-peredache-modnyy-prigovor.jp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s://www.mke.ee/media/k2/items/cache/ede2fd10889a4cfa7b0a24e2433fa6de_XL.jp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s://encrypted-tbn0.gstatic.com/images?q=tbn:ANd9GcTzLX_f2xT4awFJaySa0LKURRrfJZejSfhi_jQhahS3xmXLnwu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07:14:13Z</dcterms:created>
  <dc:creator>сергей</dc:creator>
  <dc:description/>
  <dc:language>en-US</dc:language>
  <cp:lastModifiedBy>сергей</cp:lastModifiedBy>
  <dcterms:modified xsi:type="dcterms:W3CDTF">2018-07-30T12:04:35Z</dcterms:modified>
  <cp:revision>12</cp:revision>
  <dc:subject/>
  <dc:title>Презентация  к уроку английского языка  по учебнику Spotlight 6 по теме “TV programmes”</dc:title>
</cp:coreProperties>
</file>