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A66-2BE4-4890-812B-80B8CA9A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8E1-5B11-40DD-BF58-4594795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6BC-BB75-475F-815A-13BDF75C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262-CF9F-4AE3-8EA6-E169E57C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B04-F54F-4ECA-97BB-B7338611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4BA-F1F8-4757-9CDD-A3BBA16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241-B22D-4D1F-B4EC-40201F3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DE7-6DE3-4DE6-BA1E-54C03C6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D22-2B2E-4277-9F89-72400DC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15D-84B6-4C4A-948B-69F9296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E97-F250-4F44-BB16-3AC292E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06F-7CD0-43A7-947D-420A319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274-0F3E-4B3C-824B-C40569825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Истоки.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есна и слов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vesna.jpeg"/>
          <p:cNvPicPr/>
          <p:nvPr/>
        </p:nvPicPr>
        <p:blipFill>
          <a:blip r:embed="rId1"/>
          <a:stretch/>
        </p:blipFill>
        <p:spPr>
          <a:xfrm>
            <a:off x="2411280" y="0"/>
            <a:ext cx="48387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vesna.jpeg"/>
          <p:cNvPicPr/>
          <p:nvPr/>
        </p:nvPicPr>
        <p:blipFill>
          <a:blip r:embed="rId1"/>
          <a:stretch/>
        </p:blipFill>
        <p:spPr>
          <a:xfrm>
            <a:off x="2411280" y="0"/>
            <a:ext cx="48387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т – солнечник, протальни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прель – ледолом, снегосг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й – цветень, трав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т – солнечник, проталь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mart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прель – ледолом, снегос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302202648.jpg"/>
          <p:cNvPicPr/>
          <p:nvPr/>
        </p:nvPicPr>
        <p:blipFill>
          <a:blip r:embed="rId1"/>
          <a:stretch/>
        </p:blipFill>
        <p:spPr>
          <a:xfrm>
            <a:off x="1077840" y="1600200"/>
            <a:ext cx="698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й – цветень,трав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8ba65e43e4f196169b50ae15ffdf22ac.jpg"/>
          <p:cNvPicPr/>
          <p:nvPr/>
        </p:nvPicPr>
        <p:blipFill>
          <a:blip r:embed="rId1"/>
          <a:stretch/>
        </p:blipFill>
        <p:spPr>
          <a:xfrm>
            <a:off x="1484280" y="1600200"/>
            <a:ext cx="61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ри вес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71f28"/>
                </a:solidFill>
                <a:latin typeface="Calibri"/>
              </a:rPr>
              <a:t>свет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рт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14425d"/>
                </a:solidFill>
                <a:latin typeface="Calibri"/>
              </a:rPr>
              <a:t>вод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пре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сн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b45f07"/>
                </a:solidFill>
                <a:latin typeface="Calibri"/>
              </a:rPr>
              <a:t>цветов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2117"/>
          <p:cNvPicPr/>
          <p:nvPr/>
        </p:nvPicPr>
        <p:blipFill>
          <a:blip r:embed="rId1"/>
          <a:stretch/>
        </p:blipFill>
        <p:spPr>
          <a:xfrm>
            <a:off x="5003640" y="1341360"/>
            <a:ext cx="37148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vesna.jpeg"/>
          <p:cNvPicPr/>
          <p:nvPr/>
        </p:nvPicPr>
        <p:blipFill>
          <a:blip r:embed="rId1"/>
          <a:stretch/>
        </p:blipFill>
        <p:spPr>
          <a:xfrm>
            <a:off x="2411280" y="0"/>
            <a:ext cx="48387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ловицы и поговор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Февраль силен метелью, а март капел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Грач на горе- весна на дв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Весна-весница-подснежников цар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Апрель с водой, а май с тра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Кто весной трудиться рад, будет осенью бог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05:20:07Z</dcterms:created>
  <dc:creator>Irishka</dc:creator>
  <dc:description/>
  <dc:language>en-US</dc:language>
  <cp:lastModifiedBy>IRISHKA</cp:lastModifiedBy>
  <dcterms:modified xsi:type="dcterms:W3CDTF">2016-03-13T13:43:13Z</dcterms:modified>
  <cp:revision>13</cp:revision>
  <dc:subject/>
  <dc:title>Истоки.  Весна и слово.</dc:title>
</cp:coreProperties>
</file>