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D9A-6CC9-415C-812E-F28000E3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54B-1615-48CB-8D89-F1DD3DE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5AE-95BF-4C14-94D0-73937784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C57-A47B-4F88-A5B8-EFA2E838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FA7-1A27-452D-AD31-96A1118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53F-0477-4447-91AB-73FA214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FDB-ACFF-4A4A-BA88-4978150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368-AD72-4757-878B-9DCB64F0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DB7-4783-463F-A91B-7BB91E22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5A5-341A-4A03-914B-E3DDF4D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597-F39A-410F-AC98-58BABA9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CAA-FC39-485D-8EDC-E3AD227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0e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D3B523-B184-4053-BA5D-EAEFB10F61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Остров сокровищ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Занятие по логическим иг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71434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Содержан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Таблица 3"/>
          <p:cNvGraphicFramePr/>
          <p:nvPr/>
        </p:nvGraphicFramePr>
        <p:xfrm>
          <a:off x="0" y="785880"/>
          <a:ext cx="8643600" cy="5721840"/>
        </p:xfrm>
        <a:graphic>
          <a:graphicData uri="http://schemas.openxmlformats.org/drawingml/2006/table">
            <a:tbl>
              <a:tblPr/>
              <a:tblGrid>
                <a:gridCol w="1000080"/>
                <a:gridCol w="764352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в прошлый раз мы с вами отправлялись в приключение – что мы делали? Дети отвечают, что искали сокровища. -  правильно! Сундук с сокровищами мы нашли, только вот не успели его откры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Давайте посмотрим что же там. Открываем сундук.. – воспитатель по очереди спрашивает, что же появляется и какой формы каждое сокровище. Затем воспитатель уточняет, сокровищ какой формы больше всего и сокровищ какой формы меньше всег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Молодцы ребята, какие мы с вами нашли замечательные сокровища! А теперь давайте поплывем навестить одного моего друга, которого зовут необычно Капитан Половинкин. Как вы думаете, почему у него такое необычное имя? Давайте посмотрим..Дело в том, что он любит все предметы делить пополам! А как это пополам? – дети отвеч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К примеру, возьмите круг, наш капитан поделит его пополам. Что у нас получилось? -  и так воспитатель играет с каждой фигур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капитан Половинкин попросил нас помочь ему построить корабль, посмотрите, блоки какой формы нам понадобятся – дети перечисляют формы, геометрические фигуры. Ребята, а у нас есть только квадраты! Как же нам построить такой корабль? Ребята с помощью воспитателя выясняют, что какие-то квадраты можно поделить пополам, а какие-то наоборот поставить ряд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14200" y="500040"/>
            <a:ext cx="714348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Содержан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Таблица 3"/>
          <p:cNvGraphicFramePr/>
          <p:nvPr/>
        </p:nvGraphicFramePr>
        <p:xfrm>
          <a:off x="142920" y="1071720"/>
          <a:ext cx="8643600" cy="5421960"/>
        </p:xfrm>
        <a:graphic>
          <a:graphicData uri="http://schemas.openxmlformats.org/drawingml/2006/table">
            <a:tbl>
              <a:tblPr/>
              <a:tblGrid>
                <a:gridCol w="1000080"/>
                <a:gridCol w="764352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Бутылка открывается, а в ней – карта сокровищ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Только это непростая карта, в ней нужно построить дорогу к сокровищам! – ребята помогают воспитателю строить дорогу, говоря , куда идти (направо, налево или прямо), воспитатель прорисовывает путь с помощью инструментов </a:t>
                      </a:r>
                      <a:r>
                        <a:rPr b="0" lang="en-US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zoom</a:t>
                      </a:r>
                      <a:r>
                        <a:rPr b="0" lang="zh-CN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。</a:t>
                      </a: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! Какие вы молодцы! Мы нашли дорогу к сокровищам! Кажется, я вижу, куда надо плыть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Песня про краба Железн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Мы приплыли на остров. Что же там на самой вершине? Кажется, это….точно! Это сундук с сокровищами! Только что на нем? Верно, замки, а еще нам повезло и у нас есть ключи от этих замков! Давайте посчитаем, сколько же их(дети считают), а теперь сколько ключей(дети считают). Ребята, одинаковое ли у нас количество замков и ключей? Почему нет? Чего больше, а чего меньше? Это значит, что у нас будут лишние…(дети отвечаю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Ну, что тогда давайте попробуем их открыть! А как же нам это сделать? – нужно подобрать ключи и замки по геометрическим фигурам. Дети по очереди подбирают и проверяют друг друга. Сундук открывается.., сокровища показываются из сунд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ru-RU" sz="20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Физкульт минутка – игра «Море волнуется раз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Игра «Остров сокровищ» для PC – Компания «СофтКлаб»"/>
          <p:cNvPicPr/>
          <p:nvPr/>
        </p:nvPicPr>
        <p:blipFill>
          <a:blip r:embed="rId1"/>
          <a:srcRect l="841" t="12321" r="0" b="0"/>
          <a:stretch/>
        </p:blipFill>
        <p:spPr>
          <a:xfrm>
            <a:off x="0" y="0"/>
            <a:ext cx="9143640" cy="627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143080" y="0"/>
            <a:ext cx="442872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еобитаемый остров с пальмами и сундуком с сокровищами Иллюстрация вектора  - иллюстрации насчитывающей : 68112500"/>
          <p:cNvPicPr/>
          <p:nvPr/>
        </p:nvPicPr>
        <p:blipFill>
          <a:blip r:embed="rId1"/>
          <a:srcRect l="14900" t="0" r="0" b="13307"/>
          <a:stretch/>
        </p:blipFill>
        <p:spPr>
          <a:xfrm>
            <a:off x="0" y="0"/>
            <a:ext cx="9231840" cy="68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357280" y="3357720"/>
            <a:ext cx="3214440" cy="3250440"/>
          </a:xfrm>
          <a:prstGeom prst="rect">
            <a:avLst/>
          </a:prstGeom>
          <a:ln w="9525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356840" cy="1234440"/>
          </a:xfrm>
          <a:prstGeom prst="rect">
            <a:avLst/>
          </a:prstGeom>
          <a:ln w="9525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6286680" y="4143240"/>
            <a:ext cx="1482840" cy="1356840"/>
          </a:xfrm>
          <a:prstGeom prst="rect">
            <a:avLst/>
          </a:prstGeom>
          <a:ln w="9525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642960" y="2844360"/>
            <a:ext cx="1142640" cy="111096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214720" y="142920"/>
            <a:ext cx="1771200" cy="103608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7"/>
          <a:stretch/>
        </p:blipFill>
        <p:spPr>
          <a:xfrm>
            <a:off x="6286680" y="2143080"/>
            <a:ext cx="2297880" cy="2071440"/>
          </a:xfrm>
          <a:prstGeom prst="rect">
            <a:avLst/>
          </a:prstGeom>
          <a:ln w="9525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8"/>
          <a:stretch/>
        </p:blipFill>
        <p:spPr>
          <a:xfrm>
            <a:off x="2571840" y="1571760"/>
            <a:ext cx="1647360" cy="1458360"/>
          </a:xfrm>
          <a:prstGeom prst="rect">
            <a:avLst/>
          </a:prstGeom>
          <a:ln w="9525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9"/>
          <a:stretch/>
        </p:blipFill>
        <p:spPr>
          <a:xfrm>
            <a:off x="4857840" y="142920"/>
            <a:ext cx="2499840" cy="2066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Фотообои Необитаемый остров в интерьере купить в СПБ недорого"/>
          <p:cNvPicPr/>
          <p:nvPr/>
        </p:nvPicPr>
        <p:blipFill>
          <a:blip r:embed="rId1"/>
          <a:stretch/>
        </p:blipFill>
        <p:spPr>
          <a:xfrm>
            <a:off x="0" y="0"/>
            <a:ext cx="9137160" cy="685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857840" y="1411200"/>
            <a:ext cx="1571400" cy="3536640"/>
          </a:xfrm>
          <a:prstGeom prst="rect">
            <a:avLst/>
          </a:prstGeom>
          <a:ln w="9525">
            <a:noFill/>
          </a:ln>
        </p:spPr>
      </p:pic>
      <p:sp>
        <p:nvSpPr>
          <p:cNvPr id="60" name="Овал 20"/>
          <p:cNvSpPr/>
          <p:nvPr/>
        </p:nvSpPr>
        <p:spPr>
          <a:xfrm>
            <a:off x="6715080" y="142920"/>
            <a:ext cx="1999800" cy="1999800"/>
          </a:xfrm>
          <a:prstGeom prst="ellipse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6858000" y="2571840"/>
            <a:ext cx="1928520" cy="18568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2" name="Равнобедренный треугольник 22"/>
          <p:cNvSpPr/>
          <p:nvPr/>
        </p:nvSpPr>
        <p:spPr>
          <a:xfrm>
            <a:off x="642960" y="3929040"/>
            <a:ext cx="2714400" cy="257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4286160" y="4714920"/>
            <a:ext cx="3571560" cy="17856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3"/>
          <a:stretch/>
        </p:blipFill>
        <p:spPr>
          <a:xfrm>
            <a:off x="6715080" y="-571680"/>
            <a:ext cx="1070280" cy="321444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4"/>
          <a:stretch/>
        </p:blipFill>
        <p:spPr>
          <a:xfrm>
            <a:off x="6858000" y="2571840"/>
            <a:ext cx="999720" cy="1882080"/>
          </a:xfrm>
          <a:prstGeom prst="rect">
            <a:avLst/>
          </a:prstGeom>
          <a:ln w="9525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5"/>
          <a:stretch/>
        </p:blipFill>
        <p:spPr>
          <a:xfrm rot="10800000">
            <a:off x="4286880" y="4715280"/>
            <a:ext cx="1796400" cy="1761840"/>
          </a:xfrm>
          <a:prstGeom prst="rect">
            <a:avLst/>
          </a:prstGeom>
          <a:ln w="9525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642960" y="3929040"/>
            <a:ext cx="1364400" cy="257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ки моря для срисовки"/>
          <p:cNvPicPr/>
          <p:nvPr/>
        </p:nvPicPr>
        <p:blipFill>
          <a:blip r:embed="rId1"/>
          <a:stretch/>
        </p:blipFill>
        <p:spPr>
          <a:xfrm>
            <a:off x="0" y="0"/>
            <a:ext cx="9137880" cy="6857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500120" y="4714920"/>
            <a:ext cx="2999880" cy="14997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4572000" y="4714920"/>
            <a:ext cx="2999880" cy="14997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000240" y="3143160"/>
            <a:ext cx="2999880" cy="14997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786120" y="1571760"/>
            <a:ext cx="1499760" cy="14997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3" name="Прямоугольный треугольник 9"/>
          <p:cNvSpPr/>
          <p:nvPr/>
        </p:nvSpPr>
        <p:spPr>
          <a:xfrm rot="10800000">
            <a:off x="360" y="4715280"/>
            <a:ext cx="1499760" cy="1571400"/>
          </a:xfrm>
          <a:prstGeom prst="rtTriangl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54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4" name="Прямоугольный треугольник 10"/>
          <p:cNvSpPr/>
          <p:nvPr/>
        </p:nvSpPr>
        <p:spPr>
          <a:xfrm flipH="1" rot="10800000">
            <a:off x="7715520" y="4715280"/>
            <a:ext cx="1428480" cy="1571400"/>
          </a:xfrm>
          <a:prstGeom prst="rtTriangl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54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5" name="Прямоугольный треугольник 11"/>
          <p:cNvSpPr/>
          <p:nvPr/>
        </p:nvSpPr>
        <p:spPr>
          <a:xfrm>
            <a:off x="4500720" y="142920"/>
            <a:ext cx="999720" cy="1356840"/>
          </a:xfrm>
          <a:prstGeom prst="rtTriangle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4500720" y="314316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3000240" y="314316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8" name="Прямоугольник 15"/>
          <p:cNvSpPr/>
          <p:nvPr/>
        </p:nvSpPr>
        <p:spPr>
          <a:xfrm>
            <a:off x="6072120" y="471492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4572000" y="471492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0" name="Прямоугольник 17"/>
          <p:cNvSpPr/>
          <p:nvPr/>
        </p:nvSpPr>
        <p:spPr>
          <a:xfrm>
            <a:off x="3000240" y="471492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1" name="Прямоугольник 18"/>
          <p:cNvSpPr/>
          <p:nvPr/>
        </p:nvSpPr>
        <p:spPr>
          <a:xfrm>
            <a:off x="1500120" y="471492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2" name="Прямоугольник 19"/>
          <p:cNvSpPr/>
          <p:nvPr/>
        </p:nvSpPr>
        <p:spPr>
          <a:xfrm>
            <a:off x="0" y="150012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3" name="Прямоугольник 20"/>
          <p:cNvSpPr/>
          <p:nvPr/>
        </p:nvSpPr>
        <p:spPr>
          <a:xfrm>
            <a:off x="3786120" y="1571760"/>
            <a:ext cx="1499760" cy="14997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4" name="Прямоугольный треугольник 21"/>
          <p:cNvSpPr/>
          <p:nvPr/>
        </p:nvSpPr>
        <p:spPr>
          <a:xfrm flipH="1" rot="16200000">
            <a:off x="1392480" y="-35280"/>
            <a:ext cx="1571400" cy="1642680"/>
          </a:xfrm>
          <a:prstGeom prst="rtTriangle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08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5" name="Прямоугольный треугольник 22"/>
          <p:cNvSpPr/>
          <p:nvPr/>
        </p:nvSpPr>
        <p:spPr>
          <a:xfrm>
            <a:off x="1428840" y="0"/>
            <a:ext cx="1642680" cy="1499760"/>
          </a:xfrm>
          <a:prstGeom prst="rtTriangle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6" name="Прямоугольник 23"/>
          <p:cNvSpPr/>
          <p:nvPr/>
        </p:nvSpPr>
        <p:spPr>
          <a:xfrm>
            <a:off x="1428840" y="0"/>
            <a:ext cx="1571400" cy="14997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7" name="Прямоугольный треугольник 24"/>
          <p:cNvSpPr/>
          <p:nvPr/>
        </p:nvSpPr>
        <p:spPr>
          <a:xfrm flipH="1" rot="16200000">
            <a:off x="-107640" y="4679280"/>
            <a:ext cx="1571400" cy="1642680"/>
          </a:xfrm>
          <a:prstGeom prst="rtTriangle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08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8" name="Прямоугольный треугольник 25"/>
          <p:cNvSpPr/>
          <p:nvPr/>
        </p:nvSpPr>
        <p:spPr>
          <a:xfrm flipH="1" flipV="1" rot="16200000">
            <a:off x="7678800" y="4678560"/>
            <a:ext cx="1571400" cy="1642680"/>
          </a:xfrm>
          <a:prstGeom prst="rtTriangle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  <Words>45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1T10:11:56Z</dcterms:created>
  <dc:creator>Ania</dc:creator>
  <dc:description/>
  <dc:language>en-US</dc:language>
  <cp:lastModifiedBy>Ania</cp:lastModifiedBy>
  <dcterms:modified xsi:type="dcterms:W3CDTF">2021-11-02T19:58:5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