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74E-CD94-4A76-87CA-D115290D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B28-690D-4F3C-9AAB-F585D627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C73-4A2D-44D9-9643-8745F11E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EA0-B342-489A-B446-67C29DB2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435-55F3-4E08-8B8C-829DA499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E6B-663A-4B9F-A145-0863CEAB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65B-FEE4-4173-BDB0-01B87C70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61F-C135-4287-B9AB-78D340B2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3D8-ADA1-4FD8-AF0B-DF5F8382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DF2-EDCC-4A7D-9976-C9450348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EE8-984B-43F8-8D4F-5F1C1727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24D-F477-4E1C-9623-79F6DC3D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7E20DD-4C69-48AF-AB65-9015D56A2F1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11.21 занятие по математик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Дистанционное занятие по математике на тему «Вверху, вниз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Таблица 4"/>
          <p:cNvGraphicFramePr/>
          <p:nvPr/>
        </p:nvGraphicFramePr>
        <p:xfrm>
          <a:off x="0" y="142920"/>
          <a:ext cx="9143640" cy="4416120"/>
        </p:xfrm>
        <a:graphic>
          <a:graphicData uri="http://schemas.openxmlformats.org/drawingml/2006/table">
            <a:tbl>
              <a:tblPr/>
              <a:tblGrid>
                <a:gridCol w="1071360"/>
                <a:gridCol w="8072280"/>
              </a:tblGrid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7 слай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«Доброе утро ребята! Сегодня начинается новый день, новая неделя. Кто знает, как называется второй день недели? Это второй вагончик» – ребята отвечают. Если дети испытывают затруднения – воспитатель помогает  - «это вто…»- дети продолжаю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«Молодцы! Сегодня(делается ударение) вторник, а какой день будет завтра?» Воспитатель помогает детям  - «среда, верно!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8 слай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«Ох, ребята, что-то погода меняется, становится холодно..Кто знает, какое время года сейчас? Верно, осень! А как вы это поняли?» Дети перечисляют признаки осени( минимум 5). «Ребята, а давайте вспомним, какая у нас бывает осень? Как мы называем самое начало осени? А какая осень в самом начал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А как мы называем середину осени? А чем золотая осень отличается от ранней? А как мы называем осень в самом конце? А какая она?» Дети отвечают на вопросы, воспитатель при необходимости помогает с ответом ( задает уточняющие вопросы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«Какие вы молодцы! Все-то вы знаете! А что же мы делаем осенью в огороде? Верно, собираем урожай овощей и фруктов</a:t>
                      </a:r>
                      <a:r>
                        <a:rPr b="0" lang="en-US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А что же можно приготовить из овощей? – салат! – верно, давайте с вами приготовим капустный салат! – пальчиковая гимнастика «мы капусту руби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Таблица 4"/>
          <p:cNvGraphicFramePr/>
          <p:nvPr/>
        </p:nvGraphicFramePr>
        <p:xfrm>
          <a:off x="0" y="142920"/>
          <a:ext cx="9143640" cy="6714720"/>
        </p:xfrm>
        <a:graphic>
          <a:graphicData uri="http://schemas.openxmlformats.org/drawingml/2006/table">
            <a:tbl>
              <a:tblPr/>
              <a:tblGrid>
                <a:gridCol w="1071360"/>
                <a:gridCol w="8072280"/>
              </a:tblGrid>
              <a:tr h="145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Ребята, посмотрите скорее, стоит в поле дом. Кто может сказать, сколько в этом доме этажей?  Верно, три этажа. Давайте проверим: один, два, три – считаем вслух. Дети отвечают. Скажите пожалуйста, а кто живёт на самом верхнем этаже? А кто живёт на самом нижнем этаже? А кто живёт посередине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Ребята, сегодня все друзья из этого дома решили собраться и попить чай. Но, сначала им нужно сесть за стол. Давайте поможем каждому из животных выбрать стулья. Посмотрите, стулья у нас одинаковые или разные? Стулья разные, а чем же они отличаются? Верно, есть стулья высокие, а есть стулья низкие. Ребята, подскажите пожалуйста, кого мы посадим на высокий стул? Ребята а кого мы поставим посадим на низкий стул? Верн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8b8b8b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8b8b8b"/>
                          </a:solidFill>
                          <a:latin typeface="Calibri"/>
                        </a:rPr>
                        <a:t>Ну что, животные поели, чай попили, посуду помыли, нужно теперь посуду расставить. Как вы думаете ребята какая посуда стоит на верхней полке? Верно, тарелки. Ребята а какая посуда стоит на нижней полке? Верно, чашки. У нас с вами есть два помощника. Скажите пожалуйста как вы думаете, кто поможет нам расставить тарелки? Верно Жираф. А почему вы так решили? А кто у нас поможет расставить чашки з? Верно, ёжик. А почему вы так решили?. Ну что ребята, вы молодцы вы помогли животным сесть за стол и помогли ему брать посу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285840"/>
            <a:ext cx="9143640" cy="4576320"/>
          </a:xfrm>
          <a:prstGeom prst="rect">
            <a:avLst/>
          </a:prstGeom>
          <a:ln w="9525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0" y="1143000"/>
            <a:ext cx="2287440" cy="1212480"/>
          </a:xfrm>
          <a:prstGeom prst="rect">
            <a:avLst/>
          </a:prstGeom>
          <a:ln w="9525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5072040"/>
            <a:ext cx="914364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3211E-006 L 0.48524 0.00347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Презентация познавательно-творческого проекта Золотая осень доклад, проект"/>
          <p:cNvPicPr/>
          <p:nvPr/>
        </p:nvPicPr>
        <p:blipFill>
          <a:blip r:embed="rId1"/>
          <a:srcRect l="940" t="16252" r="624" b="6249"/>
          <a:stretch/>
        </p:blipFill>
        <p:spPr>
          <a:xfrm>
            <a:off x="0" y="214200"/>
            <a:ext cx="9194400" cy="542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5214960"/>
            <a:ext cx="2287440" cy="1212480"/>
          </a:xfrm>
          <a:prstGeom prst="rect">
            <a:avLst/>
          </a:prstGeom>
          <a:ln w="9525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2920" y="5857920"/>
            <a:ext cx="914364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Пальчиковая гимнастика «космонав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8 -0.00231 L 0.68993 -0.15995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rcRect l="31051" t="21872" r="21482" b="14583"/>
          <a:stretch/>
        </p:blipFill>
        <p:spPr>
          <a:xfrm>
            <a:off x="0" y="0"/>
            <a:ext cx="9143640" cy="688572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52" name="Таблица 12"/>
          <p:cNvGraphicFramePr/>
          <p:nvPr/>
        </p:nvGraphicFramePr>
        <p:xfrm>
          <a:off x="2143080" y="5072040"/>
          <a:ext cx="571320" cy="1000080"/>
        </p:xfrm>
        <a:graphic>
          <a:graphicData uri="http://schemas.openxmlformats.org/drawingml/2006/table">
            <a:tbl>
              <a:tblPr/>
              <a:tblGrid>
                <a:gridCol w="571320"/>
              </a:tblGrid>
              <a:tr h="100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Таблица 13"/>
          <p:cNvGraphicFramePr/>
          <p:nvPr/>
        </p:nvGraphicFramePr>
        <p:xfrm>
          <a:off x="2143080" y="3286080"/>
          <a:ext cx="642600" cy="1000080"/>
        </p:xfrm>
        <a:graphic>
          <a:graphicData uri="http://schemas.openxmlformats.org/drawingml/2006/table">
            <a:tbl>
              <a:tblPr/>
              <a:tblGrid>
                <a:gridCol w="642600"/>
              </a:tblGrid>
              <a:tr h="100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Таблица 14"/>
          <p:cNvGraphicFramePr/>
          <p:nvPr/>
        </p:nvGraphicFramePr>
        <p:xfrm>
          <a:off x="2071800" y="1643040"/>
          <a:ext cx="642600" cy="1000080"/>
        </p:xfrm>
        <a:graphic>
          <a:graphicData uri="http://schemas.openxmlformats.org/drawingml/2006/table">
            <a:tbl>
              <a:tblPr/>
              <a:tblGrid>
                <a:gridCol w="642600"/>
              </a:tblGrid>
              <a:tr h="100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857320" y="1428840"/>
            <a:ext cx="1514160" cy="1573920"/>
          </a:xfrm>
          <a:prstGeom prst="rect">
            <a:avLst/>
          </a:prstGeom>
          <a:ln w="9525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857320" y="4714920"/>
            <a:ext cx="1447560" cy="1556640"/>
          </a:xfrm>
          <a:prstGeom prst="rect">
            <a:avLst/>
          </a:prstGeom>
          <a:ln w="9525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4500720" y="4929120"/>
            <a:ext cx="1524960" cy="1595160"/>
          </a:xfrm>
          <a:prstGeom prst="rect">
            <a:avLst/>
          </a:prstGeom>
          <a:ln w="9525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4786200" y="746640"/>
            <a:ext cx="1142640" cy="2147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Обои 9063-02 Monte Solaro Hermes - цена, фото | Купить обои 9063-02 Hermes  в интернет-магазине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3857760" y="500040"/>
            <a:ext cx="1895040" cy="3085920"/>
          </a:xfrm>
          <a:prstGeom prst="rect">
            <a:avLst/>
          </a:prstGeom>
          <a:ln w="9525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857320" y="3643200"/>
            <a:ext cx="3697920" cy="2928600"/>
          </a:xfrm>
          <a:prstGeom prst="rect">
            <a:avLst/>
          </a:prstGeom>
          <a:ln w="9525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6072120" y="0"/>
            <a:ext cx="1628280" cy="3943080"/>
          </a:xfrm>
          <a:prstGeom prst="rect">
            <a:avLst/>
          </a:prstGeom>
          <a:ln w="9525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5"/>
          <a:stretch/>
        </p:blipFill>
        <p:spPr>
          <a:xfrm>
            <a:off x="214200" y="-142920"/>
            <a:ext cx="2219040" cy="3525480"/>
          </a:xfrm>
          <a:prstGeom prst="rect">
            <a:avLst/>
          </a:prstGeom>
          <a:ln w="9525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6"/>
          <a:stretch/>
        </p:blipFill>
        <p:spPr>
          <a:xfrm flipH="1">
            <a:off x="1857600" y="1500120"/>
            <a:ext cx="1714320" cy="2571480"/>
          </a:xfrm>
          <a:prstGeom prst="rect">
            <a:avLst/>
          </a:prstGeom>
          <a:ln w="9525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7"/>
          <a:stretch/>
        </p:blipFill>
        <p:spPr>
          <a:xfrm>
            <a:off x="571320" y="3214800"/>
            <a:ext cx="1589040" cy="3857400"/>
          </a:xfrm>
          <a:prstGeom prst="rect">
            <a:avLst/>
          </a:prstGeom>
          <a:ln w="9525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8"/>
          <a:stretch/>
        </p:blipFill>
        <p:spPr>
          <a:xfrm flipH="1">
            <a:off x="6787080" y="2857320"/>
            <a:ext cx="1213920" cy="3714480"/>
          </a:xfrm>
          <a:prstGeom prst="rect">
            <a:avLst/>
          </a:prstGeom>
          <a:ln w="9525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9"/>
          <a:stretch/>
        </p:blipFill>
        <p:spPr>
          <a:xfrm flipH="1">
            <a:off x="7910280" y="3500280"/>
            <a:ext cx="1233720" cy="2714400"/>
          </a:xfrm>
          <a:prstGeom prst="rect">
            <a:avLst/>
          </a:prstGeom>
          <a:ln w="9525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10"/>
          <a:stretch/>
        </p:blipFill>
        <p:spPr>
          <a:xfrm>
            <a:off x="2143080" y="3857760"/>
            <a:ext cx="1038600" cy="2785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Обои 9063-02 Monte Solaro Hermes - цена, фото | Купить обои 9063-02 Hermes  в интернет-магазине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714240" y="2936520"/>
            <a:ext cx="1213920" cy="1122480"/>
          </a:xfrm>
          <a:prstGeom prst="rect">
            <a:avLst/>
          </a:prstGeom>
          <a:ln w="9525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428760" y="1000080"/>
            <a:ext cx="8072280" cy="2138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500040" y="2428920"/>
            <a:ext cx="8072280" cy="2138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428760" y="4143240"/>
            <a:ext cx="8072280" cy="2138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4" name="Прямоугольник 7"/>
          <p:cNvSpPr/>
          <p:nvPr/>
        </p:nvSpPr>
        <p:spPr>
          <a:xfrm rot="5400000">
            <a:off x="-2035800" y="2321640"/>
            <a:ext cx="4928760" cy="285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75" name="Прямоугольник 8"/>
          <p:cNvSpPr/>
          <p:nvPr/>
        </p:nvSpPr>
        <p:spPr>
          <a:xfrm rot="5400000">
            <a:off x="5965560" y="2321640"/>
            <a:ext cx="4928760" cy="285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6858000" y="1500120"/>
            <a:ext cx="2159640" cy="5229000"/>
          </a:xfrm>
          <a:prstGeom prst="rect">
            <a:avLst/>
          </a:prstGeom>
          <a:ln w="9525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 flipH="1">
            <a:off x="-285480" y="3143160"/>
            <a:ext cx="1714320" cy="2571480"/>
          </a:xfrm>
          <a:prstGeom prst="rect">
            <a:avLst/>
          </a:prstGeom>
          <a:ln w="9525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5"/>
          <a:stretch/>
        </p:blipFill>
        <p:spPr>
          <a:xfrm>
            <a:off x="642960" y="0"/>
            <a:ext cx="1356840" cy="1368720"/>
          </a:xfrm>
          <a:prstGeom prst="rect">
            <a:avLst/>
          </a:prstGeom>
          <a:ln w="9525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6"/>
          <a:stretch/>
        </p:blipFill>
        <p:spPr>
          <a:xfrm>
            <a:off x="2786040" y="4429080"/>
            <a:ext cx="1356840" cy="1368720"/>
          </a:xfrm>
          <a:prstGeom prst="rect">
            <a:avLst/>
          </a:prstGeom>
          <a:ln w="9525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7"/>
          <a:stretch/>
        </p:blipFill>
        <p:spPr>
          <a:xfrm>
            <a:off x="4000320" y="4357800"/>
            <a:ext cx="1356840" cy="1368720"/>
          </a:xfrm>
          <a:prstGeom prst="rect">
            <a:avLst/>
          </a:prstGeom>
          <a:ln w="9525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8"/>
          <a:stretch/>
        </p:blipFill>
        <p:spPr>
          <a:xfrm>
            <a:off x="5286240" y="4357800"/>
            <a:ext cx="1356840" cy="1368720"/>
          </a:xfrm>
          <a:prstGeom prst="rect">
            <a:avLst/>
          </a:prstGeom>
          <a:ln w="9525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9"/>
          <a:stretch/>
        </p:blipFill>
        <p:spPr>
          <a:xfrm>
            <a:off x="1857240" y="4429080"/>
            <a:ext cx="1356840" cy="1368720"/>
          </a:xfrm>
          <a:prstGeom prst="rect">
            <a:avLst/>
          </a:prstGeom>
          <a:ln w="9525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10"/>
          <a:stretch/>
        </p:blipFill>
        <p:spPr>
          <a:xfrm>
            <a:off x="2428920" y="5429160"/>
            <a:ext cx="1213920" cy="1122480"/>
          </a:xfrm>
          <a:prstGeom prst="rect">
            <a:avLst/>
          </a:prstGeom>
          <a:ln w="9525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11"/>
          <a:stretch/>
        </p:blipFill>
        <p:spPr>
          <a:xfrm>
            <a:off x="3714840" y="5429160"/>
            <a:ext cx="1213920" cy="1122480"/>
          </a:xfrm>
          <a:prstGeom prst="rect">
            <a:avLst/>
          </a:prstGeom>
          <a:ln w="9525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12"/>
          <a:stretch/>
        </p:blipFill>
        <p:spPr>
          <a:xfrm>
            <a:off x="4857840" y="5357880"/>
            <a:ext cx="1213920" cy="112248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13"/>
          <a:stretch/>
        </p:blipFill>
        <p:spPr>
          <a:xfrm>
            <a:off x="5929200" y="5357880"/>
            <a:ext cx="1213920" cy="1122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3.77516E-006 L -0.00782 -0.64006 E">
                                      <p:cBhvr>
                                        <p:cTn id="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3.58316E-006 L -0.06284 -0.36734 E">
                                      <p:cBhvr>
                                        <p:cTn id="2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7516E-006 L -0.03143 -0.64006 E"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14527E-006 L -0.08664 -0.37775 E">
                                      <p:cBhvr>
                                        <p:cTn id="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7516E-006 L -0.06302 -0.61901 E">
                                      <p:cBhvr>
                                        <p:cTn id="3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3.58316E-006 L -0.05521 -0.34629 E">
                                      <p:cBhvr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33727E-006 L -0.11024 -0.62942 E">
                                      <p:cBhvr>
                                        <p:cTn id="4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7978E-006 L -0.04722 -0.33588 E">
                                      <p:cBhvr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Рисунки зоопарка: Рисунки про зоопарк детские в школу и детский сад —"/>
          <p:cNvPicPr/>
          <p:nvPr/>
        </p:nvPicPr>
        <p:blipFill>
          <a:blip r:embed="rId1"/>
          <a:stretch/>
        </p:blipFill>
        <p:spPr>
          <a:xfrm>
            <a:off x="0" y="0"/>
            <a:ext cx="91782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  <Words>517</Words>
  <Paragraphs>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1T09:51:16Z</dcterms:created>
  <dc:creator>Ania</dc:creator>
  <dc:description/>
  <dc:language>en-US</dc:language>
  <cp:lastModifiedBy>Ania</cp:lastModifiedBy>
  <dcterms:modified xsi:type="dcterms:W3CDTF">2021-11-02T13:39:12Z</dcterms:modified>
  <cp:revision>5</cp:revision>
  <dc:subject/>
  <dc:title>2.11.21 занятие по математ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