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jpeg" ContentType="image/jpeg"/>
  <Override PartName="/ppt/media/image29.jpeg" ContentType="image/jpeg"/>
  <Override PartName="/ppt/media/image25.gif" ContentType="image/gif"/>
  <Override PartName="/ppt/media/image13.jpeg" ContentType="image/jpeg"/>
  <Override PartName="/ppt/media/image20.gif" ContentType="image/gif"/>
  <Override PartName="/ppt/media/image28.jpeg" ContentType="image/jpeg"/>
  <Override PartName="/ppt/media/image6.gif" ContentType="image/gif"/>
  <Override PartName="/ppt/media/image18.jpeg" ContentType="image/jpeg"/>
  <Override PartName="/ppt/media/image8.gif" ContentType="image/gif"/>
  <Override PartName="/ppt/media/image11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3.png" ContentType="image/png"/>
  <Override PartName="/ppt/media/image3.png" ContentType="image/png"/>
  <Override PartName="/ppt/media/image23.gif" ContentType="image/gif"/>
  <Override PartName="/ppt/media/image1.jpeg" ContentType="image/jpeg"/>
  <Override PartName="/ppt/media/image22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9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FC7-7DE7-49CF-9C47-8380A4C8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F90-647A-4612-B03C-9B14E43B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CFE-7618-47AA-B48F-7E86DFB1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442-320D-4C74-BDEF-6996C81A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51C-2FE3-4FB9-9012-A0FA0A5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087-B051-43AD-AB86-AE0B45A7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8DF-8587-4CC6-A881-2FCFE6FF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84D-26F8-4A6B-B77A-832961AB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8DD-4DD3-47F1-82E4-B4C7BF9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826-75D1-4E93-85DE-BFC3A09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095-3BFB-4965-BA0A-1740860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1DD-FF99-405D-A6BB-11DC6AE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5FAA-78B6-4246-9049-4A482210B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1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xam-Zinkova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5364000" y="333360"/>
            <a:ext cx="3543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МОУ СОШ №4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4361040" y="1700280"/>
            <a:ext cx="4751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ллюстрац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басни И. А. Крыл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орона и лисиц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5148360" y="5516640"/>
            <a:ext cx="361152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ь: Рубан Н.С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6804000" y="4581360"/>
            <a:ext cx="1562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О 2 класс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5494"/>
          <p:cNvPicPr/>
          <p:nvPr/>
        </p:nvPicPr>
        <p:blipFill>
          <a:blip r:embed="rId1"/>
          <a:stretch/>
        </p:blipFill>
        <p:spPr>
          <a:xfrm>
            <a:off x="250920" y="260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219640" y="404640"/>
            <a:ext cx="367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ой нашего урока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ллюстрация к басни И.А.Крыл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рона и лис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963f3"/>
              </a:gs>
              <a:gs pos="50000">
                <a:srgbClr val="333399"/>
              </a:gs>
              <a:gs pos="100000">
                <a:srgbClr val="8963f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страция – рисунок, фотография или другая раб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создается с целью выделить субъек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не фор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начение иллюстрации- объяснить или декор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кстовое содержание книги, журнала, газ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utterfly_20016"/>
          <p:cNvPicPr/>
          <p:nvPr/>
        </p:nvPicPr>
        <p:blipFill>
          <a:blip r:embed="rId1"/>
          <a:stretch/>
        </p:blipFill>
        <p:spPr>
          <a:xfrm>
            <a:off x="539640" y="260280"/>
            <a:ext cx="1886040" cy="2381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utterfly_20032"/>
          <p:cNvPicPr/>
          <p:nvPr/>
        </p:nvPicPr>
        <p:blipFill>
          <a:blip r:embed="rId2"/>
          <a:stretch/>
        </p:blipFill>
        <p:spPr>
          <a:xfrm>
            <a:off x="7380360" y="4437000"/>
            <a:ext cx="1333440" cy="221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images[19]"/>
          <p:cNvPicPr/>
          <p:nvPr/>
        </p:nvPicPr>
        <p:blipFill>
          <a:blip r:embed="rId3"/>
          <a:stretch/>
        </p:blipFill>
        <p:spPr>
          <a:xfrm>
            <a:off x="0" y="4421160"/>
            <a:ext cx="1727280" cy="243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ages[23]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8963f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ile268"/>
          <p:cNvPicPr/>
          <p:nvPr/>
        </p:nvPicPr>
        <p:blipFill>
          <a:blip r:embed="rId1"/>
          <a:stretch/>
        </p:blipFill>
        <p:spPr>
          <a:xfrm>
            <a:off x="0" y="4719600"/>
            <a:ext cx="2627280" cy="1751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mages[9]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images[18]"/>
          <p:cNvPicPr/>
          <p:nvPr/>
        </p:nvPicPr>
        <p:blipFill>
          <a:blip r:embed="rId3"/>
          <a:stretch/>
        </p:blipFill>
        <p:spPr>
          <a:xfrm>
            <a:off x="0" y="0"/>
            <a:ext cx="2327400" cy="3357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2556000" y="1268280"/>
            <a:ext cx="54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посредством иллюстрации решать художественно – творческие задачи;  изображать теплую гамму для рисование положительных героев, а холодную гамму для изображения отрицательного героя; познакомить учащихся с видом ИЗО иллюстрацией; закрепить пройденный материал рисунок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зрите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ная: самоанализ; отношение к  басни, пт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4360" y="981000"/>
            <a:ext cx="792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ть понятие об иллюстрации как вид 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ывать в учащихся терпеливое отношение к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ывать в учащихся к выполнению работы как коллективно, так и индивиду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представление о морально-этических нор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ивать аккура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ь сознательное отношение к искус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идак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ить знакомство с цветоведением и цветовым кр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ение схем построения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вор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ый выбор цвета, окружающей среды и компози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File077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File103"/>
          <p:cNvPicPr/>
          <p:nvPr/>
        </p:nvPicPr>
        <p:blipFill>
          <a:blip r:embed="rId2"/>
          <a:stretch/>
        </p:blipFill>
        <p:spPr>
          <a:xfrm>
            <a:off x="6948360" y="494172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37017899_18463995"/>
          <p:cNvPicPr/>
          <p:nvPr/>
        </p:nvPicPr>
        <p:blipFill>
          <a:blip r:embed="rId1"/>
          <a:stretch/>
        </p:blipFill>
        <p:spPr>
          <a:xfrm>
            <a:off x="2340000" y="1700280"/>
            <a:ext cx="3744720" cy="25318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4"/>
          <p:cNvSpPr txBox="1"/>
          <p:nvPr/>
        </p:nvSpPr>
        <p:spPr>
          <a:xfrm>
            <a:off x="250920" y="260280"/>
            <a:ext cx="50450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зентация  птица Во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4533840" y="3321000"/>
            <a:ext cx="4610160" cy="35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-к 4 "Б"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льниченко Макс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е"/>
          <p:cNvPicPr/>
          <p:nvPr/>
        </p:nvPicPr>
        <p:blipFill>
          <a:blip r:embed="rId1"/>
          <a:stretch/>
        </p:blipFill>
        <p:spPr>
          <a:xfrm>
            <a:off x="3276720" y="2492280"/>
            <a:ext cx="3673440" cy="2762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п"/>
          <p:cNvPicPr/>
          <p:nvPr/>
        </p:nvPicPr>
        <p:blipFill>
          <a:blip r:embed="rId2"/>
          <a:stretch/>
        </p:blipFill>
        <p:spPr>
          <a:xfrm>
            <a:off x="0" y="0"/>
            <a:ext cx="381636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л"/>
          <p:cNvPicPr/>
          <p:nvPr/>
        </p:nvPicPr>
        <p:blipFill>
          <a:blip r:embed="rId3"/>
          <a:stretch/>
        </p:blipFill>
        <p:spPr>
          <a:xfrm>
            <a:off x="5724360" y="4151160"/>
            <a:ext cx="36007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н"/>
          <p:cNvPicPr/>
          <p:nvPr/>
        </p:nvPicPr>
        <p:blipFill>
          <a:blip r:embed="rId1"/>
          <a:stretch/>
        </p:blipFill>
        <p:spPr>
          <a:xfrm>
            <a:off x="3419640" y="1989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о"/>
          <p:cNvPicPr/>
          <p:nvPr/>
        </p:nvPicPr>
        <p:blipFill>
          <a:blip r:embed="rId2"/>
          <a:stretch/>
        </p:blipFill>
        <p:spPr>
          <a:xfrm>
            <a:off x="0" y="0"/>
            <a:ext cx="2952720" cy="293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8"/>
          <p:cNvPicPr/>
          <p:nvPr/>
        </p:nvPicPr>
        <p:blipFill>
          <a:blip r:embed="rId3"/>
          <a:stretch/>
        </p:blipFill>
        <p:spPr>
          <a:xfrm>
            <a:off x="6804000" y="3330720"/>
            <a:ext cx="2557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01-Subarctic Sound (part 1).mp3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le077"/>
          <p:cNvPicPr/>
          <p:nvPr/>
        </p:nvPicPr>
        <p:blipFill>
          <a:blip r:embed="rId2"/>
          <a:stretch/>
        </p:blipFill>
        <p:spPr>
          <a:xfrm>
            <a:off x="1692360" y="189000"/>
            <a:ext cx="6119640" cy="6119640"/>
          </a:xfrm>
          <a:prstGeom prst="rect">
            <a:avLst/>
          </a:prstGeom>
          <a:ln w="0">
            <a:noFill/>
          </a:ln>
        </p:spPr>
      </p:pic>
      <p:sp>
        <p:nvSpPr>
          <p:cNvPr id="148" name="WordArt 8"/>
          <p:cNvSpPr txBox="1"/>
          <p:nvPr/>
        </p:nvSpPr>
        <p:spPr>
          <a:xfrm>
            <a:off x="3276720" y="3357720"/>
            <a:ext cx="512424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группа изображает ли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группа ворон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группа кусочек сы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1082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1187280" y="549360"/>
            <a:ext cx="50389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ая раб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File274"/>
          <p:cNvPicPr/>
          <p:nvPr/>
        </p:nvPicPr>
        <p:blipFill>
          <a:blip r:embed="rId1"/>
          <a:stretch/>
        </p:blipFill>
        <p:spPr>
          <a:xfrm>
            <a:off x="5867280" y="4071960"/>
            <a:ext cx="3078360" cy="24145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1042920" y="260280"/>
            <a:ext cx="43815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ценка результатов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692360" y="2924280"/>
            <a:ext cx="446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айте подведем итог урока. Что мы сегодня изучили но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и средствами мы этого достиг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равился ли вам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закрепления нового материала я даю вам брошюры путешествий по новой теме с кроссвордом, раскрасками и ребу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3168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826920" y="0"/>
            <a:ext cx="70408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50000">
                      <a:srgbClr val="990000"/>
                    </a:gs>
                    <a:gs pos="100000">
                      <a:srgbClr val="80008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я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50000">
                    <a:srgbClr val="990000"/>
                  </a:gs>
                  <a:gs pos="100000">
                    <a:srgbClr val="80008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50000">
                      <a:srgbClr val="990000"/>
                    </a:gs>
                    <a:gs pos="100000">
                      <a:srgbClr val="80008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50000">
                    <a:srgbClr val="990000"/>
                  </a:gs>
                  <a:gs pos="100000">
                    <a:srgbClr val="80008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50000">
                      <a:srgbClr val="990000"/>
                    </a:gs>
                    <a:gs pos="100000">
                      <a:srgbClr val="80008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ссмотрим картинк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50000">
                    <a:srgbClr val="990000"/>
                  </a:gs>
                  <a:gs pos="100000">
                    <a:srgbClr val="80008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2556000" y="5373720"/>
            <a:ext cx="4924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ответим на вопрос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 rot="3011400">
            <a:off x="0" y="4438440"/>
            <a:ext cx="2352600" cy="210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5508720" y="2141640"/>
            <a:ext cx="3335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теперь давайте ответим на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каком произведение иде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автор этой бас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главные герои? Какие о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ird43"/>
          <p:cNvPicPr/>
          <p:nvPr/>
        </p:nvPicPr>
        <p:blipFill>
          <a:blip r:embed="rId1"/>
          <a:stretch/>
        </p:blipFill>
        <p:spPr>
          <a:xfrm>
            <a:off x="324000" y="404640"/>
            <a:ext cx="1584000" cy="14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bird43"/>
          <p:cNvPicPr/>
          <p:nvPr/>
        </p:nvPicPr>
        <p:blipFill>
          <a:blip r:embed="rId2"/>
          <a:stretch/>
        </p:blipFill>
        <p:spPr>
          <a:xfrm>
            <a:off x="7308720" y="4894200"/>
            <a:ext cx="154008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File120"/>
          <p:cNvPicPr/>
          <p:nvPr/>
        </p:nvPicPr>
        <p:blipFill>
          <a:blip r:embed="rId3"/>
          <a:stretch/>
        </p:blipFill>
        <p:spPr>
          <a:xfrm>
            <a:off x="2916360" y="5013360"/>
            <a:ext cx="3809880" cy="94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File120"/>
          <p:cNvPicPr/>
          <p:nvPr/>
        </p:nvPicPr>
        <p:blipFill>
          <a:blip r:embed="rId4"/>
          <a:stretch/>
        </p:blipFill>
        <p:spPr>
          <a:xfrm>
            <a:off x="2843280" y="765000"/>
            <a:ext cx="38098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403280" y="0"/>
            <a:ext cx="7129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айте вспомним бас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С.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орона и лис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exam-Zinkova"/>
          <p:cNvPicPr/>
          <p:nvPr/>
        </p:nvPicPr>
        <p:blipFill>
          <a:blip r:embed="rId1"/>
          <a:stretch/>
        </p:blipFill>
        <p:spPr>
          <a:xfrm>
            <a:off x="2484360" y="2579760"/>
            <a:ext cx="5032440" cy="402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File131"/>
          <p:cNvPicPr/>
          <p:nvPr/>
        </p:nvPicPr>
        <p:blipFill>
          <a:blip r:embed="rId2"/>
          <a:stretch/>
        </p:blipFill>
        <p:spPr>
          <a:xfrm>
            <a:off x="324000" y="3068640"/>
            <a:ext cx="1476360" cy="345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File131"/>
          <p:cNvPicPr/>
          <p:nvPr/>
        </p:nvPicPr>
        <p:blipFill>
          <a:blip r:embed="rId3"/>
          <a:stretch/>
        </p:blipFill>
        <p:spPr>
          <a:xfrm>
            <a:off x="7667640" y="3213000"/>
            <a:ext cx="1476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116000" y="260280"/>
            <a:ext cx="40575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зентация  басн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.А.Крылов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орона и лисиц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5651640" y="4941720"/>
            <a:ext cx="28670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полнил уч-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"Б" класса Литвинов Серг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4" descr="File335"/>
          <p:cNvPicPr/>
          <p:nvPr/>
        </p:nvPicPr>
        <p:blipFill>
          <a:blip r:embed="rId1"/>
          <a:stretch/>
        </p:blipFill>
        <p:spPr>
          <a:xfrm>
            <a:off x="5388120" y="0"/>
            <a:ext cx="3755880" cy="414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File130"/>
          <p:cNvPicPr/>
          <p:nvPr/>
        </p:nvPicPr>
        <p:blipFill>
          <a:blip r:embed="rId2"/>
          <a:stretch/>
        </p:blipFill>
        <p:spPr>
          <a:xfrm>
            <a:off x="0" y="3457440"/>
            <a:ext cx="19051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3132000" y="549360"/>
            <a:ext cx="33433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рона и лис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979640" y="2492280"/>
            <a:ext cx="55515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ж сколько раз твердили миру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 лесть гнусна,вредна;но только все  не впрок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в сердце льстец всегда всегда отыщет угол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4427640" y="3789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979640" y="4581360"/>
            <a:ext cx="497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роне где-то бог послал кусочек сыру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ель Ворона взгромоздясь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завтракать было совсем уж собралась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позадумалась,  а сыр во рту держ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ту беду Лиса близенько бе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" name="Picture 7" descr="images[9]"/>
          <p:cNvPicPr/>
          <p:nvPr/>
        </p:nvPicPr>
        <p:blipFill>
          <a:blip r:embed="rId2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images[19]"/>
          <p:cNvPicPr/>
          <p:nvPr/>
        </p:nvPicPr>
        <p:blipFill>
          <a:blip r:embed="rId3"/>
          <a:stretch/>
        </p:blipFill>
        <p:spPr>
          <a:xfrm>
            <a:off x="0" y="4292640"/>
            <a:ext cx="2124000" cy="256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images[18]"/>
          <p:cNvPicPr/>
          <p:nvPr/>
        </p:nvPicPr>
        <p:blipFill>
          <a:blip r:embed="rId4"/>
          <a:stretch/>
        </p:blipFill>
        <p:spPr>
          <a:xfrm>
            <a:off x="7315200" y="4221000"/>
            <a:ext cx="18288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3"/>
          <p:cNvSpPr txBox="1"/>
          <p:nvPr/>
        </p:nvSpPr>
        <p:spPr>
          <a:xfrm>
            <a:off x="2195640" y="189000"/>
            <a:ext cx="44290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друг сырный друг Лису остановил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сица видит сыр,-Лисицу сыр плен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лутовка к дереву на ципочках подходи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тит хвостом,с вороны  глаз не сво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говорит так сладко,чуть дыш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2195640" y="1773360"/>
            <a:ext cx="4419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Голубушка, как хорош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у что за шейка ,что заглаз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сказывать так ,браво сказ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ие пёрышки! какой нос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,верно,анельский быть должен голос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124000" y="3357720"/>
            <a:ext cx="48862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й,светик ,не стыдись!Что ежили сестриц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красоте такой и петь ты мастериц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дь ты б у нас была царь -птица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щуньина с похвал вскружилась голов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411280" y="4869000"/>
            <a:ext cx="44672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 радости в зобу дыханье сперло,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на  приветливыЛисицыны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рона крикнула во всё воронье горл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ыр выпал - с ним была плутовка тако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8" name="Picture 7" descr="images[14]"/>
          <p:cNvPicPr/>
          <p:nvPr/>
        </p:nvPicPr>
        <p:blipFill>
          <a:blip r:embed="rId1"/>
          <a:stretch/>
        </p:blipFill>
        <p:spPr>
          <a:xfrm>
            <a:off x="395280" y="4400640"/>
            <a:ext cx="1792440" cy="245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113858"/>
          <p:cNvPicPr/>
          <p:nvPr/>
        </p:nvPicPr>
        <p:blipFill>
          <a:blip r:embed="rId2"/>
          <a:stretch/>
        </p:blipFill>
        <p:spPr>
          <a:xfrm>
            <a:off x="6750000" y="0"/>
            <a:ext cx="239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558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сно теперь давайте отгадаем 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знаем новый термин нашего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7"/>
          <p:cNvGrpSpPr/>
          <p:nvPr/>
        </p:nvGrpSpPr>
        <p:grpSpPr>
          <a:xfrm>
            <a:off x="2193840" y="1106640"/>
            <a:ext cx="3702240" cy="2172960"/>
            <a:chOff x="2193840" y="1106640"/>
            <a:chExt cx="3702240" cy="2172960"/>
          </a:xfrm>
        </p:grpSpPr>
        <p:sp>
          <p:nvSpPr>
            <p:cNvPr id="83" name="AutoShape 8"/>
            <p:cNvSpPr/>
            <p:nvPr/>
          </p:nvSpPr>
          <p:spPr>
            <a:xfrm>
              <a:off x="2193840" y="1106640"/>
              <a:ext cx="3702240" cy="21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235368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269640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1"/>
            <p:cNvSpPr/>
            <p:nvPr/>
          </p:nvSpPr>
          <p:spPr>
            <a:xfrm>
              <a:off x="303912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2"/>
            <p:cNvSpPr/>
            <p:nvPr/>
          </p:nvSpPr>
          <p:spPr>
            <a:xfrm>
              <a:off x="338220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"/>
            <p:cNvSpPr/>
            <p:nvPr/>
          </p:nvSpPr>
          <p:spPr>
            <a:xfrm>
              <a:off x="475344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441072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5"/>
            <p:cNvSpPr/>
            <p:nvPr/>
          </p:nvSpPr>
          <p:spPr>
            <a:xfrm>
              <a:off x="406764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372492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5096160" y="225000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8"/>
            <p:cNvSpPr/>
            <p:nvPr/>
          </p:nvSpPr>
          <p:spPr>
            <a:xfrm>
              <a:off x="2353680" y="190728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9"/>
            <p:cNvSpPr/>
            <p:nvPr/>
          </p:nvSpPr>
          <p:spPr>
            <a:xfrm>
              <a:off x="235368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0"/>
            <p:cNvSpPr/>
            <p:nvPr/>
          </p:nvSpPr>
          <p:spPr>
            <a:xfrm>
              <a:off x="2353680" y="259308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1"/>
            <p:cNvSpPr/>
            <p:nvPr/>
          </p:nvSpPr>
          <p:spPr>
            <a:xfrm>
              <a:off x="303912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2"/>
            <p:cNvSpPr/>
            <p:nvPr/>
          </p:nvSpPr>
          <p:spPr>
            <a:xfrm>
              <a:off x="441072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3"/>
            <p:cNvSpPr/>
            <p:nvPr/>
          </p:nvSpPr>
          <p:spPr>
            <a:xfrm>
              <a:off x="406764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4"/>
            <p:cNvSpPr/>
            <p:nvPr/>
          </p:nvSpPr>
          <p:spPr>
            <a:xfrm>
              <a:off x="372492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5"/>
            <p:cNvSpPr/>
            <p:nvPr/>
          </p:nvSpPr>
          <p:spPr>
            <a:xfrm>
              <a:off x="338220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6"/>
            <p:cNvSpPr/>
            <p:nvPr/>
          </p:nvSpPr>
          <p:spPr>
            <a:xfrm>
              <a:off x="4753440" y="293616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3039120" y="259308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3039120" y="121536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039120" y="1901160"/>
              <a:ext cx="3427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3039120" y="155844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4410720" y="122148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4067640" y="122148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3"/>
            <p:cNvSpPr/>
            <p:nvPr/>
          </p:nvSpPr>
          <p:spPr>
            <a:xfrm>
              <a:off x="3724920" y="122148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4"/>
            <p:cNvSpPr/>
            <p:nvPr/>
          </p:nvSpPr>
          <p:spPr>
            <a:xfrm>
              <a:off x="3382200" y="122148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5"/>
            <p:cNvSpPr/>
            <p:nvPr/>
          </p:nvSpPr>
          <p:spPr>
            <a:xfrm>
              <a:off x="4753440" y="122148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6"/>
            <p:cNvSpPr/>
            <p:nvPr/>
          </p:nvSpPr>
          <p:spPr>
            <a:xfrm>
              <a:off x="5438880" y="2250000"/>
              <a:ext cx="22824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7"/>
            <p:cNvSpPr/>
            <p:nvPr/>
          </p:nvSpPr>
          <p:spPr>
            <a:xfrm>
              <a:off x="5667480" y="2250000"/>
              <a:ext cx="22824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38"/>
          <p:cNvSpPr/>
          <p:nvPr/>
        </p:nvSpPr>
        <p:spPr>
          <a:xfrm>
            <a:off x="3059280" y="3500280"/>
            <a:ext cx="55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Известный баснописе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Рыжая плу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горизон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Гуашь, акварель, темпера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Рисунок к  литературным произведени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Напарница в басни Крылова «……. И лис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9" descr="129"/>
          <p:cNvPicPr/>
          <p:nvPr/>
        </p:nvPicPr>
        <p:blipFill>
          <a:blip r:embed="rId1"/>
          <a:stretch/>
        </p:blipFill>
        <p:spPr>
          <a:xfrm>
            <a:off x="755640" y="3921120"/>
            <a:ext cx="2232000" cy="194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0" descr="palitra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8:06:32Z</dcterms:created>
  <dc:creator>user</dc:creator>
  <dc:description/>
  <dc:language>en-US</dc:language>
  <cp:lastModifiedBy>HP</cp:lastModifiedBy>
  <dcterms:modified xsi:type="dcterms:W3CDTF">2021-11-02T16:57:46Z</dcterms:modified>
  <cp:revision>9</cp:revision>
  <dc:subject/>
  <dc:title>Слайд 1</dc:title>
</cp:coreProperties>
</file>