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886-1E6A-4D87-A33E-06625053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99B-371E-4C43-A7E5-33644E92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569-5D2A-4552-A480-DB31B7D3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93C-259C-40C1-B660-6A866E94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9227A-3F72-4B60-AC56-988CA9FC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44C7-DC1D-4BB7-8201-4B781312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5B419-48D5-4E84-9E43-62433FF1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FC0E0-FA79-47B1-AFDB-8AEA33F3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23A0D-ACAB-4F28-B1E4-A4AEDF86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7D9D-59F4-4956-9BEC-B77DBB2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4E8A7-D4E6-434B-9D28-729CDB1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72D-BA60-4C56-9913-9BF4863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796C6-AA90-4017-A66A-B747250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15AAB-5773-4C69-A301-3416E0F6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82D88-C20B-42C7-A9E9-9205E96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5F463-EC54-4EED-99A5-092BCDC2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2FDF-3BC8-4504-909D-A9B8C47A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213-7D29-4F0A-BBBD-172E235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8ED-A29B-419B-A4F3-9648ACE7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FEF-B13A-4C01-B25F-AFFDE08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040-CAA8-4576-BF14-61579C36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86D-F026-4FF7-9549-5C65BB6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CAC-5F78-478C-886F-23F2BD11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EB0-33A8-4A6E-A7D9-09F610D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D9D1-BCF2-4D08-AE6D-64EF4B37A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F663-6CF6-4608-B440-6E5352123A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Адаптация детей раннего возраста к условиям детского са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даптация – это процесс вхождения ребенка в новую среду и привыкание к ее условиям. Адаптационный период - самый сложный период  в жизни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4" descr="383768415"/>
          <p:cNvPicPr/>
          <p:nvPr/>
        </p:nvPicPr>
        <p:blipFill>
          <a:blip r:embed="rId1"/>
          <a:stretch/>
        </p:blipFill>
        <p:spPr>
          <a:xfrm>
            <a:off x="4797360" y="2390760"/>
            <a:ext cx="37432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ступление малыша в детский сад – это первый шаг в самостоятельну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3" descr="tCsSc0_600w_350h"/>
          <p:cNvPicPr/>
          <p:nvPr/>
        </p:nvPicPr>
        <p:blipFill>
          <a:blip r:embed="rId1"/>
          <a:stretch/>
        </p:blipFill>
        <p:spPr>
          <a:xfrm>
            <a:off x="457200" y="2251080"/>
            <a:ext cx="403848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 детей в период адаптации могут нарушаться аппетит, сон, эмоциональное состояние. Понижение аппетита, сна, эмоционального состояния приводит к снижению иммунитета, к ухудшению физического  развития, потере веса, иногда к заболев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adaptaciya_v_d_sadu"/>
          <p:cNvPicPr/>
          <p:nvPr/>
        </p:nvPicPr>
        <p:blipFill>
          <a:blip r:embed="rId1"/>
          <a:stretch/>
        </p:blipFill>
        <p:spPr>
          <a:xfrm>
            <a:off x="4952880" y="2112840"/>
            <a:ext cx="357984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первое время ребенок может сильно уставать в детском саду: новые впечатления, новые друзья, новая деятельность, большое количество наро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Baby_237065"/>
          <p:cNvPicPr/>
          <p:nvPr/>
        </p:nvPicPr>
        <p:blipFill>
          <a:blip r:embed="rId1"/>
          <a:stretch/>
        </p:blipFill>
        <p:spPr>
          <a:xfrm>
            <a:off x="5229360" y="14479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мните, что с началом посещения детского сада ребёнок на время лишается физического контакта с матерью. Маленьким детям важно, чтобы их продолжали брать на руки, обнимали, укладывали сп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3" descr="MomsNBabes-rodyi-v-mayami-SSHA-22"/>
          <p:cNvPicPr/>
          <p:nvPr/>
        </p:nvPicPr>
        <p:blipFill>
          <a:blip r:embed="rId1"/>
          <a:stretch/>
        </p:blipFill>
        <p:spPr>
          <a:xfrm>
            <a:off x="533520" y="2259000"/>
            <a:ext cx="425916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Больше всего родитель и ребенок расстраиваются утром при расставании. Долгие прощания и уговоры с обеспокоенным выражением лица вызовут у ребенка тревогу. Запомните, дети успокаиваются чаще всего сразу после того, как родители исчезают из поля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1" descr="ZeMPGYg47QE"/>
          <p:cNvPicPr/>
          <p:nvPr/>
        </p:nvPicPr>
        <p:blipFill>
          <a:blip r:embed="rId1"/>
          <a:stretch/>
        </p:blipFill>
        <p:spPr>
          <a:xfrm>
            <a:off x="4648320" y="2182680"/>
            <a:ext cx="4038480" cy="30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И дома и в саду говорите с малышом уверенно. Спокойно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Пусть малыша отводит тот родитель или родственник, которым ему легче расстаться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Обязательно скажите, что вы придёте и обозначьте когда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У вас должен свой ритуал прощания, после чего вы уходите уверенно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Ни в коем случае нельзя пугать детским садом («Вот будешь баловаться, отведу в садик, и будешь там один жить!»)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Нельзя плохо отзываться о воспитателях или о саде при ребёнке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Не обманывайте ребёнка, пообещали забрать пораньше, выполните своё обещание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естаньте волноваться, всё будет хорошо. Поддерживайте малыша, проявляйте свою любовь, говорите ласковые слова. После детского сада проводите больше времени с ребёнк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0" descr="idealnaya_mama_1_1397190850"/>
          <p:cNvPicPr/>
          <p:nvPr/>
        </p:nvPicPr>
        <p:blipFill>
          <a:blip r:embed="rId1"/>
          <a:stretch/>
        </p:blipFill>
        <p:spPr>
          <a:xfrm>
            <a:off x="533520" y="2401920"/>
            <a:ext cx="3890880" cy="282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09:55:38Z</dcterms:created>
  <dc:creator>Наталья</dc:creator>
  <dc:description/>
  <dc:language>en-US</dc:language>
  <cp:lastModifiedBy>Dinazavra</cp:lastModifiedBy>
  <dcterms:modified xsi:type="dcterms:W3CDTF">2016-12-18T16:50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