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38C4-0C6D-43F7-AAC2-5B351E3A6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DEC6-E03C-42EB-A500-DC9494C3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A4BF-0611-40C3-972C-7215B07F5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5C17-F820-46D4-B8D7-C24B9F91A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F19A-F998-47DE-8D4F-2BA3E3FD1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AE478-291D-4605-894A-5D88761F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9CFBC-5320-4AB0-884E-024E1190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6EB7E-5813-400D-A537-344536F0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596B-DF7E-4E12-9F16-D8407307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FCB4-8676-4B90-BBCD-DBCC375A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39A3-9E8F-4061-843D-8ECE075E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EDD4-977B-4FAB-956B-673197B2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26DF-1905-47FE-B44D-44DE6886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D4D6-C8C3-4FC5-9A4B-4FB3D96C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3833-F7FF-4A00-ABFE-36CA68FF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0C79-F7B5-4FE8-83C1-D9F8F4A77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AC345-3958-46F8-9885-BA9DDF049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E292-166E-49FB-A163-5115412B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7676-0926-47D3-AE47-CA06CC5D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A6A8-A94A-4095-B6E9-FBB8C7FD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D37D-E4E2-486A-89FA-1A8B0066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6C5E-71F1-43A1-AD21-161FB78E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3D4C-626C-4A5F-850C-D3D87AE2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CFCA-9099-4FE1-A24D-44A43ACD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8BA5-2C63-4054-925A-4385E595E41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A856-0387-49FD-A973-B4AC23A7A68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ЗАКОН 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     ОБ  ОБРАЗОВАНИ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8" descr="CA3OD5R4"/>
          <p:cNvPicPr/>
          <p:nvPr/>
        </p:nvPicPr>
        <p:blipFill>
          <a:blip r:embed="rId1"/>
          <a:stretch/>
        </p:blipFill>
        <p:spPr>
          <a:xfrm>
            <a:off x="2916360" y="1700280"/>
            <a:ext cx="3052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одители (законные представители) несовершеннолетних обучающихся </a:t>
            </a:r>
            <a:r>
              <a:rPr b="0" lang="ru-RU" sz="2500" spc="-1" strike="noStrike">
                <a:solidFill>
                  <a:srgbClr val="ff0000"/>
                </a:solidFill>
                <a:latin typeface="Verdana"/>
              </a:rPr>
              <a:t>обязаны</a:t>
            </a:r>
            <a:r>
              <a:rPr b="0" lang="ru-RU" sz="3400" spc="-1" strike="noStrike">
                <a:solidFill>
                  <a:srgbClr val="ff0000"/>
                </a:solidFill>
                <a:latin typeface="Verdana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Verdana"/>
              </a:rPr>
              <a:t>обеспечить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получение детьми общего </a:t>
            </a:r>
            <a:r>
              <a:rPr b="0" lang="ru-RU" sz="3000" spc="-1" strike="noStrike">
                <a:solidFill>
                  <a:srgbClr val="ff0000"/>
                </a:solidFill>
                <a:latin typeface="Verdana"/>
              </a:rPr>
              <a:t>образования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соблюдать правил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внутреннего распорядка организации,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осуществляющей образовательную деятельность,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требования локальных нормативных актов, которые устанавливают режим занятий обучающихс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порядок регламентации образовательных отношений между образовательной организацией и обучающимися и (или) их родителями (законными представителями) и оформления возникновения, приостановления и прекращения этих отношени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важать честь и достоинство </a:t>
            </a:r>
            <a:r>
              <a:rPr b="0" lang="ru-RU" sz="3000" spc="-1" strike="noStrike">
                <a:solidFill>
                  <a:srgbClr val="ff0000"/>
                </a:solidFill>
                <a:latin typeface="Verdana"/>
              </a:rPr>
              <a:t>обучающихся и работников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организации, осуществляющей образовательную деятельность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Verdana"/>
              </a:rPr>
              <a:t>За неисполнение или ненадлежащее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исполнение обязанностей, установленных настоящим Федеральным законом и иными федеральными законами, </a:t>
            </a:r>
            <a:r>
              <a:rPr b="0" lang="ru-RU" sz="3000" spc="-1" strike="noStrike">
                <a:solidFill>
                  <a:srgbClr val="ff0000"/>
                </a:solidFill>
                <a:latin typeface="Verdana"/>
              </a:rPr>
              <a:t>родители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(законные представители) несовершеннолетних обучающихся </a:t>
            </a:r>
            <a:r>
              <a:rPr b="0" lang="ru-RU" sz="3000" spc="-1" strike="noStrike">
                <a:solidFill>
                  <a:srgbClr val="ff0000"/>
                </a:solidFill>
                <a:latin typeface="Verdana"/>
              </a:rPr>
              <a:t>несут ответственность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 предусмотренную законодательством Российской Федераци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СЕМЕЙНЫЙ КОДЕКС РФ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14" descr="430000000000078083"/>
          <p:cNvPicPr/>
          <p:nvPr/>
        </p:nvPicPr>
        <p:blipFill>
          <a:blip r:embed="rId1"/>
          <a:stretch/>
        </p:blipFill>
        <p:spPr>
          <a:xfrm>
            <a:off x="2771640" y="1700280"/>
            <a:ext cx="31640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Статья 63. Права и обязанности родителей по воспитанию и образованию детей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одители имеют 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право и обязаны воспитывать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воих детей. Родители 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несут ответственность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 воспитание и развитие своих детей. Они 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обязаны заботиться о здоровье, физическом, психическом, духовном и нравственном развитии своих дете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Родители имеют преимущественное право на воспитание своих детей перед всеми другими лицам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822960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одители </a:t>
            </a:r>
            <a:r>
              <a:rPr b="0" lang="ru-RU" sz="3000" spc="-1" strike="noStrike">
                <a:solidFill>
                  <a:srgbClr val="ff0000"/>
                </a:solidFill>
                <a:latin typeface="Verdana"/>
              </a:rPr>
              <a:t>обязаны обеспечить получение детьми основного общего образования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ru-RU" sz="3000" spc="-1" strike="noStrike">
                <a:solidFill>
                  <a:srgbClr val="ff0000"/>
                </a:solidFill>
                <a:latin typeface="Verdana"/>
              </a:rPr>
              <a:t>создать условия для получения ими среднего (полного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) общего образования. Родители, с учетом мнения детей, имеют право выбора образовательного учреждения и формы получения образования детьм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Статья 64. Права  и обязанности родителей по защите прав и интересов детей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Verdana"/>
              </a:rPr>
              <a:t>Защита прав и интересов детей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возлагается на их родителей. Родители являются законными представителями своих детей и выступают в защиту их прав и интересов в отношениях с любыми физическими и юридическими лицами, в том числе в судах, без специальных полномочий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Статья 65. Осуществление родительских прав</a:t>
            </a:r>
            <a:br>
              <a:rPr sz="3400"/>
            </a:b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Родительские права не могут осуществляться в противоречии с интересами детей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Обеспечение интересов детей должно быть предметом основной заботы их родителей. При осуществлении родительских прав родители не вправе причинять вред физическому и психическому здоровью детей, их нравственному развитию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одители, осуществляющие родительские права в ущерб правам и интересам детей, несут ответственность в установленном законом порядк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Статья 44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ава, обязанности и ответственность в сфере образования родителей (законных представителей) несовершеннолетних обучающихся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Прямоугольник 4"/>
          <p:cNvSpPr/>
          <p:nvPr/>
        </p:nvSpPr>
        <p:spPr>
          <a:xfrm>
            <a:off x="571680" y="1928880"/>
            <a:ext cx="8215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одители (законные представители) несовершеннолетних обучающихся имеют преимущественное 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право на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обучение и воспитание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тей перед всеми другими лицами. 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Они обязаны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заложить основы физического, нравственного и интеллектуального развития личности ребенк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рганы государственной власти и органы местного самоуправления, образовательные организации </a:t>
            </a:r>
            <a:r>
              <a:rPr b="0" lang="ru-RU" sz="2600" spc="-1" strike="noStrike">
                <a:solidFill>
                  <a:srgbClr val="ff0000"/>
                </a:solidFill>
                <a:latin typeface="Verdana"/>
              </a:rPr>
              <a:t>оказывают помощь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родителям (законным представителям) несовершеннолетних обучающихся в воспитании детей, охране и укреплении их физического и психического здоровья, развитии индивидуальных способностей и необходимой коррекции нарушений их развит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одители (законные представители) несовершеннолетних обучающихся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имеют право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выбирать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до завершения получения ребенком основного общего образования с учетом мнения ребенка, а также с учетом рекомендаций психолого-медико-педагогической комиссии (при их наличии)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формы получе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образования и формы обучения, организации, осуществляющие образовательную деятельность, язык, языки образования, факультативные и элективные учебные предметы, курсы, дисциплины (модули)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из перечня, предлагаемого организацией, осуществляющей образовательную деятельность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Verdana"/>
              </a:rPr>
              <a:t>дать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ебенку дошкольное, начальное общее, основное общее, среднее общее </a:t>
            </a:r>
            <a:r>
              <a:rPr b="0" lang="ru-RU" sz="3000" spc="-1" strike="noStrike">
                <a:solidFill>
                  <a:srgbClr val="ff0000"/>
                </a:solidFill>
                <a:latin typeface="Verdana"/>
              </a:rPr>
              <a:t>образование в семье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. Ребенок, получающий образование в семье, по решению его родителей (законных представителей) с учетом его мнения на любом этапе обучения вправе продолжить образование в </a:t>
            </a:r>
            <a:r>
              <a:rPr b="0" lang="ru-RU" sz="3400" spc="-1" strike="noStrike">
                <a:solidFill>
                  <a:srgbClr val="ff0000"/>
                </a:solidFill>
                <a:latin typeface="Verdana"/>
              </a:rPr>
              <a:t>образовательной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рганизации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Verdana"/>
              </a:rPr>
              <a:t>знакомиться с уставом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организации, осуществляющей образовательную деятельность, лицензией на осуществление образовательной деятельности, </a:t>
            </a:r>
            <a:r>
              <a:rPr b="0" lang="ru-RU" sz="2600" spc="-1" strike="noStrike">
                <a:solidFill>
                  <a:srgbClr val="ff0000"/>
                </a:solidFill>
                <a:latin typeface="Verdana"/>
              </a:rPr>
              <a:t>со свидетельством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о государственной </a:t>
            </a:r>
            <a:r>
              <a:rPr b="0" lang="ru-RU" sz="2600" spc="-1" strike="noStrike">
                <a:solidFill>
                  <a:srgbClr val="ff0000"/>
                </a:solidFill>
                <a:latin typeface="Verdana"/>
              </a:rPr>
              <a:t>аккредитации,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с </a:t>
            </a:r>
            <a:r>
              <a:rPr b="0" lang="ru-RU" sz="2600" spc="-1" strike="noStrike">
                <a:solidFill>
                  <a:srgbClr val="ff0000"/>
                </a:solidFill>
                <a:latin typeface="Verdana"/>
              </a:rPr>
              <a:t>учебно-программной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документацией и другими документами, регламентирующими организацию и осуществление образовательной деятельности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Verdana"/>
              </a:rPr>
              <a:t>защищать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ава и законные интересы обучающихся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Verdana"/>
              </a:rPr>
              <a:t>получать информацию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о всех видах планируемых обследований (психологических, психолого-педагогических) обучающихся, </a:t>
            </a:r>
            <a:r>
              <a:rPr b="0" lang="ru-RU" sz="2600" spc="-1" strike="noStrike">
                <a:solidFill>
                  <a:srgbClr val="ff0000"/>
                </a:solidFill>
                <a:latin typeface="Verdana"/>
              </a:rPr>
              <a:t>давать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согласие на проведение таких обследований пли участие в таких обследованиях, </a:t>
            </a:r>
            <a:r>
              <a:rPr b="0" lang="ru-RU" sz="2600" spc="-1" strike="noStrike">
                <a:solidFill>
                  <a:srgbClr val="ff0000"/>
                </a:solidFill>
                <a:latin typeface="Verdana"/>
              </a:rPr>
              <a:t>отказаться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т их проведения или участия в них, </a:t>
            </a:r>
            <a:r>
              <a:rPr b="0" lang="ru-RU" sz="2600" spc="-1" strike="noStrike">
                <a:solidFill>
                  <a:srgbClr val="ff0000"/>
                </a:solidFill>
                <a:latin typeface="Verdana"/>
              </a:rPr>
              <a:t>получать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информацию о результатах проведенных обследований обучающихся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нимать участие 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в управлении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организацией, осуществляющей образовательную деятельность, в форме, определяемой уставом этой организаци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0T11:28:18Z</dcterms:created>
  <dc:creator>Мультимедиа</dc:creator>
  <dc:description/>
  <dc:language>en-US</dc:language>
  <cp:lastModifiedBy>Елена</cp:lastModifiedBy>
  <dcterms:modified xsi:type="dcterms:W3CDTF">2021-11-02T15:35:25Z</dcterms:modified>
  <cp:revision>6</cp:revision>
  <dc:subject/>
  <dc:title>ЗАКОН ОБ ОБРАЗОВАНИИ</dc:title>
</cp:coreProperties>
</file>