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4.wmf" ContentType="image/x-wmf"/>
  <Override PartName="/ppt/media/image22.wmf" ContentType="image/x-wmf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5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5367-0D60-451C-82E7-79CF577EE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0E87-DE6D-44D7-BE96-79CF25C3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FDFF-86E8-4277-B92D-39C27E07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3FE8-A0BF-4D5D-A9CE-EAC4671C7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E6C2-A9E8-4958-BC18-22A2A62A4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898B-7423-464D-B07A-57326AA6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B904-0804-4AD7-8D49-0178F4D6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40B51-19B0-41B0-BEBD-9DF635EC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0D15-2818-4B04-BA2A-37BB3DBB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4553-77D5-4550-BA04-6C0FC26D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1352-B205-440C-85F8-78362D81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D0A6-CEF8-482F-92A7-81B71828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0D22-4ABE-4CBE-9629-9AB94BD7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2CB3-B8CF-4AB8-B7A2-5FD097B5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030D-5B8A-458E-934A-5BC8DD64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7468-CDF9-43F7-A0AA-92CB94822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553F-BB35-47C1-A361-C6601AD6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8D523-1F90-4B8D-BC16-308D87705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87442-4431-4B48-A274-34917B22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02B72-D984-482B-B147-2A88C856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2ECF4-3477-4CB9-8D45-6F396A30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686D4-AD7F-408F-B0FB-FEA044D4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432E-6E15-4944-AFF6-05CA4F5C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DEDAD-C64D-4056-8D09-E18F8878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773DA-5511-4419-96D2-C6D33490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65F11-B56A-4400-ABE1-935AD8D1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BA38D-6B81-44F4-A3CF-84D8EDAF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9BF3C-01E9-4E6C-A4B5-44C876E7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39140-270E-40A0-ADC7-AD58E414F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48D5F-6D48-4F4D-A5FB-35D9F1C3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4C58B-11D5-4221-9C34-94BB89B26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33DCE-5AB3-44A5-9A43-16A99FAB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9646D-8367-4EB8-A75C-A085F771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3E8F-26AE-45CE-B30E-02E7755F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BD8D8-C179-46AD-8FEE-A6F09998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9DC0E-79E8-458E-91B2-6D4861E5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6D60E-507F-4A01-B223-5E7E89E7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B6509-C0BE-4048-9D3E-CEF23B74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B71F0-ABE0-46FB-ADBA-DE21DFFF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CB13E-3F46-4DB4-AD7D-52DA207D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AC3DB-1E9F-4A02-983B-CB3D892D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6EC43-E79D-4E6D-8750-66E02B44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FD0DD-372C-497C-A51A-20D2A7CC2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EC00-77E3-4964-8CFF-3CEFC1F2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F04D-E6C9-46B4-8E82-DB70B16F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7045-7683-4019-8868-9663844F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EAB2-32A5-477D-90B1-ED8DBA77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B5D0-46F7-4436-9BD1-00F461E1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034B-E585-4217-BC60-E2ABE7432EEE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488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8920"/>
              <a:ext cx="4815000" cy="48153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160"/>
              <a:ext cx="3912480" cy="39124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9760" cy="383976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440" y="177012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FE7B-6180-42F1-9278-A2A6A76AF1AA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1AAE-F0E3-49FF-A54C-BC30EFA1B4BF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3833-1F47-48D6-9F51-C0A140F5838A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1125000"/>
            <a:ext cx="734076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entury Gothic"/>
              </a:rPr>
              <a:t>КРАСНАЯ КНИГА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23640" y="3212640"/>
            <a:ext cx="589572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Животные и растения</a:t>
            </a:r>
            <a:endParaRPr b="0" lang="en-US" sz="44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194" name="Рисунок 1" descr=""/>
          <p:cNvPicPr/>
          <p:nvPr/>
        </p:nvPicPr>
        <p:blipFill>
          <a:blip r:embed="rId1"/>
          <a:stretch/>
        </p:blipFill>
        <p:spPr>
          <a:xfrm>
            <a:off x="4427640" y="3822840"/>
            <a:ext cx="457200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Century Gothic"/>
              </a:rPr>
              <a:t>ЛОТОС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33160" y="533520"/>
            <a:ext cx="6554520" cy="3767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лотос"/>
          <p:cNvPicPr/>
          <p:nvPr/>
        </p:nvPicPr>
        <p:blipFill>
          <a:blip r:embed="rId2"/>
          <a:stretch/>
        </p:blipFill>
        <p:spPr>
          <a:xfrm>
            <a:off x="2050920" y="836640"/>
            <a:ext cx="4994280" cy="59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3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Century Gothic"/>
              </a:rPr>
              <a:t>КРАБ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33160" y="533520"/>
            <a:ext cx="6554520" cy="37670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краб"/>
          <p:cNvPicPr/>
          <p:nvPr/>
        </p:nvPicPr>
        <p:blipFill>
          <a:blip r:embed="rId2"/>
          <a:stretch/>
        </p:blipFill>
        <p:spPr>
          <a:xfrm>
            <a:off x="539640" y="1197000"/>
            <a:ext cx="8261640" cy="53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Century Gothic"/>
              </a:rPr>
              <a:t>УШАСТЫЙ ЕЖ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3160" y="533520"/>
            <a:ext cx="6554520" cy="37670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ушастый еж"/>
          <p:cNvPicPr/>
          <p:nvPr/>
        </p:nvPicPr>
        <p:blipFill>
          <a:blip r:embed="rId2"/>
          <a:stretch/>
        </p:blipFill>
        <p:spPr>
          <a:xfrm>
            <a:off x="324000" y="1052640"/>
            <a:ext cx="8675640" cy="556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Century Gothic"/>
              </a:rPr>
              <a:t>БЕЛЫЙ МЕДВЕДЬ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33160" y="533520"/>
            <a:ext cx="6554520" cy="3767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белый медведь"/>
          <p:cNvPicPr/>
          <p:nvPr/>
        </p:nvPicPr>
        <p:blipFill>
          <a:blip r:embed="rId2"/>
          <a:stretch/>
        </p:blipFill>
        <p:spPr>
          <a:xfrm>
            <a:off x="468360" y="981000"/>
            <a:ext cx="8353440" cy="570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Century Gothic"/>
              </a:rPr>
              <a:t>ТИГР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33160" y="533520"/>
            <a:ext cx="6554520" cy="37670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тигр"/>
          <p:cNvPicPr/>
          <p:nvPr/>
        </p:nvPicPr>
        <p:blipFill>
          <a:blip r:embed="rId2"/>
          <a:stretch/>
        </p:blipFill>
        <p:spPr>
          <a:xfrm>
            <a:off x="1403280" y="765000"/>
            <a:ext cx="5977080" cy="593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Century Gothic"/>
              </a:rPr>
              <a:t>ОРЛАН БЕЛОПЛЕЧИЙ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33160" y="533520"/>
            <a:ext cx="6554520" cy="37670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орлан белоплнчий"/>
          <p:cNvPicPr/>
          <p:nvPr/>
        </p:nvPicPr>
        <p:blipFill>
          <a:blip r:embed="rId2"/>
          <a:stretch/>
        </p:blipFill>
        <p:spPr>
          <a:xfrm>
            <a:off x="179280" y="1125360"/>
            <a:ext cx="8748720" cy="547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Century Gothic"/>
              </a:rPr>
              <a:t>ЛЕОПАРД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33160" y="533520"/>
            <a:ext cx="6554520" cy="37670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леопард"/>
          <p:cNvPicPr/>
          <p:nvPr/>
        </p:nvPicPr>
        <p:blipFill>
          <a:blip r:embed="rId2"/>
          <a:stretch/>
        </p:blipFill>
        <p:spPr>
          <a:xfrm>
            <a:off x="395280" y="836640"/>
            <a:ext cx="8459640" cy="58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900" spc="-1" strike="noStrike">
                <a:solidFill>
                  <a:srgbClr val="ffff00"/>
                </a:solidFill>
                <a:latin typeface="Century Gothic"/>
              </a:rPr>
              <a:t>ПАНДА</a:t>
            </a:r>
            <a:endParaRPr b="0" lang="en-US" sz="49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33160" y="533520"/>
            <a:ext cx="6554520" cy="37670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панда"/>
          <p:cNvPicPr/>
          <p:nvPr/>
        </p:nvPicPr>
        <p:blipFill>
          <a:blip r:embed="rId2"/>
          <a:stretch/>
        </p:blipFill>
        <p:spPr>
          <a:xfrm>
            <a:off x="250920" y="907920"/>
            <a:ext cx="8604000" cy="580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Century Gothic"/>
              </a:rPr>
              <a:t>РЫСЬ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33160" y="533520"/>
            <a:ext cx="6554520" cy="37670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рысь"/>
          <p:cNvPicPr/>
          <p:nvPr/>
        </p:nvPicPr>
        <p:blipFill>
          <a:blip r:embed="rId2"/>
          <a:stretch/>
        </p:blipFill>
        <p:spPr>
          <a:xfrm>
            <a:off x="324000" y="765000"/>
            <a:ext cx="8640720" cy="597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Century Gothic"/>
              </a:rPr>
              <a:t>СНЕЖНЫЙ БАРС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33160" y="533520"/>
            <a:ext cx="6554520" cy="37670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снежный барс"/>
          <p:cNvPicPr/>
          <p:nvPr/>
        </p:nvPicPr>
        <p:blipFill>
          <a:blip r:embed="rId2"/>
          <a:stretch/>
        </p:blipFill>
        <p:spPr>
          <a:xfrm>
            <a:off x="250920" y="907920"/>
            <a:ext cx="8748720" cy="582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Goudy Stout"/>
              </a:rPr>
              <a:t>ИСТОРИЧЕСКАЯ СПРАВКА</a:t>
            </a:r>
            <a:endParaRPr b="0" lang="en-US" sz="4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60000"/>
              </a:lnSpc>
              <a:spcBef>
                <a:spcPts val="55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01"/>
                </a:solidFill>
                <a:latin typeface="Arial Black"/>
              </a:rPr>
              <a:t>В 1948 году учёные мира создали Международный союз охраны природы(МСОП)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60000"/>
              </a:lnSpc>
              <a:spcBef>
                <a:spcPts val="55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01"/>
                </a:solidFill>
                <a:latin typeface="Arial Black"/>
              </a:rPr>
              <a:t>По заданию этого союза учёные стали изучать, каким растениям и животным планеты надо помочь в первую очередь.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60000"/>
              </a:lnSpc>
              <a:spcBef>
                <a:spcPts val="55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01"/>
                </a:solidFill>
                <a:latin typeface="Arial Black"/>
              </a:rPr>
              <a:t>Они составили списки и издали их в виде книги, которая получила название Красная книга.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60000"/>
              </a:lnSpc>
              <a:spcBef>
                <a:spcPts val="55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01"/>
                </a:solidFill>
                <a:latin typeface="Arial Black"/>
              </a:rPr>
              <a:t>В 1966 году Международная красная книга была издана в необычном виде. Обложка у неё была красная, а страницы – разноцветные: красные, жёлтые, белые, серые и зелёные.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6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6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60000"/>
              </a:lnSpc>
              <a:spcBef>
                <a:spcPts val="55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ПРАВИЛА ДРУЗЕЙ ПРИРОДЫ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01"/>
                </a:solidFill>
                <a:latin typeface="Century Gothic"/>
              </a:rPr>
              <a:t>Не рви лесные и полевые цветы для букетов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01"/>
                </a:solidFill>
                <a:latin typeface="Century Gothic"/>
              </a:rPr>
              <a:t>Ходи по тропинкам, чтобы не топтать растения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01"/>
                </a:solidFill>
                <a:latin typeface="Century Gothic"/>
              </a:rPr>
              <a:t>Не шуми  в природе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01"/>
                </a:solidFill>
                <a:latin typeface="Century Gothic"/>
              </a:rPr>
              <a:t>Не убивай  без причины животных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01"/>
                </a:solidFill>
                <a:latin typeface="Century Gothic"/>
              </a:rPr>
              <a:t>Не ломай  ветки деревьев и кустарников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01"/>
                </a:solidFill>
                <a:latin typeface="Century Gothic"/>
              </a:rPr>
              <a:t>Не загрязняй водоёмы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64" name="Picture 7" descr="MC900237521[1]"/>
          <p:cNvPicPr/>
          <p:nvPr/>
        </p:nvPicPr>
        <p:blipFill>
          <a:blip r:embed="rId1"/>
          <a:stretch/>
        </p:blipFill>
        <p:spPr>
          <a:xfrm>
            <a:off x="4284720" y="4653000"/>
            <a:ext cx="2087640" cy="2068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MC900344857[1]"/>
          <p:cNvPicPr/>
          <p:nvPr/>
        </p:nvPicPr>
        <p:blipFill>
          <a:blip r:embed="rId2"/>
          <a:stretch/>
        </p:blipFill>
        <p:spPr>
          <a:xfrm>
            <a:off x="7093080" y="2060640"/>
            <a:ext cx="1769760" cy="16603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MC900287037[1]"/>
          <p:cNvPicPr/>
          <p:nvPr/>
        </p:nvPicPr>
        <p:blipFill>
          <a:blip r:embed="rId3"/>
          <a:stretch/>
        </p:blipFill>
        <p:spPr>
          <a:xfrm>
            <a:off x="7236000" y="5084640"/>
            <a:ext cx="1657080" cy="14734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" descr="MC900345329[1]"/>
          <p:cNvPicPr/>
          <p:nvPr/>
        </p:nvPicPr>
        <p:blipFill>
          <a:blip r:embed="rId4"/>
          <a:stretch/>
        </p:blipFill>
        <p:spPr>
          <a:xfrm>
            <a:off x="900000" y="5157720"/>
            <a:ext cx="1965600" cy="152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Century Gothic"/>
              </a:rPr>
              <a:t>КРАСНАЯ КНИГА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8360" y="1341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entury Gothic"/>
              </a:rPr>
              <a:t>Информирует</a:t>
            </a:r>
            <a:r>
              <a:rPr b="1" lang="ru-RU" sz="2400" spc="-1" strike="noStrike">
                <a:solidFill>
                  <a:srgbClr val="0f496f"/>
                </a:solidFill>
                <a:latin typeface="Century Gothic"/>
              </a:rPr>
              <a:t>, какие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f496f"/>
                </a:solidFill>
                <a:latin typeface="Century Gothic"/>
              </a:rPr>
              <a:t>в</a:t>
            </a:r>
            <a:r>
              <a:rPr b="0" lang="ru-RU" sz="2400" spc="-1" strike="noStrike">
                <a:solidFill>
                  <a:srgbClr val="0f496f"/>
                </a:solidFill>
                <a:latin typeface="Century Gothic"/>
              </a:rPr>
              <a:t>ид</a:t>
            </a:r>
            <a:r>
              <a:rPr b="1" lang="ru-RU" sz="2400" spc="-1" strike="noStrike">
                <a:solidFill>
                  <a:srgbClr val="0f496f"/>
                </a:solidFill>
                <a:latin typeface="Century Gothic"/>
              </a:rPr>
              <a:t>ы животных и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f496f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f496f"/>
                </a:solidFill>
                <a:latin typeface="Century Gothic"/>
              </a:rPr>
              <a:t>растений в опасности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2050920" y="2708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Призывает изуча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дкие виды растений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животн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987640" y="4005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Предупреждает,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т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стение или животн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опас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4211640" y="5229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Советует,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к сохрани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дкие виды раст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 животн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7" descr="Тигра"/>
          <p:cNvPicPr/>
          <p:nvPr/>
        </p:nvPicPr>
        <p:blipFill>
          <a:blip r:embed="rId1"/>
          <a:stretch/>
        </p:blipFill>
        <p:spPr>
          <a:xfrm>
            <a:off x="6300720" y="1341360"/>
            <a:ext cx="2716200" cy="263844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203" name="Picture 9" descr="2"/>
          <p:cNvPicPr/>
          <p:nvPr/>
        </p:nvPicPr>
        <p:blipFill>
          <a:blip r:embed="rId2"/>
          <a:stretch/>
        </p:blipFill>
        <p:spPr>
          <a:xfrm>
            <a:off x="179280" y="3933720"/>
            <a:ext cx="2394000" cy="2664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entury Gothic"/>
              </a:rPr>
              <a:t>ВИДЫ ЖИВОТНЫХ И РАСТЕНИЙ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6840" y="1600200"/>
            <a:ext cx="23144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f496f"/>
                </a:solidFill>
                <a:latin typeface="Century Gothic"/>
              </a:rPr>
              <a:t>исчезающие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75564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храняющие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3924360" y="3213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дк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4932360" y="1484280"/>
            <a:ext cx="38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сстанавливающие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5721480" y="256536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определё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Line 9"/>
          <p:cNvSpPr/>
          <p:nvPr/>
        </p:nvSpPr>
        <p:spPr>
          <a:xfrm flipH="1">
            <a:off x="1908000" y="1125360"/>
            <a:ext cx="115272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Line 10"/>
          <p:cNvSpPr/>
          <p:nvPr/>
        </p:nvSpPr>
        <p:spPr>
          <a:xfrm flipH="1">
            <a:off x="2484000" y="1484280"/>
            <a:ext cx="108108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Line 12"/>
          <p:cNvSpPr/>
          <p:nvPr/>
        </p:nvSpPr>
        <p:spPr>
          <a:xfrm>
            <a:off x="4572000" y="1125360"/>
            <a:ext cx="0" cy="20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5796000" y="1052640"/>
            <a:ext cx="11509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5292720" y="1484280"/>
            <a:ext cx="122400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5" name="Picture 15" descr="O6036i"/>
          <p:cNvPicPr/>
          <p:nvPr/>
        </p:nvPicPr>
        <p:blipFill>
          <a:blip r:embed="rId1"/>
          <a:stretch/>
        </p:blipFill>
        <p:spPr>
          <a:xfrm>
            <a:off x="684360" y="3429000"/>
            <a:ext cx="2846160" cy="316872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216" name="Picture 16" descr="z_014i"/>
          <p:cNvPicPr/>
          <p:nvPr/>
        </p:nvPicPr>
        <p:blipFill>
          <a:blip r:embed="rId2"/>
          <a:stretch/>
        </p:blipFill>
        <p:spPr>
          <a:xfrm>
            <a:off x="5450040" y="3284640"/>
            <a:ext cx="2977920" cy="33130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-532080"/>
            <a:ext cx="8229600" cy="17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Century Gothic"/>
              </a:rPr>
              <a:t>КАБАН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33160" y="533520"/>
            <a:ext cx="6554520" cy="37670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кабан"/>
          <p:cNvPicPr/>
          <p:nvPr/>
        </p:nvPicPr>
        <p:blipFill>
          <a:blip r:embed="rId2"/>
          <a:stretch/>
        </p:blipFill>
        <p:spPr>
          <a:xfrm>
            <a:off x="395280" y="907920"/>
            <a:ext cx="8496360" cy="566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Century Gothic"/>
              </a:rPr>
              <a:t>ДРОВОСЕК</a:t>
            </a:r>
            <a:r>
              <a:rPr b="0" lang="ru-RU" sz="5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33160" y="533520"/>
            <a:ext cx="6554520" cy="3767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дровосек"/>
          <p:cNvPicPr/>
          <p:nvPr/>
        </p:nvPicPr>
        <p:blipFill>
          <a:blip r:embed="rId2"/>
          <a:stretch/>
        </p:blipFill>
        <p:spPr>
          <a:xfrm>
            <a:off x="250920" y="1052640"/>
            <a:ext cx="8569080" cy="564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entury Gothic"/>
              </a:rPr>
              <a:t>ПОДСНЕЖНИК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33160" y="533520"/>
            <a:ext cx="6554520" cy="37670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подснежник"/>
          <p:cNvPicPr/>
          <p:nvPr/>
        </p:nvPicPr>
        <p:blipFill>
          <a:blip r:embed="rId2"/>
          <a:stretch/>
        </p:blipFill>
        <p:spPr>
          <a:xfrm>
            <a:off x="250920" y="981000"/>
            <a:ext cx="8569080" cy="56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-387720"/>
            <a:ext cx="8229600" cy="16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Century Gothic"/>
              </a:rPr>
              <a:t>ЛАНДЫШ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33160" y="533520"/>
            <a:ext cx="6554520" cy="3767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ландыш"/>
          <p:cNvPicPr/>
          <p:nvPr/>
        </p:nvPicPr>
        <p:blipFill>
          <a:blip r:embed="rId2"/>
          <a:stretch/>
        </p:blipFill>
        <p:spPr>
          <a:xfrm>
            <a:off x="1979640" y="981000"/>
            <a:ext cx="4824360" cy="564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Century Gothic"/>
              </a:rPr>
              <a:t>СОН-ТРАВА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33160" y="533520"/>
            <a:ext cx="6554520" cy="37670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сон-трава"/>
          <p:cNvPicPr/>
          <p:nvPr/>
        </p:nvPicPr>
        <p:blipFill>
          <a:blip r:embed="rId2"/>
          <a:stretch/>
        </p:blipFill>
        <p:spPr>
          <a:xfrm>
            <a:off x="324000" y="907920"/>
            <a:ext cx="8424720" cy="580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8:22:31Z</dcterms:created>
  <dc:creator>User8</dc:creator>
  <dc:description/>
  <dc:language>en-US</dc:language>
  <cp:lastModifiedBy>admin</cp:lastModifiedBy>
  <dcterms:modified xsi:type="dcterms:W3CDTF">2021-11-02T08:50:14Z</dcterms:modified>
  <cp:revision>59</cp:revision>
  <dc:subject/>
  <dc:title>Красная книга</dc:title>
</cp:coreProperties>
</file>