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9AA-9C7B-47F2-A144-BCAC5707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9AB-4DC2-423E-823F-B03AC50A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FF8-F3CC-49C7-8BDB-E21D85F1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013-5CCE-48CA-9F2D-52B622BF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965-6E9C-4587-B708-7EA543C1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B35-DF20-411D-A872-0FD429E5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50B-332F-4BB6-BA12-D923E0B9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CC2-3452-4C0E-9F90-DCC8C42B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AD0-E163-4B4D-A288-DA26DD89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D38-A9F3-4A89-B6C5-DDBEF998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6BA-FE11-4B5A-BD4E-0C97F4C9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2BD-365C-48DE-9EF4-84B5DD50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653A-82B9-4147-8539-D53513D91AC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4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242560" cy="1779480"/>
          </a:xfrm>
          <a:prstGeom prst="rect">
            <a:avLst/>
          </a:prstGeom>
          <a:ln w="0">
            <a:noFill/>
          </a:ln>
        </p:spPr>
      </p:pic>
      <p:pic>
        <p:nvPicPr>
          <p:cNvPr id="42" name="Объект 6" descr=""/>
          <p:cNvPicPr/>
          <p:nvPr/>
        </p:nvPicPr>
        <p:blipFill>
          <a:blip r:embed="rId2"/>
          <a:stretch/>
        </p:blipFill>
        <p:spPr>
          <a:xfrm>
            <a:off x="1258920" y="1682640"/>
            <a:ext cx="6265800" cy="4819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сохшую серединку цветка декорируем семечками. Они начинают созревать сначала по краям семенного круга, а затем в середине. Соответственно чёрные точки по краю – созревшие семечки, белые– ещё не созревш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3657600" y="1197000"/>
            <a:ext cx="53164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ёгкими «прыгающими» движениями вокруг цветка, стебля и листьев наносим белую краску, добавляя в неё синюю. Выполненный таким образом фон получается живым и динами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Объект 4" descr=""/>
          <p:cNvPicPr/>
          <p:nvPr/>
        </p:nvPicPr>
        <p:blipFill>
          <a:blip r:embed="rId1"/>
          <a:stretch/>
        </p:blipFill>
        <p:spPr>
          <a:xfrm>
            <a:off x="3603600" y="1197000"/>
            <a:ext cx="531972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рисовываем прожилки на листьях – наш подсолнух готов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Объект 4" descr=""/>
          <p:cNvPicPr/>
          <p:nvPr/>
        </p:nvPicPr>
        <p:blipFill>
          <a:blip r:embed="rId1"/>
          <a:stretch/>
        </p:blipFill>
        <p:spPr>
          <a:xfrm>
            <a:off x="3564000" y="1052640"/>
            <a:ext cx="5327640" cy="387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3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614600"/>
          </a:xfrm>
          <a:prstGeom prst="rect">
            <a:avLst/>
          </a:prstGeom>
          <a:ln w="0">
            <a:noFill/>
          </a:ln>
        </p:spPr>
      </p:pic>
      <p:pic>
        <p:nvPicPr>
          <p:cNvPr id="77" name="Объект 4" descr=""/>
          <p:cNvPicPr/>
          <p:nvPr/>
        </p:nvPicPr>
        <p:blipFill>
          <a:blip r:embed="rId2"/>
          <a:stretch/>
        </p:blipFill>
        <p:spPr>
          <a:xfrm>
            <a:off x="2843280" y="1600200"/>
            <a:ext cx="3384360" cy="4888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инный тонкий стебел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рху – алый огон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горит он, как мая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т ярко-красный мак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Объект 4" descr=""/>
          <p:cNvPicPr/>
          <p:nvPr/>
        </p:nvPicPr>
        <p:blipFill>
          <a:blip r:embed="rId1"/>
          <a:stretch/>
        </p:blipFill>
        <p:spPr>
          <a:xfrm>
            <a:off x="3708360" y="1197000"/>
            <a:ext cx="5040360" cy="365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обочка мака, полная семя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Объект 4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4751280" cy="5400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ы мака крупные, несмотря на то, что имеют только по четыре лепестка. Начинаем работу с того, что в любом месте листа бумаги ставим красную точку – серединку будущего цветка. Затем рисуем красным или малиновым цветом лепестки, похожие на сердечки. Аккуратно закрашиваем и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Объект 4" descr=""/>
          <p:cNvPicPr/>
          <p:nvPr/>
        </p:nvPicPr>
        <p:blipFill>
          <a:blip r:embed="rId1"/>
          <a:stretch/>
        </p:blipFill>
        <p:spPr>
          <a:xfrm>
            <a:off x="3708360" y="260280"/>
            <a:ext cx="4195800" cy="612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 помнить, что мир вокруг нас разноцветный. Поэтому во внешнюю часть лепестков можно добавить немного жёлтой краски. Теперь лепестки нашего мака начнут переливатьс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Объект 4" descr=""/>
          <p:cNvPicPr/>
          <p:nvPr/>
        </p:nvPicPr>
        <p:blipFill>
          <a:blip r:embed="rId1"/>
          <a:stretch/>
        </p:blipFill>
        <p:spPr>
          <a:xfrm>
            <a:off x="3708360" y="284040"/>
            <a:ext cx="4368960" cy="6240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равнению с цветком мака стебли кажутся очень хрупкими. Стебли могут изгибаться под «тяжестью» чашечек цве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дин из стеблей можно добавить маковую коробочку,  в которой зреют семен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Объект 4" descr=""/>
          <p:cNvPicPr/>
          <p:nvPr/>
        </p:nvPicPr>
        <p:blipFill>
          <a:blip r:embed="rId1"/>
          <a:stretch/>
        </p:blipFill>
        <p:spPr>
          <a:xfrm>
            <a:off x="3708360" y="243000"/>
            <a:ext cx="4464000" cy="6465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ерь можно дополнить нашу работу листьями, которые у мака имеют причудливую форму – они неровные, резные, пушисты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Объект 4" descr=""/>
          <p:cNvPicPr/>
          <p:nvPr/>
        </p:nvPicPr>
        <p:blipFill>
          <a:blip r:embed="rId1"/>
          <a:stretch/>
        </p:blipFill>
        <p:spPr>
          <a:xfrm>
            <a:off x="3708360" y="260280"/>
            <a:ext cx="4535640" cy="6308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ивительное солнц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м солнце сто оконцев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оконцев тех глядя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тни маленьких галч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Объект 6" descr=""/>
          <p:cNvPicPr/>
          <p:nvPr/>
        </p:nvPicPr>
        <p:blipFill>
          <a:blip r:embed="rId1"/>
          <a:stretch/>
        </p:blipFill>
        <p:spPr>
          <a:xfrm>
            <a:off x="4076640" y="428760"/>
            <a:ext cx="4240440" cy="5376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но, что стебли и листья мака имеют несколько белёсый оттенок, поэтому добавляем в них немного белой крас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Объект 4" descr=""/>
          <p:cNvPicPr/>
          <p:nvPr/>
        </p:nvPicPr>
        <p:blipFill>
          <a:blip r:embed="rId1"/>
          <a:stretch/>
        </p:blipFill>
        <p:spPr>
          <a:xfrm>
            <a:off x="3708360" y="210960"/>
            <a:ext cx="4319640" cy="6324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исуем чёрные сердцеви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3708360" y="312840"/>
            <a:ext cx="4319640" cy="611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исуем тёмные прожил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рединки раскрытых маков можно добавить тёмно-зелёный цвет. Это – будущая коробочка маковых семя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3708360" y="285840"/>
            <a:ext cx="4321080" cy="6167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рединки раскрытых маков можно добавить тёмно-зелёный цвет. Это – будущие коробочки маковых семян. Добавляем тёмный венчик на зелёной коробо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Объект 4" descr=""/>
          <p:cNvPicPr/>
          <p:nvPr/>
        </p:nvPicPr>
        <p:blipFill>
          <a:blip r:embed="rId1"/>
          <a:stretch/>
        </p:blipFill>
        <p:spPr>
          <a:xfrm>
            <a:off x="3708360" y="227160"/>
            <a:ext cx="4226040" cy="615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к – степное растение, любящее простор. Поэтому фон должен изображать голубое небо. Для этого используем белую и голубую кра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Объект 4" descr=""/>
          <p:cNvPicPr/>
          <p:nvPr/>
        </p:nvPicPr>
        <p:blipFill>
          <a:blip r:embed="rId1"/>
          <a:stretch/>
        </p:blipFill>
        <p:spPr>
          <a:xfrm>
            <a:off x="3708360" y="260280"/>
            <a:ext cx="4314960" cy="619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3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614600"/>
          </a:xfrm>
          <a:prstGeom prst="rect">
            <a:avLst/>
          </a:prstGeom>
          <a:ln w="0">
            <a:noFill/>
          </a:ln>
        </p:spPr>
      </p:pic>
      <p:pic>
        <p:nvPicPr>
          <p:cNvPr id="112" name="Объект 4" descr=""/>
          <p:cNvPicPr/>
          <p:nvPr/>
        </p:nvPicPr>
        <p:blipFill>
          <a:blip r:embed="rId2"/>
          <a:stretch/>
        </p:blipFill>
        <p:spPr>
          <a:xfrm>
            <a:off x="2484360" y="1844640"/>
            <a:ext cx="3888000" cy="475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ая корзинка, золотое донц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й лежит росинка, и сияет солнц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Объект 4" descr=""/>
          <p:cNvPicPr/>
          <p:nvPr/>
        </p:nvPicPr>
        <p:blipFill>
          <a:blip r:embed="rId1"/>
          <a:stretch/>
        </p:blipFill>
        <p:spPr>
          <a:xfrm>
            <a:off x="3232080" y="836640"/>
            <a:ext cx="5372280" cy="45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ят в поле сестричк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ёлтые глазки, белые ресни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Объект 4" descr=""/>
          <p:cNvPicPr/>
          <p:nvPr/>
        </p:nvPicPr>
        <p:blipFill>
          <a:blip r:embed="rId1"/>
          <a:stretch/>
        </p:blipFill>
        <p:spPr>
          <a:xfrm>
            <a:off x="3995640" y="1712880"/>
            <a:ext cx="4680000" cy="3876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ые ромашки будут лучше смотреться на чёрном фоне, который можно выполнить тушью, предварительно вычертив на листе рам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Объект 4" descr=""/>
          <p:cNvPicPr/>
          <p:nvPr/>
        </p:nvPicPr>
        <p:blipFill>
          <a:blip r:embed="rId1"/>
          <a:stretch/>
        </p:blipFill>
        <p:spPr>
          <a:xfrm>
            <a:off x="4203720" y="538200"/>
            <a:ext cx="4073400" cy="5627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ечаем местоположение будущих цве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Объект 4" descr=""/>
          <p:cNvPicPr/>
          <p:nvPr/>
        </p:nvPicPr>
        <p:blipFill>
          <a:blip r:embed="rId1"/>
          <a:stretch/>
        </p:blipFill>
        <p:spPr>
          <a:xfrm>
            <a:off x="3936960" y="272880"/>
            <a:ext cx="4388040" cy="5853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бражение цветка подсолнуха начитаем с сердцевины: рисуем большой жёлтый кружо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5092560" cy="3816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устой белой краской по сухому фону рисуем лепестки. Один мазок – один лепесток. Направление от края лепестка – к белой то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Объект 4" descr=""/>
          <p:cNvPicPr/>
          <p:nvPr/>
        </p:nvPicPr>
        <p:blipFill>
          <a:blip r:embed="rId1"/>
          <a:stretch/>
        </p:blipFill>
        <p:spPr>
          <a:xfrm>
            <a:off x="3936960" y="272880"/>
            <a:ext cx="4388040" cy="5853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ёным цветом лёгкими движениями подрисовываем к цветочным головкам стебельки. Обращаем внимание на то, что стебельки в нашей работе «не главное», они могут прятаться за цветочными головками. Добавляем узкие листо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Объект 4" descr=""/>
          <p:cNvPicPr/>
          <p:nvPr/>
        </p:nvPicPr>
        <p:blipFill>
          <a:blip r:embed="rId1"/>
          <a:stretch/>
        </p:blipFill>
        <p:spPr>
          <a:xfrm>
            <a:off x="3936960" y="272880"/>
            <a:ext cx="4388040" cy="5853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цветы ромашек подсохнут, можно смело добавить жёлтые серединки с охристой или коричневой опушкой из точе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Объект 4" descr=""/>
          <p:cNvPicPr/>
          <p:nvPr/>
        </p:nvPicPr>
        <p:blipFill>
          <a:blip r:embed="rId1"/>
          <a:stretch/>
        </p:blipFill>
        <p:spPr>
          <a:xfrm>
            <a:off x="3936960" y="272880"/>
            <a:ext cx="4388040" cy="5853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бавляем немного жёлтого цвета в листья и делаем синие прожилки на лепестках цветов. Ромашки гот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Объект 4" descr=""/>
          <p:cNvPicPr/>
          <p:nvPr/>
        </p:nvPicPr>
        <p:blipFill>
          <a:blip r:embed="rId1"/>
          <a:stretch/>
        </p:blipFill>
        <p:spPr>
          <a:xfrm>
            <a:off x="4157640" y="431640"/>
            <a:ext cx="3946680" cy="553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3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614600"/>
          </a:xfrm>
          <a:prstGeom prst="rect">
            <a:avLst/>
          </a:prstGeom>
          <a:ln w="0">
            <a:noFill/>
          </a:ln>
        </p:spPr>
      </p:pic>
      <p:pic>
        <p:nvPicPr>
          <p:cNvPr id="138" name="Объект 4" descr=""/>
          <p:cNvPicPr/>
          <p:nvPr/>
        </p:nvPicPr>
        <p:blipFill>
          <a:blip r:embed="rId2"/>
          <a:stretch/>
        </p:blipFill>
        <p:spPr>
          <a:xfrm>
            <a:off x="2700360" y="1600200"/>
            <a:ext cx="3600360" cy="4708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пригорке у пень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 тонких стебель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тонкий стебел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жит красный огон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Объект 4" descr=""/>
          <p:cNvPicPr/>
          <p:nvPr/>
        </p:nvPicPr>
        <p:blipFill>
          <a:blip r:embed="rId1"/>
          <a:stretch/>
        </p:blipFill>
        <p:spPr>
          <a:xfrm>
            <a:off x="4149720" y="512640"/>
            <a:ext cx="3962520" cy="537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веты землян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Объект 4" descr=""/>
          <p:cNvPicPr/>
          <p:nvPr/>
        </p:nvPicPr>
        <p:blipFill>
          <a:blip r:embed="rId1"/>
          <a:stretch/>
        </p:blipFill>
        <p:spPr>
          <a:xfrm>
            <a:off x="3803760" y="1295280"/>
            <a:ext cx="4871880" cy="3646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года землян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Объект 4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4830840" cy="3848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яем фон аналогично предыдущей рабо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Объект 4" descr=""/>
          <p:cNvPicPr/>
          <p:nvPr/>
        </p:nvPicPr>
        <p:blipFill>
          <a:blip r:embed="rId1"/>
          <a:stretch/>
        </p:blipFill>
        <p:spPr>
          <a:xfrm>
            <a:off x="3936960" y="272880"/>
            <a:ext cx="4388040" cy="5853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ным цветом в произвольном порядке изображаем продолговатые ягоды земляни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Объект 4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4389480" cy="585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пестки подсолнуха довольно тонкие, имеют вытянутую форму. Чтобы они не «заваливались» начинаем изображать верхний, нижний, правый и левы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3703680" y="1197000"/>
            <a:ext cx="521820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бавляем стебельки без листоч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Объект 4" descr=""/>
          <p:cNvPicPr/>
          <p:nvPr/>
        </p:nvPicPr>
        <p:blipFill>
          <a:blip r:embed="rId1"/>
          <a:stretch/>
        </p:blipFill>
        <p:spPr>
          <a:xfrm>
            <a:off x="4140360" y="320760"/>
            <a:ext cx="4032000" cy="583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0081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ый интерес у земляники представляют ее листочки – трехчастные с ребристыми краями. Сначала намечаем их лёгким контуром и проводим центральную прожилку. Затем мазками от внешнего края к центральной прожилке заполняем листья цветом, создавая ребристый край. Вспоминаем, что ягодки земляники имеют маленькие зелёные «короны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4081320" y="398520"/>
            <a:ext cx="4098960" cy="5602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ягодках земляники зернышки находятся снаружи плода, мы их изображаем жёлтыми точка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Объект 4" descr=""/>
          <p:cNvPicPr/>
          <p:nvPr/>
        </p:nvPicPr>
        <p:blipFill>
          <a:blip r:embed="rId1"/>
          <a:stretch/>
        </p:blipFill>
        <p:spPr>
          <a:xfrm>
            <a:off x="4361040" y="654120"/>
            <a:ext cx="3832200" cy="551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тем добавляем жёлтые прожилки на листь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Объект 4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3897000" cy="561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push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но, что кустики земляники цветут и плодоносят одновременно. Поэтому мы можем украсить нашу работу цветочком: вокруг белой точки изображаем пять круглых белых лепестков и жёлтую серединку. Не забываем синие прожилки  у цветка. Красочный декоративный кустик земляники го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Объект 4" descr=""/>
          <p:cNvPicPr/>
          <p:nvPr/>
        </p:nvPicPr>
        <p:blipFill>
          <a:blip r:embed="rId1"/>
          <a:stretch/>
        </p:blipFill>
        <p:spPr>
          <a:xfrm>
            <a:off x="4098960" y="341280"/>
            <a:ext cx="4064040" cy="5715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 вокруг нас многоцветный. Поэтому в первые лепестки можно добавить немного красного цвета, что придаст им оранжевый оттен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3689280" y="1268280"/>
            <a:ext cx="5265720" cy="36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лепестки жёлтого цвета подмешиваем немного зелёной кра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3670200" y="1197000"/>
            <a:ext cx="52912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 оранжевыми и салатовыми лепестками добавляем ещё жёлт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3654360" y="1257480"/>
            <a:ext cx="5238720" cy="368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ок подсолнуха покоится на толстой, массивной зелёной ножке, раскинув в стороны широкие листь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3641760" y="1125360"/>
            <a:ext cx="5337000" cy="38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300816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«созвучия» с цветком добавля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зелёные листья немного жёлтой кра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3486240" y="1125360"/>
            <a:ext cx="544824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9:07:01Z</dcterms:created>
  <dc:creator>Наталья Тренина</dc:creator>
  <dc:description/>
  <dc:language>en-US</dc:language>
  <cp:lastModifiedBy>uzer</cp:lastModifiedBy>
  <dcterms:modified xsi:type="dcterms:W3CDTF">2015-01-31T15:19:35Z</dcterms:modified>
  <cp:revision>60</cp:revision>
  <dc:subject/>
  <dc:title>Презентация PowerPoint</dc:title>
</cp:coreProperties>
</file>