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C90-BAB7-4A9D-B9C6-1FB50C68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76D-82C6-461B-8578-5EA47F33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6E3-6E14-4422-81E1-B0AF619A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F49-59F3-4AF2-A6A3-7B00655E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256-657B-4DFB-B06F-39733E1D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C26-CDF3-4496-BAE7-C06C36CB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22A-A844-4D88-A575-ADCD8DFF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5C9-8F39-4F8E-994B-58AA8FED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0E4-C9E8-49CF-9818-272D99E1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D69-6FAA-4AD1-9A74-A4F595A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0C0-481D-48F8-87F0-D7D68945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22D-2530-4123-98AE-884FFD8F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63D5-773D-4B4F-9095-E665081C0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kopilka-talantov.ru/files/uploads/skazka_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http://sunveter.ru/uploads/posts/2015-08/1438456599_3.png"/>
          <p:cNvPicPr/>
          <p:nvPr/>
        </p:nvPicPr>
        <p:blipFill>
          <a:blip r:embed="rId2"/>
          <a:stretch/>
        </p:blipFill>
        <p:spPr>
          <a:xfrm>
            <a:off x="1763640" y="4149720"/>
            <a:ext cx="1656000" cy="1739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1619280" y="4310640"/>
            <a:ext cx="172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Сказоч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ми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1590823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2T17:43:05Z</dcterms:created>
  <dc:creator>Лёлик</dc:creator>
  <dc:description/>
  <dc:language>en-US</dc:language>
  <cp:lastModifiedBy>Лёлик</cp:lastModifiedBy>
  <dcterms:modified xsi:type="dcterms:W3CDTF">2021-11-02T17:43:56Z</dcterms:modified>
  <cp:revision>1</cp:revision>
  <dc:subject/>
  <dc:title>Слайд 1</dc:title>
</cp:coreProperties>
</file>