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5C03-3995-412D-AAD3-FDA2F7631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DDA5-2AEF-4550-8B89-178E92EB5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883F-DD4E-4F39-B990-19102DE5F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DDB1-45C8-4AC6-9F42-203290F22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1ECF-8228-4F89-8FF4-5C60B229D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5E19-BD0A-4E47-94E1-C960F79BF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8611-485E-4AA1-8B48-9F2811293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E5CB-020B-4D56-AE33-F41B12646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9F5C-498D-478C-B73A-4207D207D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28D3-FA88-44A7-A116-D239BF72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7379-755A-42C7-B537-37E261709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E07C-61E2-4690-8325-4FE104D3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9BD7A-B5D0-4C6E-87D7-5A7175B505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data21.i.gallery.ru/albums/gallery/345785-442de-63801872-m750x740-u36a9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https://fs00.infourok.ru/images/doc/2/1422/hello_html_m170edb11.png"/>
          <p:cNvPicPr/>
          <p:nvPr/>
        </p:nvPicPr>
        <p:blipFill>
          <a:blip r:embed="rId2"/>
          <a:stretch/>
        </p:blipFill>
        <p:spPr>
          <a:xfrm>
            <a:off x="4067280" y="1844640"/>
            <a:ext cx="2089080" cy="18669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http://img1.liveinternet.ru/images/attach/c/2/69/537/69537682_02.png"/>
          <p:cNvPicPr/>
          <p:nvPr/>
        </p:nvPicPr>
        <p:blipFill>
          <a:blip r:embed="rId3"/>
          <a:stretch/>
        </p:blipFill>
        <p:spPr>
          <a:xfrm>
            <a:off x="971640" y="0"/>
            <a:ext cx="1774800" cy="1341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6" descr="http://abload.de/img/kurt-resimleri-temalklbkiw.png"/>
          <p:cNvPicPr/>
          <p:nvPr/>
        </p:nvPicPr>
        <p:blipFill>
          <a:blip r:embed="rId4"/>
          <a:stretch/>
        </p:blipFill>
        <p:spPr>
          <a:xfrm>
            <a:off x="-108000" y="3716280"/>
            <a:ext cx="2592360" cy="2592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6" descr="http://img-fotki.yandex.ru/get/6438/47407354.a09/0_10ba30_8fc4cc06_orig.png"/>
          <p:cNvPicPr/>
          <p:nvPr/>
        </p:nvPicPr>
        <p:blipFill>
          <a:blip r:embed="rId5"/>
          <a:stretch/>
        </p:blipFill>
        <p:spPr>
          <a:xfrm>
            <a:off x="2771640" y="4508640"/>
            <a:ext cx="2722680" cy="1701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9" descr="http://img0.liveinternet.ru/images/attach/c/2/69/416/69416224_22.png"/>
          <p:cNvPicPr/>
          <p:nvPr/>
        </p:nvPicPr>
        <p:blipFill>
          <a:blip r:embed="rId6"/>
          <a:srcRect l="0" t="0" r="7692" b="0"/>
          <a:stretch/>
        </p:blipFill>
        <p:spPr>
          <a:xfrm>
            <a:off x="6119640" y="0"/>
            <a:ext cx="30243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4" descr="http://3.bp.blogspot.com/-h82PnDOJVVY/URZgURYyrLI/AAAAAAAAthE/DpodTgdoBZs/s1600/clip-art-14.png"/>
          <p:cNvPicPr/>
          <p:nvPr/>
        </p:nvPicPr>
        <p:blipFill>
          <a:blip r:embed="rId7"/>
          <a:stretch/>
        </p:blipFill>
        <p:spPr>
          <a:xfrm>
            <a:off x="4932360" y="3933720"/>
            <a:ext cx="1371600" cy="2303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7" descr="http://1.bp.blogspot.com/-y0ykX3rTl3o/URZgVf5Ok1I/AAAAAAAAthc/A7Gf2zxLISQ/s1600/clip-art-8.png"/>
          <p:cNvPicPr/>
          <p:nvPr/>
        </p:nvPicPr>
        <p:blipFill>
          <a:blip r:embed="rId8"/>
          <a:stretch/>
        </p:blipFill>
        <p:spPr>
          <a:xfrm>
            <a:off x="1835280" y="2781360"/>
            <a:ext cx="187308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data21.i.gallery.ru/albums/gallery/345785-442de-63801872-m750x740-u36a9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https://fs00.infourok.ru/images/doc/2/1422/hello_html_m170edb11.png"/>
          <p:cNvPicPr/>
          <p:nvPr/>
        </p:nvPicPr>
        <p:blipFill>
          <a:blip r:embed="rId2"/>
          <a:stretch/>
        </p:blipFill>
        <p:spPr>
          <a:xfrm>
            <a:off x="4067280" y="1844640"/>
            <a:ext cx="2089080" cy="1866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http://img1.liveinternet.ru/images/attach/c/2/69/537/69537682_02.png"/>
          <p:cNvPicPr/>
          <p:nvPr/>
        </p:nvPicPr>
        <p:blipFill>
          <a:blip r:embed="rId3"/>
          <a:stretch/>
        </p:blipFill>
        <p:spPr>
          <a:xfrm>
            <a:off x="971640" y="0"/>
            <a:ext cx="1774800" cy="1341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" descr="http://abload.de/img/kurt-resimleri-temalklbkiw.png"/>
          <p:cNvPicPr/>
          <p:nvPr/>
        </p:nvPicPr>
        <p:blipFill>
          <a:blip r:embed="rId4"/>
          <a:stretch/>
        </p:blipFill>
        <p:spPr>
          <a:xfrm>
            <a:off x="-108000" y="3716280"/>
            <a:ext cx="2592360" cy="2592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9" descr="http://img0.liveinternet.ru/images/attach/c/2/69/416/69416224_22.png"/>
          <p:cNvPicPr/>
          <p:nvPr/>
        </p:nvPicPr>
        <p:blipFill>
          <a:blip r:embed="rId5"/>
          <a:srcRect l="0" t="0" r="7692" b="0"/>
          <a:stretch/>
        </p:blipFill>
        <p:spPr>
          <a:xfrm>
            <a:off x="6769080" y="1916280"/>
            <a:ext cx="2374920" cy="4941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4" descr="http://3.bp.blogspot.com/-h82PnDOJVVY/URZgURYyrLI/AAAAAAAAthE/DpodTgdoBZs/s1600/clip-art-14.png"/>
          <p:cNvPicPr/>
          <p:nvPr/>
        </p:nvPicPr>
        <p:blipFill>
          <a:blip r:embed="rId6"/>
          <a:stretch/>
        </p:blipFill>
        <p:spPr>
          <a:xfrm>
            <a:off x="4932360" y="3933720"/>
            <a:ext cx="1371600" cy="2303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7" descr="http://1.bp.blogspot.com/-y0ykX3rTl3o/URZgVf5Ok1I/AAAAAAAAthc/A7Gf2zxLISQ/s1600/clip-art-8.png"/>
          <p:cNvPicPr/>
          <p:nvPr/>
        </p:nvPicPr>
        <p:blipFill>
          <a:blip r:embed="rId7"/>
          <a:stretch/>
        </p:blipFill>
        <p:spPr>
          <a:xfrm>
            <a:off x="2124000" y="2492280"/>
            <a:ext cx="1871640" cy="2538360"/>
          </a:xfrm>
          <a:prstGeom prst="rect">
            <a:avLst/>
          </a:prstGeom>
          <a:ln w="0">
            <a:noFill/>
          </a:ln>
        </p:spPr>
      </p:pic>
      <p:pic>
        <p:nvPicPr>
          <p:cNvPr id="56" name="PT_CY_-_Penie_ptic_v_letnem_lesu_muzofon.tv.mp3" descr=""/>
          <p:cNvPicPr/>
          <p:nvPr/>
        </p:nvPicPr>
        <p:blipFill>
          <a:blip r:embed="rId8"/>
          <a:stretch/>
        </p:blipFill>
        <p:spPr>
          <a:xfrm>
            <a:off x="8459640" y="260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6" descr="http://img-fotki.yandex.ru/get/6438/47407354.a09/0_10ba30_8fc4cc06_orig.png"/>
          <p:cNvPicPr/>
          <p:nvPr/>
        </p:nvPicPr>
        <p:blipFill>
          <a:blip r:embed="rId9"/>
          <a:stretch/>
        </p:blipFill>
        <p:spPr>
          <a:xfrm>
            <a:off x="2771640" y="4508640"/>
            <a:ext cx="2722680" cy="17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239928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02T17:55:51Z</dcterms:created>
  <dc:creator>Лёлик</dc:creator>
  <dc:description/>
  <dc:language>en-US</dc:language>
  <cp:lastModifiedBy>Лёлик</cp:lastModifiedBy>
  <dcterms:modified xsi:type="dcterms:W3CDTF">2021-11-02T17:57:07Z</dcterms:modified>
  <cp:revision>1</cp:revision>
  <dc:subject/>
  <dc:title>Слайд 1</dc:title>
</cp:coreProperties>
</file>