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42-7B93-43EB-AF1B-B001E0D7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995-A475-4556-B5B9-C43B124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026-39B8-44CB-B916-7A18F5DF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F42-E027-4EEA-BDAE-08B480A6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4A9-9A6B-47EE-ABF0-AEB0D72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E51-1DB5-4773-B812-B875AF7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296-977E-4036-BD67-80A24794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EF4-1ACF-4905-AA73-49B7B4CB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2F4-3100-4E1E-9DC2-DE7F6C2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328-C57F-4777-A413-3A662DC9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A57-82E2-47F4-B783-4705405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F14-265D-4826-813D-C0C2B6F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68A-85E1-462B-8DC6-65ACE7871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4.bp.blogspot.com/_eN9PLmWeq5w/TI8rN_UL-DI/AAAAAAAABxY/TvpiRAUf8y4/s1600/10541e7720a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Documents and Settings\User\Рабочий стол\9447436.gif"/>
          <p:cNvPicPr/>
          <p:nvPr/>
        </p:nvPicPr>
        <p:blipFill>
          <a:blip r:embed="rId2"/>
          <a:stretch/>
        </p:blipFill>
        <p:spPr>
          <a:xfrm>
            <a:off x="2411280" y="3068640"/>
            <a:ext cx="36007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0" descr="http://wallpapers1920.ru/img/picture/Feb/12/c9f4218b36dfd74ba9fb98b44a136275/4.jpg"/>
          <p:cNvPicPr/>
          <p:nvPr/>
        </p:nvPicPr>
        <p:blipFill>
          <a:blip r:embed="rId3"/>
          <a:stretch/>
        </p:blipFill>
        <p:spPr>
          <a:xfrm>
            <a:off x="2195640" y="2421000"/>
            <a:ext cx="28810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6" descr="http://real-pictures.ru/img/articles/Feb/05/993c1ddc28c4c5a380fbaead4c939ab3/2.jpg"/>
          <p:cNvPicPr/>
          <p:nvPr/>
        </p:nvPicPr>
        <p:blipFill>
          <a:blip r:embed="rId4"/>
          <a:stretch/>
        </p:blipFill>
        <p:spPr>
          <a:xfrm>
            <a:off x="4932360" y="1125360"/>
            <a:ext cx="1943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4.bp.blogspot.com/_eN9PLmWeq5w/TI8rN_UL-DI/AAAAAAAABxY/TvpiRAUf8y4/s1600/10541e7720a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0" descr="http://wallpapers1920.ru/img/picture/Feb/12/c9f4218b36dfd74ba9fb98b44a136275/4.jpg"/>
          <p:cNvPicPr/>
          <p:nvPr/>
        </p:nvPicPr>
        <p:blipFill>
          <a:blip r:embed="rId2"/>
          <a:stretch/>
        </p:blipFill>
        <p:spPr>
          <a:xfrm>
            <a:off x="2195640" y="2421000"/>
            <a:ext cx="288108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6" descr="http://real-pictures.ru/img/articles/Feb/05/993c1ddc28c4c5a380fbaead4c939ab3/2.jpg"/>
          <p:cNvPicPr/>
          <p:nvPr/>
        </p:nvPicPr>
        <p:blipFill>
          <a:blip r:embed="rId3"/>
          <a:stretch/>
        </p:blipFill>
        <p:spPr>
          <a:xfrm>
            <a:off x="4932360" y="1125360"/>
            <a:ext cx="1943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7:44:12Z</dcterms:created>
  <dc:creator>Лёлик</dc:creator>
  <dc:description/>
  <dc:language>en-US</dc:language>
  <cp:lastModifiedBy>Лёлик</cp:lastModifiedBy>
  <dcterms:modified xsi:type="dcterms:W3CDTF">2021-11-02T17:56:36Z</dcterms:modified>
  <cp:revision>2</cp:revision>
  <dc:subject/>
  <dc:title>Слайд 1</dc:title>
</cp:coreProperties>
</file>