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0D7-C1CA-4337-A8C1-E901F71A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431-375A-474F-AA89-51CB162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514-6C6D-46FD-B8A3-7E798681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4BF-F58B-4D6A-9842-BA8B8C94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797-9093-4E89-9317-872BCE02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6AF-6453-4D7E-8DEC-8F56FE4E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03D-3DBB-492D-B5BC-5BCC17E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313-E40E-495B-BF75-4EE68D9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1DD-5979-4D2F-B315-A99D6D25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0C9-5FD8-4E5B-AF72-BB82598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818-FCD4-4B11-862C-7FD9D79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01C-1A13-42D3-82FA-F6849B7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D22E-F0AC-4EBF-8003-C824E4620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http://fssu.ru/zontozagon/5560"/>
          <p:cNvPicPr/>
          <p:nvPr/>
        </p:nvPicPr>
        <p:blipFill>
          <a:blip r:embed="rId1"/>
          <a:srcRect l="5669" t="9354" r="5503" b="7839"/>
          <a:stretch/>
        </p:blipFill>
        <p:spPr>
          <a:xfrm>
            <a:off x="250920" y="3860640"/>
            <a:ext cx="3713040" cy="244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http://www.maam.ru/upload/blogs/detsad-141393-1444109310.jpg"/>
          <p:cNvPicPr/>
          <p:nvPr/>
        </p:nvPicPr>
        <p:blipFill>
          <a:blip r:embed="rId2"/>
          <a:stretch/>
        </p:blipFill>
        <p:spPr>
          <a:xfrm>
            <a:off x="324000" y="333360"/>
            <a:ext cx="2592360" cy="2828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https://im0-tub-ru.yandex.net/i?id=9a4c59a0774b4a3b38297f4e19b56491-l&amp;n=13"/>
          <p:cNvPicPr/>
          <p:nvPr/>
        </p:nvPicPr>
        <p:blipFill>
          <a:blip r:embed="rId3"/>
          <a:srcRect l="0" t="5619" r="0" b="6434"/>
          <a:stretch/>
        </p:blipFill>
        <p:spPr>
          <a:xfrm>
            <a:off x="4284720" y="3645000"/>
            <a:ext cx="266364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s://im3-tub-ru.yandex.net/i?id=8c49252e54e2eaa01a509a4c3c0b5256-l&amp;n=13"/>
          <p:cNvPicPr/>
          <p:nvPr/>
        </p:nvPicPr>
        <p:blipFill>
          <a:blip r:embed="rId4"/>
          <a:stretch/>
        </p:blipFill>
        <p:spPr>
          <a:xfrm>
            <a:off x="3203640" y="333360"/>
            <a:ext cx="2663640" cy="292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maam.ru/upload/blogs/detsad-141393-1444109250.jpg"/>
          <p:cNvPicPr/>
          <p:nvPr/>
        </p:nvPicPr>
        <p:blipFill>
          <a:blip r:embed="rId5"/>
          <a:srcRect l="0" t="0" r="3705" b="0"/>
          <a:stretch/>
        </p:blipFill>
        <p:spPr>
          <a:xfrm>
            <a:off x="6084720" y="333360"/>
            <a:ext cx="266400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http://img0.liveinternet.ru/images/attach/c/2/69/416/69416224_22.png"/>
          <p:cNvPicPr/>
          <p:nvPr/>
        </p:nvPicPr>
        <p:blipFill>
          <a:blip r:embed="rId6"/>
          <a:srcRect l="0" t="0" r="7692" b="0"/>
          <a:stretch/>
        </p:blipFill>
        <p:spPr>
          <a:xfrm>
            <a:off x="7451640" y="3336840"/>
            <a:ext cx="1692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8:01:18Z</dcterms:created>
  <dc:creator>Лёлик</dc:creator>
  <dc:description/>
  <dc:language>en-US</dc:language>
  <cp:lastModifiedBy>Лёлик</cp:lastModifiedBy>
  <dcterms:modified xsi:type="dcterms:W3CDTF">2021-11-02T18:01:49Z</dcterms:modified>
  <cp:revision>1</cp:revision>
  <dc:subject/>
  <dc:title>Слайд 1</dc:title>
</cp:coreProperties>
</file>