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EAD-3DB1-493C-BFD3-C609C81C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723-881D-4EDD-AA0C-5E395EA0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8E5C-07A6-44B7-8807-C726B35A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6AE-29E5-4AEB-95BD-FFF28D10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9CD-FFA7-48CF-9EEB-D58A4746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8A8-15EF-4948-8710-A7C681FE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1CA-94EE-4BD3-B045-A62534CF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D7D-12C6-445E-AC2C-AD251992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186-0B07-40F6-A5BE-23186CEF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C24-3D17-4727-BEDA-A91B0C37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FEA-F6F3-4FCD-B39D-FC1E3A56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453-1233-418C-9C9B-8B76BBDF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D021-E13C-4DFB-AEDA-DFFA113CFA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http://img0.liveinternet.ru/images/attach/c/2/69/416/69416224_22.png"/>
          <p:cNvPicPr/>
          <p:nvPr/>
        </p:nvPicPr>
        <p:blipFill>
          <a:blip r:embed="rId1"/>
          <a:srcRect l="0" t="0" r="7669" b="0"/>
          <a:stretch/>
        </p:blipFill>
        <p:spPr>
          <a:xfrm>
            <a:off x="8172360" y="4835520"/>
            <a:ext cx="971640" cy="2022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www.playing-field.ru/img/2015/051917/3826665"/>
          <p:cNvPicPr/>
          <p:nvPr/>
        </p:nvPicPr>
        <p:blipFill>
          <a:blip r:embed="rId2"/>
          <a:srcRect l="0" t="3054" r="0" b="3848"/>
          <a:stretch/>
        </p:blipFill>
        <p:spPr>
          <a:xfrm>
            <a:off x="5651640" y="3573360"/>
            <a:ext cx="2385720" cy="3140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razvivaem.org/wp-content/uploads/2016/07/o2XF6hZT9u0.jpg"/>
          <p:cNvPicPr/>
          <p:nvPr/>
        </p:nvPicPr>
        <p:blipFill>
          <a:blip r:embed="rId3"/>
          <a:stretch/>
        </p:blipFill>
        <p:spPr>
          <a:xfrm>
            <a:off x="3059280" y="3573360"/>
            <a:ext cx="2376360" cy="309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moi-raskraski.ru/images/raskraski/skazki/kurochka-ryaba/raskraski-iz-skazki-kurochka-ryaba-5.jpg"/>
          <p:cNvPicPr/>
          <p:nvPr/>
        </p:nvPicPr>
        <p:blipFill>
          <a:blip r:embed="rId4"/>
          <a:srcRect l="0" t="1999" r="0" b="3999"/>
          <a:stretch/>
        </p:blipFill>
        <p:spPr>
          <a:xfrm>
            <a:off x="539640" y="3573360"/>
            <a:ext cx="2351160" cy="309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://doma-u-semena.ru/images/raskraski/7/30/5-51.jpg"/>
          <p:cNvPicPr/>
          <p:nvPr/>
        </p:nvPicPr>
        <p:blipFill>
          <a:blip r:embed="rId5"/>
          <a:stretch/>
        </p:blipFill>
        <p:spPr>
          <a:xfrm>
            <a:off x="826920" y="404640"/>
            <a:ext cx="2305080" cy="30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ttp://printonic.ru/uploads/images/2015/12/15/img_566fe54450d54.jpg"/>
          <p:cNvPicPr/>
          <p:nvPr/>
        </p:nvPicPr>
        <p:blipFill>
          <a:blip r:embed="rId6"/>
          <a:stretch/>
        </p:blipFill>
        <p:spPr>
          <a:xfrm>
            <a:off x="3564000" y="333360"/>
            <a:ext cx="2376360" cy="3141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http://picloads.ru/images/221464_kolobok-raskraska.jpg"/>
          <p:cNvPicPr/>
          <p:nvPr/>
        </p:nvPicPr>
        <p:blipFill>
          <a:blip r:embed="rId7"/>
          <a:srcRect l="0" t="0" r="0" b="3531"/>
          <a:stretch/>
        </p:blipFill>
        <p:spPr>
          <a:xfrm>
            <a:off x="6372360" y="404640"/>
            <a:ext cx="2376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2T17:58:21Z</dcterms:created>
  <dc:creator>Лёлик</dc:creator>
  <dc:description/>
  <dc:language>en-US</dc:language>
  <cp:lastModifiedBy>Лёлик</cp:lastModifiedBy>
  <dcterms:modified xsi:type="dcterms:W3CDTF">2021-11-02T18:04:45Z</dcterms:modified>
  <cp:revision>2</cp:revision>
  <dc:subject/>
  <dc:title>Слайд 1</dc:title>
</cp:coreProperties>
</file>