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AEA-60B5-4A6E-8F18-23B95000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B26-CA9C-41E0-A8CC-8F7D1BF2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DD1-55AB-45F0-B719-32670B03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F22-E689-4697-9726-52D8B8DF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776-7FBC-4E55-A6F0-2570ABF0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3DD-8A76-4190-A7D9-569A0BF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A6F-3048-465B-A54F-DB14DAC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4FF-CCB0-4C9A-BFD1-9DD27B27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AE5-3B8F-43E5-A9FD-E964C07E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D4F-5535-40E3-86B8-615510C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C17-6A48-4547-8C66-067BBB4B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EA5-AE95-4E63-8F79-43C4955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28B-8D03-4990-A62C-48A09599D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gindur.premiumcoding.com/wp-content/uploads/2014/03/gindur-post-image-4-color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9" descr="http://img0.liveinternet.ru/images/attach/c/2/69/416/69416224_22.png"/>
          <p:cNvPicPr/>
          <p:nvPr/>
        </p:nvPicPr>
        <p:blipFill>
          <a:blip r:embed="rId2"/>
          <a:srcRect l="0" t="0" r="7692" b="0"/>
          <a:stretch/>
        </p:blipFill>
        <p:spPr>
          <a:xfrm>
            <a:off x="6769080" y="1916280"/>
            <a:ext cx="2374920" cy="4941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3" descr="D:\Documents and Settings\User\Рабочий стол\16182940.gif"/>
          <p:cNvPicPr/>
          <p:nvPr/>
        </p:nvPicPr>
        <p:blipFill>
          <a:blip r:embed="rId3"/>
          <a:stretch/>
        </p:blipFill>
        <p:spPr>
          <a:xfrm>
            <a:off x="1403280" y="1989000"/>
            <a:ext cx="6012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7:49:57Z</dcterms:created>
  <dc:creator>Лёлик</dc:creator>
  <dc:description/>
  <dc:language>en-US</dc:language>
  <cp:lastModifiedBy>Лёлик</cp:lastModifiedBy>
  <dcterms:modified xsi:type="dcterms:W3CDTF">2021-11-02T18:02:11Z</dcterms:modified>
  <cp:revision>3</cp:revision>
  <dc:subject/>
  <dc:title>Слайд 1</dc:title>
</cp:coreProperties>
</file>