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2.gif" ContentType="image/gif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71D-9D3F-4332-AF9C-88571EB9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D18-3F5E-4506-8A9C-E1C1796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36B92-5C6D-4682-A035-BC57C61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6240E-3F71-464E-ADB4-ACB432BA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51DE3-AD3B-44C5-BC14-2C626C75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9F4E9-0801-4C95-9F37-E0004A06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7A87-19B1-4784-83DB-4886682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6EBC-A4C5-4E2E-9E65-F0842B2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8994F-5173-4556-AC4C-A31CB8A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486AB-730C-402E-9065-35A90CF2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13713-8E2E-4149-9073-38ADA568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8A8-8232-46F5-98C1-CDC53B12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572-F847-409A-A424-2222562A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F012-6B1B-416E-971C-D9E3B40E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5C13-6092-4202-B692-40FBC3D4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767D-8351-4F67-AFB9-E8C4B3E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CAB-A4CD-4E0F-9239-1EEB6F8A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B297-4810-44F8-9892-03592AF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EFD6-2F26-4282-8BB5-A6DBDB01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A616-1E53-40D8-B624-D3698A2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2A6-D28C-48D5-841F-5EE36256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0CE3-529D-4BDF-892A-31073DF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2B2-2B52-4C34-A872-963BB2F2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E292-258D-4220-BDF3-6DD51C3B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3AB-F1BB-4479-A9EC-BDE9652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4F63-2A88-45B5-A7B2-72B76125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452F-8C48-4113-BE25-F138F55B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E976-D6FF-4E20-BF08-036E04A8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B709-F1B1-4CF8-9CB2-A26F762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3E3D-D06E-4C0D-8061-6815A0E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99A0-99CA-4D06-9E39-4A75FB4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8C1-82DA-46E0-B1ED-EC0183A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C883-18B0-4A0E-BD6C-D68BB10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4223-9A5F-49AD-8978-CDD895C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7FC1-5E26-4B5E-8BC1-E9AEE097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EF99-AD3C-4DE5-BF9B-BF46F63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24B3-7173-4F60-9290-56783A9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09F6-E977-4BAE-B3D4-0C01CE4C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7B11-B376-4B09-B729-7A4C90A7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FA2D-0330-442A-89F9-323144EA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BB0C-A9F6-43D5-ADD2-8CDB0FB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EF21-9C8F-405A-838F-CB11842E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C5B-D5C5-4E8C-9D2C-DEC4C7DC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6CCC-D493-41CA-B262-1637C2A2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4B2B-9F7E-4815-AA5D-795DA6F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8585-2244-475D-9658-08F192B6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84D3-3645-485C-A305-46B56A3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E131-9A85-44FE-8BDB-18916C7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E578-58A0-4AF2-A337-5074AB2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BEB3-8787-4458-9291-D044E7F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F781-2C05-49D3-9E3F-3406FCA4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9B0A-AC87-40FC-834D-BB356F20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086E-E18A-449C-9C17-7A96C22A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F80-AB38-4BA2-A174-47B9AC1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88B5-C33C-4D12-B08D-40994540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EE51-CAF7-4539-989A-F452773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FEF22-05F7-43E4-B380-B4CF690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6B8E-A65F-4F20-A929-0667E03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AF4FA-3B17-411A-9EDE-9D8A154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0409-F639-4173-99CD-C380B03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CE131-6D5F-41CA-BFDA-D3760D0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15C2E-8870-4A04-9770-97DCEA5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046C-A849-481A-A776-B14B7559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2CA7-27F1-48CB-9746-98B75444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165-F1C2-41C5-835B-83CC6D09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0520-D0C3-417D-9AF3-098B3D08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4DF7-7B38-4834-B02B-9704D01D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08AB-7490-47BC-AFCC-224B9433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FE23-4921-4DD5-9B3D-81D9E8A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7CB3-1358-4CD2-B4C9-03B0B13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957F4-9E17-45C9-A4F9-953E0CFA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CF250-85DF-4F8C-97CF-2EF3DE5A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3B98-B6F4-440F-9E6D-217F500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04BA-F7EE-4A71-9E92-6CFDDB92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A89D-5EAB-49B2-8FC2-8B194A1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908-3DC5-4EF7-8711-835B185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5E0F-96BF-4466-A5DD-537AD1C3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9B84-AF56-4259-9CDB-45B963E5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B86A5-AACE-4E97-8ECD-9CBA4F2D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716F-6999-4643-B341-26912EFB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5A1E-5510-4BEA-8CE8-34C2CF8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FEE1-69FD-4B8C-ADC8-25AD625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E25AD-F496-409F-A87A-2BCE7027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148A-FBED-4B1B-99E5-50E5F19A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BB739-8E2F-4104-95A4-094E2949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354C5-5FB1-4623-9D01-33209A3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D2B-D549-40AC-B17B-B2241295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3774-6E80-42D9-8361-A89668C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6A0E-FD5B-4B42-9568-857FB2BE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5D611-90EF-47BB-ADA3-F6A67EE6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A0B1-CA21-4B77-8102-2E47329D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73B4B-879A-4FC0-8FF1-A026B76C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8DA7F-6FD7-48F8-876B-12B906FB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77D61-A751-443C-AE5D-EE110985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552E9-2FB5-455F-8451-BE4F82F2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3176B-BEB6-434C-828A-57E51B67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AD614-6D32-4A56-843A-514224A4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EBA-5A19-4F5F-BDF5-3A31E00B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36F2E-28C9-449A-8A0B-FCD6D5A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79A1-1F06-4552-9AF8-DBF83166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DE9E7-74DA-4769-9D73-B19CB87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8C63-4E6C-4A11-936B-E6D8950E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FB973-A072-43E7-A539-000DDBBC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29494-F7B3-4C70-8030-50CA510E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2C1BC-9906-4296-81DA-515BB35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C88D-1617-4BD8-B053-38602AD2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C7EB-609D-41D7-B9D5-FFBAF4F1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A9AC1-6FF0-44F5-8CE5-F57C9BB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867"/>
            </a:gs>
            <a:gs pos="50000">
              <a:srgbClr val="fef5ce"/>
            </a:gs>
            <a:gs pos="100000">
              <a:srgbClr val="ef98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808-1C29-4EC2-9F5D-75E5AD947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12C7-5E46-47B1-947F-017A40F2572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903-21F0-41A4-A26C-8CC17C82175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7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9FC3-5430-4CD1-B58D-57EBC401281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3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3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3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3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4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5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7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E8E8-270C-4ECA-B739-FFC33A42EF4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426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430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431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432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433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Oval 12"/>
                  <p:cNvSpPr/>
                  <p:nvPr/>
                </p:nvSpPr>
                <p:spPr>
                  <a:xfrm rot="16200000">
                    <a:off x="883008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16"/>
                  <p:cNvSpPr/>
                  <p:nvPr/>
                </p:nvSpPr>
                <p:spPr>
                  <a:xfrm rot="16200000">
                    <a:off x="8830080" y="199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17"/>
                  <p:cNvSpPr/>
                  <p:nvPr/>
                </p:nvSpPr>
                <p:spPr>
                  <a:xfrm rot="16200000">
                    <a:off x="8778600" y="1746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4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9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45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9" name="Freeform 46"/>
            <p:cNvSpPr/>
            <p:nvPr/>
          </p:nvSpPr>
          <p:spPr>
            <a:xfrm>
              <a:off x="7953480" y="4910760"/>
              <a:ext cx="1190520" cy="19375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7"/>
            <p:cNvSpPr/>
            <p:nvPr/>
          </p:nvSpPr>
          <p:spPr>
            <a:xfrm>
              <a:off x="7939080" y="4860000"/>
              <a:ext cx="1219320" cy="19976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8"/>
            <p:cNvSpPr/>
            <p:nvPr/>
          </p:nvSpPr>
          <p:spPr>
            <a:xfrm>
              <a:off x="7927920" y="2822040"/>
              <a:ext cx="1231920" cy="40323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9"/>
            <p:cNvSpPr/>
            <p:nvPr/>
          </p:nvSpPr>
          <p:spPr>
            <a:xfrm>
              <a:off x="8010360" y="3542040"/>
              <a:ext cx="979560" cy="21819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0"/>
            <p:cNvSpPr/>
            <p:nvPr/>
          </p:nvSpPr>
          <p:spPr>
            <a:xfrm>
              <a:off x="8244000" y="434160"/>
              <a:ext cx="914400" cy="5042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1"/>
            <p:cNvSpPr/>
            <p:nvPr/>
          </p:nvSpPr>
          <p:spPr>
            <a:xfrm>
              <a:off x="8250120" y="269640"/>
              <a:ext cx="909720" cy="3067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2"/>
            <p:cNvSpPr/>
            <p:nvPr/>
          </p:nvSpPr>
          <p:spPr>
            <a:xfrm>
              <a:off x="7943760" y="7560"/>
              <a:ext cx="576360" cy="3348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3"/>
            <p:cNvSpPr/>
            <p:nvPr/>
          </p:nvSpPr>
          <p:spPr>
            <a:xfrm>
              <a:off x="7943760" y="9000"/>
              <a:ext cx="300240" cy="334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5"/>
            <p:cNvSpPr/>
            <p:nvPr/>
          </p:nvSpPr>
          <p:spPr>
            <a:xfrm>
              <a:off x="7958160" y="623016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56"/>
            <p:cNvSpPr/>
            <p:nvPr/>
          </p:nvSpPr>
          <p:spPr>
            <a:xfrm rot="5400000">
              <a:off x="4327920" y="3319920"/>
              <a:ext cx="68500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6A51-FCBD-4978-B540-171866BF0C8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52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526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527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528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529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Oval 12"/>
                  <p:cNvSpPr/>
                  <p:nvPr/>
                </p:nvSpPr>
                <p:spPr>
                  <a:xfrm rot="16200000">
                    <a:off x="883008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16"/>
                  <p:cNvSpPr/>
                  <p:nvPr/>
                </p:nvSpPr>
                <p:spPr>
                  <a:xfrm rot="16200000">
                    <a:off x="8830080" y="199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17"/>
                  <p:cNvSpPr/>
                  <p:nvPr/>
                </p:nvSpPr>
                <p:spPr>
                  <a:xfrm rot="16200000">
                    <a:off x="8778600" y="1746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5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54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5" name="Freeform 46"/>
            <p:cNvSpPr/>
            <p:nvPr/>
          </p:nvSpPr>
          <p:spPr>
            <a:xfrm>
              <a:off x="7953480" y="4910760"/>
              <a:ext cx="1190520" cy="19375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7"/>
            <p:cNvSpPr/>
            <p:nvPr/>
          </p:nvSpPr>
          <p:spPr>
            <a:xfrm>
              <a:off x="7939080" y="4860000"/>
              <a:ext cx="1219320" cy="19976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8"/>
            <p:cNvSpPr/>
            <p:nvPr/>
          </p:nvSpPr>
          <p:spPr>
            <a:xfrm>
              <a:off x="7927920" y="2822040"/>
              <a:ext cx="1231920" cy="40323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8010360" y="3542040"/>
              <a:ext cx="979560" cy="21819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0"/>
            <p:cNvSpPr/>
            <p:nvPr/>
          </p:nvSpPr>
          <p:spPr>
            <a:xfrm>
              <a:off x="8244000" y="434160"/>
              <a:ext cx="914400" cy="5042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1"/>
            <p:cNvSpPr/>
            <p:nvPr/>
          </p:nvSpPr>
          <p:spPr>
            <a:xfrm>
              <a:off x="8250120" y="269640"/>
              <a:ext cx="909720" cy="3067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2"/>
            <p:cNvSpPr/>
            <p:nvPr/>
          </p:nvSpPr>
          <p:spPr>
            <a:xfrm>
              <a:off x="7943760" y="7560"/>
              <a:ext cx="576360" cy="3348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7943760" y="9000"/>
              <a:ext cx="300240" cy="334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5"/>
            <p:cNvSpPr/>
            <p:nvPr/>
          </p:nvSpPr>
          <p:spPr>
            <a:xfrm>
              <a:off x="7958160" y="623016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56"/>
            <p:cNvSpPr/>
            <p:nvPr/>
          </p:nvSpPr>
          <p:spPr>
            <a:xfrm rot="5400000">
              <a:off x="4327920" y="3319920"/>
              <a:ext cx="68500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376C-3A79-4977-B1CB-CDB1E3511A0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618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622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623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624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625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7" name="Oval 12"/>
                  <p:cNvSpPr/>
                  <p:nvPr/>
                </p:nvSpPr>
                <p:spPr>
                  <a:xfrm rot="16200000">
                    <a:off x="883008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Freeform 16"/>
                  <p:cNvSpPr/>
                  <p:nvPr/>
                </p:nvSpPr>
                <p:spPr>
                  <a:xfrm rot="16200000">
                    <a:off x="8830080" y="199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Freeform 17"/>
                  <p:cNvSpPr/>
                  <p:nvPr/>
                </p:nvSpPr>
                <p:spPr>
                  <a:xfrm rot="16200000">
                    <a:off x="8778600" y="1746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3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1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64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1" name="Freeform 46"/>
            <p:cNvSpPr/>
            <p:nvPr/>
          </p:nvSpPr>
          <p:spPr>
            <a:xfrm>
              <a:off x="7953480" y="4910760"/>
              <a:ext cx="1190520" cy="19375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7"/>
            <p:cNvSpPr/>
            <p:nvPr/>
          </p:nvSpPr>
          <p:spPr>
            <a:xfrm>
              <a:off x="7939080" y="4860000"/>
              <a:ext cx="1219320" cy="19976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8"/>
            <p:cNvSpPr/>
            <p:nvPr/>
          </p:nvSpPr>
          <p:spPr>
            <a:xfrm>
              <a:off x="7927920" y="2822040"/>
              <a:ext cx="1231920" cy="40323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9"/>
            <p:cNvSpPr/>
            <p:nvPr/>
          </p:nvSpPr>
          <p:spPr>
            <a:xfrm>
              <a:off x="8010360" y="3542040"/>
              <a:ext cx="979560" cy="21819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0"/>
            <p:cNvSpPr/>
            <p:nvPr/>
          </p:nvSpPr>
          <p:spPr>
            <a:xfrm>
              <a:off x="8244000" y="434160"/>
              <a:ext cx="914400" cy="5042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1"/>
            <p:cNvSpPr/>
            <p:nvPr/>
          </p:nvSpPr>
          <p:spPr>
            <a:xfrm>
              <a:off x="8250120" y="269640"/>
              <a:ext cx="909720" cy="3067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2"/>
            <p:cNvSpPr/>
            <p:nvPr/>
          </p:nvSpPr>
          <p:spPr>
            <a:xfrm>
              <a:off x="7943760" y="7560"/>
              <a:ext cx="576360" cy="3348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3"/>
            <p:cNvSpPr/>
            <p:nvPr/>
          </p:nvSpPr>
          <p:spPr>
            <a:xfrm>
              <a:off x="7943760" y="9000"/>
              <a:ext cx="300240" cy="334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"/>
            <p:cNvSpPr/>
            <p:nvPr/>
          </p:nvSpPr>
          <p:spPr>
            <a:xfrm>
              <a:off x="7958160" y="623016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56"/>
            <p:cNvSpPr/>
            <p:nvPr/>
          </p:nvSpPr>
          <p:spPr>
            <a:xfrm rot="5400000">
              <a:off x="4327920" y="3319920"/>
              <a:ext cx="68500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020-ADA3-4727-87DC-81ACDA2D60E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714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718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719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720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721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" name="Oval 12"/>
                  <p:cNvSpPr/>
                  <p:nvPr/>
                </p:nvSpPr>
                <p:spPr>
                  <a:xfrm rot="16200000">
                    <a:off x="883008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Freeform 16"/>
                  <p:cNvSpPr/>
                  <p:nvPr/>
                </p:nvSpPr>
                <p:spPr>
                  <a:xfrm rot="16200000">
                    <a:off x="8830080" y="199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Freeform 17"/>
                  <p:cNvSpPr/>
                  <p:nvPr/>
                </p:nvSpPr>
                <p:spPr>
                  <a:xfrm rot="16200000">
                    <a:off x="8778600" y="1746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2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7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73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57" name="Freeform 46"/>
            <p:cNvSpPr/>
            <p:nvPr/>
          </p:nvSpPr>
          <p:spPr>
            <a:xfrm>
              <a:off x="7953480" y="4910760"/>
              <a:ext cx="1190520" cy="19375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7"/>
            <p:cNvSpPr/>
            <p:nvPr/>
          </p:nvSpPr>
          <p:spPr>
            <a:xfrm>
              <a:off x="7939080" y="4860000"/>
              <a:ext cx="1219320" cy="19976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8"/>
            <p:cNvSpPr/>
            <p:nvPr/>
          </p:nvSpPr>
          <p:spPr>
            <a:xfrm>
              <a:off x="7927920" y="2822040"/>
              <a:ext cx="1231920" cy="40323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9"/>
            <p:cNvSpPr/>
            <p:nvPr/>
          </p:nvSpPr>
          <p:spPr>
            <a:xfrm>
              <a:off x="8010360" y="3542040"/>
              <a:ext cx="979560" cy="21819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0"/>
            <p:cNvSpPr/>
            <p:nvPr/>
          </p:nvSpPr>
          <p:spPr>
            <a:xfrm>
              <a:off x="8244000" y="434160"/>
              <a:ext cx="914400" cy="5042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1"/>
            <p:cNvSpPr/>
            <p:nvPr/>
          </p:nvSpPr>
          <p:spPr>
            <a:xfrm>
              <a:off x="8250120" y="269640"/>
              <a:ext cx="909720" cy="3067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2"/>
            <p:cNvSpPr/>
            <p:nvPr/>
          </p:nvSpPr>
          <p:spPr>
            <a:xfrm>
              <a:off x="7943760" y="7560"/>
              <a:ext cx="576360" cy="3348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3"/>
            <p:cNvSpPr/>
            <p:nvPr/>
          </p:nvSpPr>
          <p:spPr>
            <a:xfrm>
              <a:off x="7943760" y="9000"/>
              <a:ext cx="300240" cy="334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5"/>
            <p:cNvSpPr/>
            <p:nvPr/>
          </p:nvSpPr>
          <p:spPr>
            <a:xfrm>
              <a:off x="7958160" y="623016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56"/>
            <p:cNvSpPr/>
            <p:nvPr/>
          </p:nvSpPr>
          <p:spPr>
            <a:xfrm rot="5400000">
              <a:off x="4327920" y="3319920"/>
              <a:ext cx="68500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37B5-54C8-4422-A394-01DE467E473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63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 на тем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597a0"/>
                </a:solidFill>
                <a:latin typeface="Arial"/>
              </a:rPr>
              <a:t>«День Народного единст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597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597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597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97a0"/>
                </a:solidFill>
                <a:latin typeface="Arial"/>
              </a:rPr>
              <a:t>Подготовлен учителем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97a0"/>
                </a:solidFill>
                <a:latin typeface="Arial"/>
              </a:rPr>
              <a:t>Литвинова А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686800" y="18964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83808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Это был пример единения: представители разных сословий и разных религий объединились ради выживания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11" descr="990380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Праздник 4 ноября- День народного единства- был установлен в честь победы русского народа в 1612 году над поля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076960" y="5502240"/>
            <a:ext cx="106668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12" descr="Изображение 041"/>
          <p:cNvPicPr/>
          <p:nvPr/>
        </p:nvPicPr>
        <p:blipFill>
          <a:blip r:embed="rId1"/>
          <a:stretch/>
        </p:blipFill>
        <p:spPr>
          <a:xfrm>
            <a:off x="152280" y="304920"/>
            <a:ext cx="4191120" cy="38638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3" descr="Изображение 040"/>
          <p:cNvPicPr/>
          <p:nvPr/>
        </p:nvPicPr>
        <p:blipFill>
          <a:blip r:embed="rId2"/>
          <a:stretch/>
        </p:blipFill>
        <p:spPr>
          <a:xfrm>
            <a:off x="4419720" y="1676520"/>
            <a:ext cx="457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263520" y="456840"/>
            <a:ext cx="7386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ины народного ополчения под предводительством Кузьмы Минина и Дмитрия Пожарского освободили Москву от польских захватчиков, продемонстрировав образец героизма и сплоченности всего народа вне зависимости от происхождения, вероисповедания и положения в общест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1520" y="870120"/>
            <a:ext cx="381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5028840" y="122040"/>
            <a:ext cx="3352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В Москве 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Красной площ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героям Минину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Пожарск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постав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бронз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Bookman Old Style"/>
              </a:rPr>
              <a:t>пам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0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4565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День единства будем ря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Будем вместе навсег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се народност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дальних сёлах, город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13" descr="Изображение 039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ословицы о Родин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па та птица, которой свое гнездо не мил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одина - мать, умей за нее постоя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выросла сосна, там она и красн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ма и стены помога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чужой сторонушке рад своей воронушке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 без родины - соловей без пес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13" descr="rusflaga"/>
          <p:cNvPicPr/>
          <p:nvPr/>
        </p:nvPicPr>
        <p:blipFill>
          <a:blip r:embed="rId1"/>
          <a:stretch/>
        </p:blipFill>
        <p:spPr>
          <a:xfrm>
            <a:off x="4191120" y="1523880"/>
            <a:ext cx="4724280" cy="34099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0" descr="герб"/>
          <p:cNvPicPr/>
          <p:nvPr/>
        </p:nvPicPr>
        <p:blipFill>
          <a:blip r:embed="rId2"/>
          <a:stretch/>
        </p:blipFill>
        <p:spPr>
          <a:xfrm>
            <a:off x="304920" y="1295280"/>
            <a:ext cx="3689280" cy="441972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 txBox="1"/>
          <p:nvPr/>
        </p:nvSpPr>
        <p:spPr>
          <a:xfrm>
            <a:off x="533160" y="6095520"/>
            <a:ext cx="2286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28600" y="114300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ого числа  мы отмечаем праздник День народного единства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 ноябр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то воспользовался слабостью нашей страны и напал на Москву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ля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каком году произошло это событие? Какой это век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612 год, 17 в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 звали предводителя народного ополчения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зьма Мин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то возглавил народное ополчени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митрий Пожарск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было главной святыней Нижегородского ополчения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кона Казанской Божьей Матер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6966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813" name="Прямоугольник 8" descr=""/>
          <p:cNvPicPr/>
          <p:nvPr/>
        </p:nvPicPr>
        <p:blipFill>
          <a:blip r:embed="rId2"/>
          <a:stretch/>
        </p:blipFill>
        <p:spPr>
          <a:xfrm>
            <a:off x="-139680" y="6480"/>
            <a:ext cx="3797280" cy="12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477120" y="837720"/>
            <a:ext cx="266688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Люблю тебя, моя Россия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яркий свет твоих очей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ум, за подвиги святые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голос звонкий, как руч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7238880" y="5272920"/>
            <a:ext cx="1067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5" descr="Изображение 038"/>
          <p:cNvPicPr/>
          <p:nvPr/>
        </p:nvPicPr>
        <p:blipFill>
          <a:blip r:embed="rId1"/>
          <a:stretch/>
        </p:blipFill>
        <p:spPr>
          <a:xfrm>
            <a:off x="152280" y="380880"/>
            <a:ext cx="64008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, по вашему мнению, означает «народное единство»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та 4-е ноября выбрана в связи с одним важным историческим событием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8" name="Солнце 2"/>
          <p:cNvSpPr/>
          <p:nvPr/>
        </p:nvSpPr>
        <p:spPr>
          <a:xfrm>
            <a:off x="4343400" y="3276720"/>
            <a:ext cx="380880" cy="304560"/>
          </a:xfrm>
          <a:prstGeom prst="sun">
            <a:avLst>
              <a:gd name="adj" fmla="val 25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Солнце 3"/>
          <p:cNvSpPr/>
          <p:nvPr/>
        </p:nvSpPr>
        <p:spPr>
          <a:xfrm>
            <a:off x="3124080" y="3276720"/>
            <a:ext cx="381240" cy="304560"/>
          </a:xfrm>
          <a:prstGeom prst="sun">
            <a:avLst>
              <a:gd name="adj" fmla="val 25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Солнце 4"/>
          <p:cNvSpPr/>
          <p:nvPr/>
        </p:nvSpPr>
        <p:spPr>
          <a:xfrm>
            <a:off x="3733920" y="3276720"/>
            <a:ext cx="380880" cy="304560"/>
          </a:xfrm>
          <a:prstGeom prst="sun">
            <a:avLst>
              <a:gd name="adj" fmla="val 25000"/>
            </a:avLst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181480" y="9140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Изменники бояре провозгласили главой русского государства польского королевича Владис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8381520" y="3795480"/>
            <a:ext cx="38124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11" descr="Изображение 042"/>
          <p:cNvPicPr/>
          <p:nvPr/>
        </p:nvPicPr>
        <p:blipFill>
          <a:blip r:embed="rId1"/>
          <a:stretch/>
        </p:blipFill>
        <p:spPr>
          <a:xfrm>
            <a:off x="609480" y="304920"/>
            <a:ext cx="4595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62520" y="914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Никогда русское государство не было так близко к распаду , как в период Смутного времени,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 почти 400 лет наза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228600" y="3863880"/>
            <a:ext cx="457200" cy="15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2" descr="Изображение 039"/>
          <p:cNvPicPr/>
          <p:nvPr/>
        </p:nvPicPr>
        <p:blipFill>
          <a:blip r:embed="rId1"/>
          <a:stretch/>
        </p:blipFill>
        <p:spPr>
          <a:xfrm>
            <a:off x="304920" y="533520"/>
            <a:ext cx="3587760" cy="3733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9" descr="241-1"/>
          <p:cNvPicPr/>
          <p:nvPr/>
        </p:nvPicPr>
        <p:blipFill>
          <a:blip r:embed="rId2"/>
          <a:stretch/>
        </p:blipFill>
        <p:spPr>
          <a:xfrm>
            <a:off x="4343400" y="31240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62160" y="3049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Народ начал войну против поляков, которую возглавил староста из Нижнего Новгорода Козьма Минин  и князь Дмитрий Пожар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380520" y="3232440"/>
            <a:ext cx="3049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4" descr="990382"/>
          <p:cNvPicPr/>
          <p:nvPr/>
        </p:nvPicPr>
        <p:blipFill>
          <a:blip r:embed="rId1"/>
          <a:stretch/>
        </p:blipFill>
        <p:spPr>
          <a:xfrm>
            <a:off x="3962520" y="2590920"/>
            <a:ext cx="5181480" cy="40449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3" descr="Изображение 044"/>
          <p:cNvPicPr/>
          <p:nvPr/>
        </p:nvPicPr>
        <p:blipFill>
          <a:blip r:embed="rId2"/>
          <a:stretch/>
        </p:blipFill>
        <p:spPr>
          <a:xfrm>
            <a:off x="228600" y="228600"/>
            <a:ext cx="3521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1a18"/>
                </a:solidFill>
                <a:latin typeface="Arial"/>
              </a:rPr>
              <a:t>Кузьма Минин и Дмитрий Пожарски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833" name="Picture 3" descr="k_minin"/>
          <p:cNvPicPr/>
          <p:nvPr/>
        </p:nvPicPr>
        <p:blipFill>
          <a:blip r:embed="rId1"/>
          <a:stretch/>
        </p:blipFill>
        <p:spPr>
          <a:xfrm>
            <a:off x="120600" y="1676520"/>
            <a:ext cx="3759120" cy="41828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52b"/>
          <p:cNvPicPr/>
          <p:nvPr/>
        </p:nvPicPr>
        <p:blipFill>
          <a:blip r:embed="rId2"/>
          <a:stretch/>
        </p:blipFill>
        <p:spPr>
          <a:xfrm>
            <a:off x="4191120" y="1676520"/>
            <a:ext cx="3558960" cy="41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2c0a"/>
                </a:solidFill>
                <a:latin typeface="Arial"/>
              </a:rPr>
              <a:t>Минин и Пожа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6002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сдали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77</dc:creator>
  <dc:description/>
  <dc:language>en-US</dc:language>
  <cp:lastModifiedBy>Анна</cp:lastModifiedBy>
  <dcterms:modified xsi:type="dcterms:W3CDTF">2021-11-02T18:48:5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240000000000010243100207f6000400038000</vt:lpwstr>
  </property>
  <property fmtid="{D5CDD505-2E9C-101B-9397-08002B2CF9AE}" pid="3" name="Version">
    <vt:r8>1</vt:r8>
  </property>
</Properties>
</file>