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0B0-4807-4D66-8337-99D38833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FB5-447D-4D73-AA02-B6D88DC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71D-7703-4AFE-9C39-21FE5B47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B0F-2A47-4C63-9A04-8D8B4009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AC7-B951-49E1-BF41-011B0176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725-BC3C-4D15-8315-144D8B5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86BA-FB2C-4FE7-B2AF-28EFC32F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0568-612E-42DC-B4C3-F226AA0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81E2-2AE6-41F9-A5A4-8DC50A3E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663B-1D1A-4EAF-B7CF-EE1242A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D3FC-5938-4495-9986-286AE87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EC9-0C3E-4D0E-8545-D7169FB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889-DA71-4345-ACE6-4D9B1A3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7F5-D514-45B6-A8C8-A68A634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A6CF-B218-470E-A5C5-3925E0D8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62C4-E99D-4523-93E7-E72FE4CC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6AB9-B93E-48EB-91AD-6116CC34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3218-6937-4477-8C88-86473744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C63B-74FC-4EB5-9B96-8FBC82A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713E-C372-40DF-92E4-F827C8D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8D29-76D8-4D68-967D-3E2A0B2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D918-456A-4952-87C1-C4CC928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C3F-A90B-4023-B479-4A030ECE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493C-CC2C-488F-8AB1-E278FF4A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3CBB-43E3-424D-A92C-9CB776E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8CB0-0801-4460-BE2C-EAF0967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CEF3-EABB-4F22-89D3-A1CEAAD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323E-6D9A-4DCB-B270-E3E6E8C9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058A-D841-4E95-BBE7-63CF9E5C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2929-BB6E-4649-A616-9034C8A4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1037-7635-4D34-992B-2A0C3E22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A8B2-3073-4B04-B8E9-4536D62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4823-CC56-4559-B087-F3D38A4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9C9-1A71-4C29-AE2E-0B40BCC4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23D4-E418-469F-A25A-A61DEFF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8E82-0BC4-41AB-9E63-B597499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97D6-B3D1-492E-B815-0C08F19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9690-EC5D-4BCD-9CD3-8EA5C73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C348-B4C0-4B6D-9B1F-05C7E99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33A3-8BE0-43D7-9F70-A5AFE53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D93E-CECB-4180-9D23-8DD09B7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D96F-3C7B-4DC7-9F01-7D20083C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AF56-574F-411B-9AD1-06FD08BB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9889-61F3-45E7-B20B-B479E91B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BFA-1567-499D-904C-34E6BAB6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E99B-D3DC-4CDA-A7C1-47AEB52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DAAF-F8AB-4ED1-8B68-2BE231F3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E1BB-824C-4084-9D2B-AB8F4CA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B166-04BD-40E2-87D5-72CC9A18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6368-68B2-45C2-81CC-1DCA735C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EB8A-FB2C-4E67-8AFD-83378CE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C579-B3F4-454E-A035-673FC3A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E4B7-E987-4230-8A37-8EFF71B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1BE1-88B7-42E8-AA14-BAE6AA72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1081-19DF-470E-AB5C-F716C6F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511-C981-484D-99B0-ED6A1FF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F8C6-292A-43F9-BB36-350E7F27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767-AEA8-4EE8-B7FD-F5478FE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B0F-E0F0-47DD-99CC-4B1417C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E9C-54C6-4B98-85D9-40DA555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EA7-7F96-41BA-BA48-A4C2799247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2015-F1D7-4403-ADE7-83AE95A3AFD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9886-AB0C-465B-B6B1-58BBBC1DCF2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1D2-7AD1-4727-8547-B1181F19D5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41D3-6790-4D71-8A10-E85445B77C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571400" y="5072040"/>
            <a:ext cx="7057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сшее образование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30 ле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786040" y="1428840"/>
            <a:ext cx="56008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манова Светлана Эдуардов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295720" cy="314316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714240" y="357120"/>
            <a:ext cx="77724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редняя общеобразовательная школа №2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уровневой дифференциации: </a:t>
            </a: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 </a:t>
            </a:r>
            <a:br>
              <a:rPr sz="29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4384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ет познавательные интересы у учащихс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яет перегрузку програм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каждого учащегося в меру его сил и способнос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психологический комфорт в учеб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порных конспектов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уровневые задания и тесты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и действиям при ЧС, угрозе терроризм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2" descr="C:\Users\USER\Desktop\Фото для аттестации\20171004_133439.jpg"/>
          <p:cNvPicPr/>
          <p:nvPr/>
        </p:nvPicPr>
        <p:blipFill>
          <a:blip r:embed="rId1"/>
          <a:stretch/>
        </p:blipFill>
        <p:spPr>
          <a:xfrm>
            <a:off x="4929120" y="4500720"/>
            <a:ext cx="342900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гровая технология: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004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и формирование творческой индивидуальности человек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группа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редметные игры, как манипуляции с предметами, например, с использованием дорожных знаков, регулировочного жезла, светофора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группа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игры творческие, сюжетно-ролевые. На уроках используются интеллектуальные игры: «Счастливый случай», «Что? Где? Когда?», «Спасатели».Счастливыйслучай\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gra_po_pravilam_dorozhnogo_dvizheniya.doc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группа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идактические игры: кроссворды, викторины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оломки, ребусы, шарады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группа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ельные, трудовые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ковые, конструкторские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ательные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, например, игра-путешествие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группа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игры-упражнения, игры-треннинги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ехнология «критического мышления»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6760" y="1214280"/>
            <a:ext cx="85726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- вызо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бота индивидуально, в парах и группах. Учащиеся получают информацию, выслушивают, записывают, обсуждают е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списка известной информац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озговая атака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ые и неверные утвержд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туационные задач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осмысление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еся ищут ответы на поставленные вопросы, работают с новой информацией (фильм, лекция, материал учебника)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комство с новой информацией (текст, фильм) и дальнейшее обсуждени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евая игр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сун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-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еся анализируют полученную информацию, соотносят ее с уже знакомой им и, используя знания, полученные на стадии осмысления, творчески перерабатывают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различных видов дискуссий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исание эсс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ие задания: загадки, кроссворд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5480" y="12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7" name="Picture 8" descr="j0284916"/>
          <p:cNvPicPr/>
          <p:nvPr/>
        </p:nvPicPr>
        <p:blipFill>
          <a:blip r:embed="rId1"/>
          <a:stretch/>
        </p:blipFill>
        <p:spPr>
          <a:xfrm>
            <a:off x="2971800" y="252396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15832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х педагогических технологий в процессе обучения ОБЖ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Picture 183" descr="C:\Users\Администратор\Desktop\еенр.jpg"/>
          <p:cNvPicPr/>
          <p:nvPr/>
        </p:nvPicPr>
        <p:blipFill>
          <a:blip r:embed="rId1"/>
          <a:stretch/>
        </p:blipFill>
        <p:spPr>
          <a:xfrm>
            <a:off x="3143160" y="5143680"/>
            <a:ext cx="22147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Содержимое 5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515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8364600" cy="798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2876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и условий формирования ключевых  компетенций при использовании новых образовательных технологи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школьный курс ОБЖ и определить необходимые с точки зрения формирования умений применять образовательные технологи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творческого потенциала обучающихся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коммуникабельности, умения работать в команд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тимул к самостоятельному приобретению зна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ционно-коммуникационные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и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ИКТ)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28480"/>
            <a:ext cx="83296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-контроль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-тест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-лекция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-задание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(Excel, Word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est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ы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(Word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 (Excel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 работы (Word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работы (Word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фрагменты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https://yandex.ru/video/preview/?text=чернобыль%20документальный%20фильм%20смотреть%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оклип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клеты, памятки, открытки - информационный материал (Word, Publisher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исследовательская технология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6760" y="114300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еятельности, максимально приближенные к реальным для формирования качеств человека, позволяющих ему быть востребованным и успешным в современном обществе, а именно: компетентности решения проблем, коммуникативной и информационной  культур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 тем и разделов, нуждающихся в более широком изучении, разработка уроков с применением  методов исследовательского проектировани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структуру учебного  материала тематических модулей, применяемых  в рамках преподавания предмета  ОБЖ, осуществляемых через использование проектно – исследовательской деятельности и  направленных на более углубленное изучение определенных тем и разделов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Picture 4" descr="20160514_173814"/>
          <p:cNvPicPr/>
          <p:nvPr/>
        </p:nvPicPr>
        <p:blipFill>
          <a:blip r:embed="rId1"/>
          <a:stretch/>
        </p:blipFill>
        <p:spPr>
          <a:xfrm>
            <a:off x="7143840" y="3714840"/>
            <a:ext cx="16365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ы учебных модулей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воинской славы Росси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питание!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лкоголь и детская подростковая среда». </a:t>
            </a:r>
            <a:r>
              <a:rPr b="1" lang="ru-RU" sz="2600" spc="-1" strike="noStrike">
                <a:solidFill>
                  <a:srgbClr val="0719c3"/>
                </a:solidFill>
                <a:latin typeface="Times New Roman"/>
                <a:ea typeface="Times New Roman"/>
              </a:rPr>
              <a:t>Исследовательская работа.</a:t>
            </a:r>
            <a:r>
              <a:rPr b="1" lang="en-US" sz="2600" spc="-1" strike="noStrike">
                <a:solidFill>
                  <a:srgbClr val="0719c3"/>
                </a:solidFill>
                <a:latin typeface="Times New Roman"/>
                <a:ea typeface="Times New Roman"/>
              </a:rPr>
              <a:t>docx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е все возрасты покорны» </a:t>
            </a:r>
            <a:r>
              <a:rPr b="1" lang="ru-RU" sz="2600" spc="-1" strike="noStrike">
                <a:solidFill>
                  <a:srgbClr val="0719c3"/>
                </a:solidFill>
                <a:latin typeface="Times New Roman"/>
                <a:ea typeface="Times New Roman"/>
              </a:rPr>
              <a:t>Проект.</a:t>
            </a:r>
            <a:r>
              <a:rPr b="1" lang="en-US" sz="2600" spc="-1" strike="noStrike">
                <a:solidFill>
                  <a:srgbClr val="0719c3"/>
                </a:solidFill>
                <a:latin typeface="Times New Roman"/>
                <a:ea typeface="Times New Roman"/>
              </a:rPr>
              <a:t>docx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зада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600" spc="-1" strike="noStrike">
                <a:solidFill>
                  <a:srgbClr val="0719c3"/>
                </a:solidFill>
                <a:latin typeface="Times New Roman"/>
                <a:ea typeface="Times New Roman"/>
              </a:rPr>
              <a:t>буклет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ы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14888" t="0" r="12354" b="0"/>
          <a:stretch/>
        </p:blipFill>
        <p:spPr>
          <a:xfrm>
            <a:off x="5286240" y="3714840"/>
            <a:ext cx="3143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ехнология интегрирования учебных дисциплин:</a:t>
            </a:r>
            <a:br>
              <a:rPr sz="36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14200" y="12142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ю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й технологии является интеграция содержания образования; внутрипредметная и межпредметная интеграция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урока решаются следующие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ется научный стиль мышления учащихся, формируется комплексный подход к учебным предметам, повышается качество знаний учащихся, развиваются их творческие возможности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 межпредметную интеграцию, например, на следующих уроках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Ж  и географии по теме: «Автономное существование в природе»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Ж и обществознании «Терроризм – сущность и угрозы безопасности личности и общества»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Ж и биологии по темам «Правильное питание», «Основы здорового образа жизни»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Ж и физической культуре по теме «Значение двигательной активности и физической культуры для здоровья человека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доровьесберегающая технология: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 для глаз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осанкой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ие в кабинет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безопасност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оказания первой помощ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минутки, динамические паузы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на стадионе, в спортивном зал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и по действиям при ЧС, угрозе терроризм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2T11:39:59Z</dcterms:created>
  <dc:creator>USER</dc:creator>
  <dc:description/>
  <dc:language>en-US</dc:language>
  <cp:lastModifiedBy>USER</cp:lastModifiedBy>
  <dcterms:modified xsi:type="dcterms:W3CDTF">2021-11-02T15:51:56Z</dcterms:modified>
  <cp:revision>31</cp:revision>
  <dc:subject/>
  <dc:title>Османова Светлана Эдуардовна</dc:title>
</cp:coreProperties>
</file>