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10234613" cy="7102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0234800" cy="71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341160" y="533160"/>
            <a:ext cx="3551400" cy="266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79708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20AD-39A8-439C-9D7C-820F30772938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4622-7A11-4732-BF88-3BD6A6626D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82F4-95EF-4DD3-B94A-AA21ECEBB4EE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D7C9-09FF-4014-AEC2-80196E1D5BC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914D-9692-4609-88A9-0905F5D6C8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53C2-6B78-4DE5-90FC-914C8CD88CFA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452-A9E8-4798-9AC4-61F4773AE5F5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2055-9F90-4B93-A0DA-6F8D199F2AED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7D4-2E00-46F8-837A-F71433C8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E41-BB7F-4967-BB8E-65426B2A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1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236-8C4E-4BC3-822C-1DEB8AA5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2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4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2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4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574-89CE-4EDB-A9C6-C0359B63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8570-7A3A-420A-92F4-4D29245B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0397-CE7D-45D8-ACC5-6863231A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A923-4B25-4141-8D77-8FF4E077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995F-740D-43DB-BEDC-F101652D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7E23-B488-48C5-B796-2E2E56EA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A8BD-4B43-4BC4-9CD4-224AF892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AF92-B4FF-4ADB-A132-66A0CC1B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B79-5F09-4A29-8F1D-A6E4C161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3F4F-A95D-4E94-A27A-E15E9FD2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C4C3-FEFE-4F98-A5BA-F0E578F7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5E37-4F8E-4A09-BBDF-530C1369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497A-7F97-4BA8-9D12-C7AEB7F2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714E-A861-4601-AEDE-252CF3FF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380-0C55-4815-A918-89614C3B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688-BFE2-4B73-BA4E-65B22463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E75-BAA1-4BB4-9E8C-391870DD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246-10B0-4EBF-A49B-36C25609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FC7-E1EF-406F-9BBA-CA06180F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1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D68-D4D3-48A5-9B39-EA753D4C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DE5-59CA-4B0D-833B-FCE1F3E5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нко К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DE96-7B3F-41AF-803A-BD1CC2C6E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нко К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BF6E-C077-4222-8BB9-0F088B338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26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Решение задач высокого уровня сложности</a:t>
            </a:r>
            <a:br>
              <a:rPr sz="3600"/>
            </a:br>
            <a:br>
              <a:rPr sz="3200"/>
            </a:b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00720" y="3645000"/>
            <a:ext cx="464328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 Black"/>
              </a:rPr>
              <a:t>Мастер-класс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 Black"/>
              </a:rPr>
              <a:t>учителя физики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 Black"/>
              </a:rPr>
              <a:t>МБОУ Красногорской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 Black"/>
              </a:rPr>
              <a:t>СОШ №2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 Black"/>
              </a:rPr>
              <a:t>Лукьяненко Л .В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071720" y="1484280"/>
            <a:ext cx="7207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7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дготовка к ЕГЭ по физ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486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8  (демовариант -21г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47280" y="1125360"/>
            <a:ext cx="68835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калориметре находятся в тепловом равновесии вода и лёд. После опускания в калориметр болта, имеющего массу 165 г и температуру –40 °С, 20% воды превратилось в лёд. Удельная теплоёмкость материала болта равна 500 Дж/(кг · К). Какая масса воды первоначально находилась в калориметре? Теплоёмкостью калориметра пренебречь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как вода и лёд находятся в тепловом равновесии, то и до опускания болта, и после его нагревания температура в сосуде t0 = 0 °С. Согласно уравнению теплового баланса количество теплоты, выделившееся при замерзании воды, было затрачено на нагревание болта: 0,2m  r = cm1(t0_ - t) , где m — масса воды в сосуде, m1 — масса болта, с — удельная теплоёмкость болта, r — удельная теплота плавления льда, t — начальная температура болта. Получим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0,0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г.                     Ответ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0,0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г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609120"/>
            <a:ext cx="763128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9 (демовариант-21г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15640" y="1052280"/>
            <a:ext cx="73422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весомый стержень АВ с двумя малыми грузиками массами m1 = 200 г и m2 = 100 г, расположенными в точках C и B соответственно, шарнирно закреплён в точке А. Груз массой M = 100 г подвешен к невесомому блоку за невесомую и нерастяжимую нить, другой конец которой соединён с нижним концом стержня, как показано на рисунке. Вся система находится в равновесии, если стержень отклонён от вертикали на угол 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= 30° , а нить составляет угол с вертикалью, равный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= 30° . Расстояние АС = b = 25 см. Определите длину l стержня АВ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делайте рисунок с указанием сил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йствующих на груз M и стержень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6012000" y="4114800"/>
            <a:ext cx="2038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4716360" y="3284640"/>
            <a:ext cx="3722760" cy="28083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971640" y="33336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Систему отсчёта, связанную с Землёй, считаем инерциальной. Введём декартову систему координат хОу, как показано на рисунке. Поскольку груз находится в равновесии, согласно второму закону Ньютона T_1 - Mg = 0 (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На стержень с грузами m1 и m2 действуют силы m_1g и m_2g, а также сила натяжения нити Т. Поскольку нить невесома, то T_1 = T_2 =T. Кроме того, на стержень действует сила F со стороны шарнира. Запишем условие равенства нулю суммы моментов этих сил относительно оси вращения, проходящей через точку А — точку шарнирного закрепления стержн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qbsinα + m2qlsinα  -T AD =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ая систему уравнений (1) и (2), с учётом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=l si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ϕ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+β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олучи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6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3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дача №30 (демовариант – 21г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вертикальном цилиндре, закрытом лёгким поршнем, находится бензол (С6H6) при температуре кипен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t = 80 °C. При сообщении бензолу некоторого количества теплоты часть его превращается в пар, который при изобарном расширении совершает работу, поднимая поршень. Удельная теплота парообразования бензола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L = 396·103 Дж/кг, его молярная масса M = 78·10−3 кг/моль. Какая часть подводимого к бензолу количества теплоты идёт на увеличение внутренней энергии системы? Объёмом жидкого бензола и трением между поршнем и цилиндром пренебречь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98184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ение  задачи №3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03280" y="981000"/>
            <a:ext cx="741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стояние идеального газа описывается уравнение Менделеева — Клапейрона pV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mR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M . При кипении масса пара увеличивается, температура пара равна температуре кипения и остаётся постоянной пока весь бензол не выкипит, давление по условию также постоянно. Значит, выполняется соотношение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p V=  R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M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 передаче газу теплоты Q испаряется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m =  Q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L  бензола. Найдём работу, которую совершает пар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A=p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V= R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∆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M = RTQ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/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по первому началу термодинамики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U = Q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A = Q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0,095Q = 0,905Q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величение внутренней энергии составляет 90,5% от подводимого количества теплоты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вет: 90,5%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554364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Объект 3" descr=""/>
          <p:cNvPicPr/>
          <p:nvPr/>
        </p:nvPicPr>
        <p:blipFill>
          <a:blip r:embed="rId1"/>
          <a:stretch/>
        </p:blipFill>
        <p:spPr>
          <a:xfrm>
            <a:off x="1727280" y="609480"/>
            <a:ext cx="56894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1619280" y="134136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жняя грань BC прозрачного клина посеребрена и представляет собой плоское зеркало. Угол при основании клин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=60°   . Луч света падает из воздуха на клин перпендикулярно грани AC, преломляется и выходит в воздух через другую грань под углом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ϒ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=45°    к её нормали. Определите показатель преломления материала клина. Сделайте рисунок, поясняющий ход луча в к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2 (ЕГЭ -2020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5" descr=""/>
          <p:cNvPicPr/>
          <p:nvPr/>
        </p:nvPicPr>
        <p:blipFill>
          <a:blip r:embed="rId1"/>
          <a:stretch/>
        </p:blipFill>
        <p:spPr>
          <a:xfrm>
            <a:off x="4284720" y="4653000"/>
            <a:ext cx="16556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8032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е №32 (ЕГЭ-20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1692360" y="1752480"/>
            <a:ext cx="648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скольку луч падает на грань AC перпендикулярно, он на ней не преломляется, а, падая на грань BC, согласно закону отражения света отражается под тем же углом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. Следовательно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90-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Закон преломления света на грани AB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si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(90–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)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γ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 ≈1,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: п = 1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Рисунок 6" descr=""/>
          <p:cNvPicPr/>
          <p:nvPr/>
        </p:nvPicPr>
        <p:blipFill>
          <a:blip r:embed="rId1"/>
          <a:stretch/>
        </p:blipFill>
        <p:spPr>
          <a:xfrm>
            <a:off x="5556240" y="3693960"/>
            <a:ext cx="29098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Часть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285920" y="1000080"/>
            <a:ext cx="5103720" cy="13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rcRect l="0" t="0" r="0" b="8784"/>
          <a:stretch/>
        </p:blipFill>
        <p:spPr>
          <a:xfrm>
            <a:off x="3286080" y="2500200"/>
            <a:ext cx="5600880" cy="642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4"/>
          <a:stretch/>
        </p:blipFill>
        <p:spPr>
          <a:xfrm>
            <a:off x="3357720" y="3370320"/>
            <a:ext cx="55321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5"/>
          <a:stretch/>
        </p:blipFill>
        <p:spPr>
          <a:xfrm>
            <a:off x="3286080" y="4071960"/>
            <a:ext cx="5586480" cy="42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6"/>
          <a:stretch/>
        </p:blipFill>
        <p:spPr>
          <a:xfrm>
            <a:off x="3214800" y="4981680"/>
            <a:ext cx="557676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804160" cy="564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aramond Premr Pro Smbd"/>
              </a:rPr>
              <a:t>Мой мастер-класс посвящен проблеме обучения учащихся решению задач высокого уровня сложности из разных разделов физики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aramond Premr Pro Smbd"/>
              </a:rPr>
              <a:t>Решение физических задач в старших классах позволяет учащимся не только лучше понять законы природы, но и постоянно тренировать мышление, что является одной из главных задач средней школы. Уметь решать трудные задачи очень важно для нынешних выпускников школ, сдающих ЕГЭ по физике, ведь 2 часть КИМов  содержит задачи( №27-32) , за выполнение которых  можно получить 2-3 балла.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aramond Premr Pro Smbd"/>
              </a:rPr>
              <a:t> 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D:\Шк сайт март 2011\EGE.jpg"/>
          <p:cNvPicPr/>
          <p:nvPr/>
        </p:nvPicPr>
        <p:blipFill>
          <a:blip r:embed="rId1"/>
          <a:stretch/>
        </p:blipFill>
        <p:spPr>
          <a:xfrm>
            <a:off x="7066080" y="5286240"/>
            <a:ext cx="19890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Часть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000080" y="928800"/>
            <a:ext cx="4500720" cy="1780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4143240" y="2928960"/>
            <a:ext cx="4286520" cy="922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4071960" y="4000680"/>
            <a:ext cx="4500720" cy="1149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5"/>
          <a:stretch/>
        </p:blipFill>
        <p:spPr>
          <a:xfrm>
            <a:off x="4000680" y="5357880"/>
            <a:ext cx="45003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Часть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1214280" y="1000080"/>
            <a:ext cx="5399280" cy="1928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2293920" y="3143160"/>
            <a:ext cx="6369120" cy="857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2481120" y="4071960"/>
            <a:ext cx="6153120" cy="1000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5"/>
          <a:stretch/>
        </p:blipFill>
        <p:spPr>
          <a:xfrm>
            <a:off x="2149560" y="5143680"/>
            <a:ext cx="64897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Задания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00080" y="928800"/>
            <a:ext cx="5214960" cy="1714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6143760" y="857160"/>
            <a:ext cx="2500200" cy="1362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4"/>
          <a:stretch/>
        </p:blipFill>
        <p:spPr>
          <a:xfrm>
            <a:off x="3357720" y="2786040"/>
            <a:ext cx="5408280" cy="1071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5"/>
          <a:stretch/>
        </p:blipFill>
        <p:spPr>
          <a:xfrm>
            <a:off x="3357720" y="3857760"/>
            <a:ext cx="5289480" cy="135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6"/>
          <a:stretch/>
        </p:blipFill>
        <p:spPr>
          <a:xfrm>
            <a:off x="3429000" y="5429160"/>
            <a:ext cx="50356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2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3024360" cy="33228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3203640" y="522936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Спасибо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189000"/>
            <a:ext cx="81835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римеры решения задач высокого уровня сложности</a:t>
            </a:r>
            <a:br>
              <a:rPr sz="4400"/>
            </a:b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714240" y="1857240"/>
            <a:ext cx="818352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Times New Roman"/>
              </a:rPr>
              <a:t>из ЕГЭ по физике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Times New Roman"/>
              </a:rPr>
              <a:t>(часть 2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ачественная задач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1214280" y="928800"/>
            <a:ext cx="3500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рисунке приведена электрическая цепь, состоящая из гальванического элемента, реостата, трансформатора, амперметра и вольтметра. В начальный момент времени ползунок реостата установлен посередине и неподвижен. Опираясь на законы электродинамики, объясните, как будут изменяться показания приборов в процессе перемещения ползунка реостата влев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ДС самоиндукции пренебречь по сравнению с 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1357200" y="3643200"/>
            <a:ext cx="200052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0"/>
          <p:cNvSpPr/>
          <p:nvPr/>
        </p:nvSpPr>
        <p:spPr>
          <a:xfrm>
            <a:off x="4857840" y="928800"/>
            <a:ext cx="3929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Во время перемещения движка реостата показания амперметра будут плавно увеличиваться, а вольтметр будет регистрировать напряжение на концах вторичной обмотки. Примечание: Д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ного ответа не требуется объяснения показаний приборов в крайнем левом положении. (Когда движок придет в крайн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евое положение и движение его прекратится, амперметр будет показывать постоянную силу тока в цепи, а напряжение, измеряемое вольтметром, окажется равным нулю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3500280" y="3571920"/>
            <a:ext cx="52866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При перемещении ползунка влево сопротивлен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еньшается, а сила тока увеличивается в соответствии с законом Ома для полной цепи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+r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опротивление внешней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п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2"/>
          <p:cNvSpPr/>
          <p:nvPr/>
        </p:nvSpPr>
        <p:spPr>
          <a:xfrm>
            <a:off x="3571920" y="4714920"/>
            <a:ext cx="500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Изменение тока, текущего в первичной обмотке реостата вызывает изменение индукции магнитного поля, создаваемого этой обмоткой. Это приводит к изменению магнитного потока через вторичную обмотку трансформатор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3571920" y="5715000"/>
            <a:ext cx="50007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 В соответствии с законом индукции Фарадея возникает ЭДС индукции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инд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ΔΦ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вторичной обмотке, а следовательно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яжение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U на ее концах, регистрируемое вольтметр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7 (ЕГЭ-20г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2000" y="1432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ве параллельные металлические пластины, расположенные горизонтально, подключены к электрической схеме, приведённой на рисунке. Между пластинами находится в равновесии маленькое заряженное тело массой m и зарядом q. Электростатическое поле между пластинами считать однородным. Опираясь на законы механики и электродинамики, объясните, как и в какую сторону начнёт двигаться тело, если сдвинуть ползунок реостата влев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tretch/>
        </p:blipFill>
        <p:spPr>
          <a:xfrm>
            <a:off x="3605040" y="4292640"/>
            <a:ext cx="19339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3342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Объект 3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70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1300320" y="1081080"/>
            <a:ext cx="75578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1071720" y="1143000"/>
            <a:ext cx="3286080" cy="171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1571760" y="3071880"/>
            <a:ext cx="2879640" cy="280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/>
          <a:stretch/>
        </p:blipFill>
        <p:spPr>
          <a:xfrm>
            <a:off x="4357800" y="1214280"/>
            <a:ext cx="4357440" cy="12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5"/>
          <a:stretch/>
        </p:blipFill>
        <p:spPr>
          <a:xfrm>
            <a:off x="4357800" y="2500200"/>
            <a:ext cx="4357440" cy="571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6"/>
          <a:stretch/>
        </p:blipFill>
        <p:spPr>
          <a:xfrm>
            <a:off x="4357800" y="3143160"/>
            <a:ext cx="4357440" cy="785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ачественная задач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ttps://phys-ege.sdamgia.ru/get_file?id=68235&amp;png=1"/>
          <p:cNvPicPr/>
          <p:nvPr/>
        </p:nvPicPr>
        <p:blipFill>
          <a:blip r:embed="rId1"/>
          <a:stretch/>
        </p:blipFill>
        <p:spPr>
          <a:xfrm>
            <a:off x="1332000" y="3355920"/>
            <a:ext cx="5111640" cy="24163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1116000" y="195120"/>
            <a:ext cx="784872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7   (демовариант   2021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ёгкая нить, привязанная к грузу массой m = 0,4 кг, перекинута через идеальный неподвижный блок. К правому концу нити приложена постоянная сила F. Левая часть нити вертикальна, а правая наклонена под углом  30° к горизонту (см. рисунок). Постройте график зависимости модуля силы реакции стола N от F на отрезке 0 ≤ F ≤10 Н. Ответ поясните, указав, какие физические явления и закономерности Вы использовали для объяснения. Сделайте рисунок с указанием сил, приложенных к груз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Рисунок 1" descr=""/>
          <p:cNvPicPr/>
          <p:nvPr/>
        </p:nvPicPr>
        <p:blipFill>
          <a:blip r:embed="rId2"/>
          <a:stretch/>
        </p:blipFill>
        <p:spPr>
          <a:xfrm>
            <a:off x="7164360" y="3141720"/>
            <a:ext cx="1476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58560" y="404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сила F достаточно мала, груз покоится относительно стола (эту систему отсчёта будем считать инерциальной). На груз при этом действуют сила тяжести mg, сила реакции со стороны стола N и сила натяжения ни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. Запишем второй закон Ньютона для груза в проекциях на ось y введённой системы отсчёта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N + T - mg = 0. Поскольку нить лёгкая, а блок идеальный, модуль силы натяжения нити во всех точках одинаков, поэтому Т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= F. Отсюда получаем :   N = mg – F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0 при F≤ mg = 4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. При F &gt;  mg = 4Н груз отрывается от стола и движется вдоль оси y с ускорением. На груз при этом действуют только сила тяжести mg и сила натяжения нити T', а модуль силы реакции стола N = 0. Таким образом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) при F≤ mg = 4Н          N = mg - F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) при F &gt;  mg = 4Н          N = 0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3. График этой зависимости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едставляет собой ломаную линию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6012000" y="4508640"/>
            <a:ext cx="2295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5:51:31Z</dcterms:created>
  <dc:creator>Константин</dc:creator>
  <dc:description/>
  <dc:language>en-US</dc:language>
  <cp:lastModifiedBy>инглиш</cp:lastModifiedBy>
  <dcterms:modified xsi:type="dcterms:W3CDTF">2021-11-02T12:30:25Z</dcterms:modified>
  <cp:revision>183</cp:revision>
  <dc:subject/>
  <dc:title>Ink the Deal</dc:title>
</cp:coreProperties>
</file>