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AA3-4372-4CDC-8C1A-D3C32035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34C-5D63-4352-95E9-DDD1B8F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652-13BB-4509-86E3-8F187E6B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E53-4E8E-4BA1-BA2A-C38ECF4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D1B-9323-42A9-A4DD-13BB4BA4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79F-B55D-4586-B899-AC50EFC2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20F-29AA-4838-8C70-FC73DBA1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892-C9DB-41FD-BB49-186B02F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3BF-57BA-45CA-9CC3-0097856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434-7F56-48BB-A2E1-E5D6ED2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B64-F09A-4D30-ACDC-D3B4AC9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854-C035-424A-B4D9-0551721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CDC50D-3F62-4C78-9932-D684E1ABFA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21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Занятие по математике. Тема «Шире, уж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Презентация &amp;quot;Узкий, широкий&amp;quot; (для детей с ТМНР)."/>
          <p:cNvPicPr/>
          <p:nvPr/>
        </p:nvPicPr>
        <p:blipFill>
          <a:blip r:embed="rId1"/>
          <a:stretch/>
        </p:blipFill>
        <p:spPr>
          <a:xfrm>
            <a:off x="1214280" y="357120"/>
            <a:ext cx="6857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42876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Приветствие, день недели, время года., время с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Пальчиковая гимнастика « Космонав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Игра «После стир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Танец – пуг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Завер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21420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Содержание слай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Таблица 3"/>
          <p:cNvGraphicFramePr/>
          <p:nvPr/>
        </p:nvGraphicFramePr>
        <p:xfrm>
          <a:off x="0" y="714240"/>
          <a:ext cx="9143640" cy="4416120"/>
        </p:xfrm>
        <a:graphic>
          <a:graphicData uri="http://schemas.openxmlformats.org/drawingml/2006/table">
            <a:tbl>
              <a:tblPr/>
              <a:tblGrid>
                <a:gridCol w="1071360"/>
                <a:gridCol w="8072280"/>
              </a:tblGrid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Доброе утро ребята! Сегодня начинается новый день, новая неделя. Кто знает, как называется первый день новой недели? Это самый первый вагончик» – ребята отвечают. Если дети испытывают затруднения – воспитатель помогает  - «это поне…»- дети продолжаю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Молодцы! Сегодня(делается ударение) понедельник, а какой день будет завтра?» Воспитатель помогает детям  - «вторник, верно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Ох, ребята, что-то погода меняется, становится холодно..Кто знает, какое время года сейчас? Верно, осень! А как вы это поняли?» Дети перечисляют признаки осени( минимум 5). «Ребята, а давайте вспомним, какая у нас бывает осень? Как мы называем самое начало осени? А какая осень в самом начал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А как мы называем середину осени? А чем золотая осень отличается от ранней? А как мы называем осень в самом конце? А какая она?» Дети отвечают на вопросы, воспитатель при необходимости помогает с ответом ( задает уточняющие вопросы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Какие вы молодцы! Все-то вы знаете! Наверное, вы готовы и в космос полете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Давайте сделаем с вами космическую пальчиковую гимнастику!(пальчиковая гимнастика)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21420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Содержание слай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Таблица 3"/>
          <p:cNvGraphicFramePr/>
          <p:nvPr/>
        </p:nvGraphicFramePr>
        <p:xfrm>
          <a:off x="0" y="714240"/>
          <a:ext cx="9143640" cy="4463280"/>
        </p:xfrm>
        <a:graphic>
          <a:graphicData uri="http://schemas.openxmlformats.org/drawingml/2006/table">
            <a:tbl>
              <a:tblPr/>
              <a:tblGrid>
                <a:gridCol w="1071360"/>
                <a:gridCol w="8072280"/>
              </a:tblGrid>
              <a:tr h="27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помните к кому в гости мы ходили в прошлый раз? Правильно, к медвежонку, жирафу, зайчонку и ёжику.  Ребята, сегодня наши звери затеяли стирку. И хотели развесить свои чистые полотенца, но у медведя и медвежонка все перемешалось. Ребята как же нам понять, какие полотенца у медведя и какие у медвежонка? Правильно, нужно их сравни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Чем медведь отличается от медвежонка? – дети говорят свои варианты – верно, размером. Медведь толстый, а медвежонок худеньк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И полотенца тоже будут отличатся, чем же? – одно широкое, а другое уз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Далее дети с помощью воспитателя распределяют узкие и широкие полотенца и вешают их на веревку к медведю и медвежон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Какие вы молодцы! Давайте теперь немного повеселимся – поем и танцуем под песню Железновой «Пугал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какие вы у меня сообразительные! Посмотрите пожалуйста, есть у меня одна картинка. На ней разные предметы, помогите мне, пожалуйста, узнать, какие из них узкие, а какие широ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Обсуждаем картинку, выбираем узкие и широки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3640" cy="4576320"/>
          </a:xfrm>
          <a:prstGeom prst="rect">
            <a:avLst/>
          </a:prstGeom>
          <a:ln w="9525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1143000"/>
            <a:ext cx="2287440" cy="1212480"/>
          </a:xfrm>
          <a:prstGeom prst="rect">
            <a:avLst/>
          </a:prstGeom>
          <a:ln w="9525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507204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3211E-006 L 0.74514 0.00347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Презентация познавательно-творческого проекта Золотая осень доклад, проект"/>
          <p:cNvPicPr/>
          <p:nvPr/>
        </p:nvPicPr>
        <p:blipFill>
          <a:blip r:embed="rId1"/>
          <a:srcRect l="940" t="16252" r="624" b="6249"/>
          <a:stretch/>
        </p:blipFill>
        <p:spPr>
          <a:xfrm>
            <a:off x="0" y="214200"/>
            <a:ext cx="9194400" cy="54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5214960"/>
            <a:ext cx="2287440" cy="1212480"/>
          </a:xfrm>
          <a:prstGeom prst="rect">
            <a:avLst/>
          </a:prstGeom>
          <a:ln w="9525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2920" y="585792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Пальчиковая гимнастика «космонав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8 -0.00231 L 0.68993 -0.15995 E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31051" t="21872" r="21482" b="14583"/>
          <a:stretch/>
        </p:blipFill>
        <p:spPr>
          <a:xfrm>
            <a:off x="0" y="0"/>
            <a:ext cx="9143640" cy="688572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5" name="Таблица 12"/>
          <p:cNvGraphicFramePr/>
          <p:nvPr/>
        </p:nvGraphicFramePr>
        <p:xfrm>
          <a:off x="2143080" y="5072040"/>
          <a:ext cx="571320" cy="100008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Таблица 13"/>
          <p:cNvGraphicFramePr/>
          <p:nvPr/>
        </p:nvGraphicFramePr>
        <p:xfrm>
          <a:off x="2143080" y="3286080"/>
          <a:ext cx="642600" cy="100008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Таблица 14"/>
          <p:cNvGraphicFramePr/>
          <p:nvPr/>
        </p:nvGraphicFramePr>
        <p:xfrm>
          <a:off x="2071800" y="1643040"/>
          <a:ext cx="642600" cy="100008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857320" y="1428840"/>
            <a:ext cx="1514160" cy="1573920"/>
          </a:xfrm>
          <a:prstGeom prst="rect">
            <a:avLst/>
          </a:prstGeom>
          <a:ln w="9525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2857320" y="4714920"/>
            <a:ext cx="1447560" cy="1556640"/>
          </a:xfrm>
          <a:prstGeom prst="rect">
            <a:avLst/>
          </a:prstGeom>
          <a:ln w="9525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4500720" y="4929120"/>
            <a:ext cx="1524960" cy="1595160"/>
          </a:xfrm>
          <a:prstGeom prst="rect">
            <a:avLst/>
          </a:prstGeom>
          <a:ln w="9525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4786200" y="746640"/>
            <a:ext cx="1142640" cy="214704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6"/>
          <a:stretch/>
        </p:blipFill>
        <p:spPr>
          <a:xfrm>
            <a:off x="4786200" y="3286080"/>
            <a:ext cx="1089720" cy="188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072200" y="3357720"/>
            <a:ext cx="1856880" cy="3204720"/>
          </a:xfrm>
          <a:prstGeom prst="rect">
            <a:avLst/>
          </a:prstGeom>
          <a:ln w="9525">
            <a:noFill/>
          </a:ln>
        </p:spPr>
      </p:pic>
      <p:sp>
        <p:nvSpPr>
          <p:cNvPr id="64" name="Скругленный прямоугольник 10"/>
          <p:cNvSpPr/>
          <p:nvPr/>
        </p:nvSpPr>
        <p:spPr>
          <a:xfrm>
            <a:off x="2857320" y="4643280"/>
            <a:ext cx="385740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5" name="Скругленный прямоугольник 11"/>
          <p:cNvSpPr/>
          <p:nvPr/>
        </p:nvSpPr>
        <p:spPr>
          <a:xfrm>
            <a:off x="3000240" y="4643280"/>
            <a:ext cx="149976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6" name="Скругленный прямоугольник 12"/>
          <p:cNvSpPr/>
          <p:nvPr/>
        </p:nvSpPr>
        <p:spPr>
          <a:xfrm>
            <a:off x="2928960" y="4643280"/>
            <a:ext cx="342864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3071880" y="4643280"/>
            <a:ext cx="78552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3286080" y="4643280"/>
            <a:ext cx="292860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69" name="Скругленный прямоугольник 15"/>
          <p:cNvSpPr/>
          <p:nvPr/>
        </p:nvSpPr>
        <p:spPr>
          <a:xfrm>
            <a:off x="3357720" y="4786200"/>
            <a:ext cx="128556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cxnSp>
        <p:nvCxnSpPr>
          <p:cNvPr id="70" name="Прямая соединительная линия 19"/>
          <p:cNvCxnSpPr/>
          <p:nvPr/>
        </p:nvCxnSpPr>
        <p:spPr>
          <a:xfrm>
            <a:off x="0" y="571320"/>
            <a:ext cx="9144360" cy="214560"/>
          </a:xfrm>
          <a:prstGeom prst="straightConnector1">
            <a:avLst/>
          </a:prstGeom>
          <a:ln>
            <a:solidFill>
              <a:srgbClr val="8064a2"/>
            </a:solidFill>
            <a:round/>
          </a:ln>
        </p:spPr>
      </p:cxnSp>
      <p:sp>
        <p:nvSpPr>
          <p:cNvPr id="71" name="Скругленный прямоугольник 21"/>
          <p:cNvSpPr/>
          <p:nvPr/>
        </p:nvSpPr>
        <p:spPr>
          <a:xfrm>
            <a:off x="428760" y="571320"/>
            <a:ext cx="292860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0" y="2500200"/>
            <a:ext cx="2785680" cy="4248000"/>
          </a:xfrm>
          <a:prstGeom prst="rect">
            <a:avLst/>
          </a:prstGeom>
          <a:ln w="9525">
            <a:noFill/>
          </a:ln>
        </p:spPr>
      </p:pic>
      <p:sp>
        <p:nvSpPr>
          <p:cNvPr id="73" name="Скругленный прямоугольник 22"/>
          <p:cNvSpPr/>
          <p:nvPr/>
        </p:nvSpPr>
        <p:spPr>
          <a:xfrm>
            <a:off x="7429680" y="714240"/>
            <a:ext cx="128556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90863E-006 L -0.00782 -0.38816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90863E-006 L -5.55556E-007 -0.38816 E">
                                      <p:cBhvr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5186E-006 L 0.42049 -0.62155 E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7053E-006 L -0.41736 -0.61925 E"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4.33264E-006 L 0.41736 -0.62966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4.89475E-006 L -0.41737 -0.65047 E">
                                      <p:cBhvr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Электронное приложение к рабочей тетради по математике 1 класс (Т.В.  Алышева, В.В. Эк) школа VIII вида дочисловой период"/>
          <p:cNvPicPr/>
          <p:nvPr/>
        </p:nvPicPr>
        <p:blipFill>
          <a:blip r:embed="rId1"/>
          <a:srcRect l="15236" t="15626" r="10935" b="9372"/>
          <a:stretch/>
        </p:blipFill>
        <p:spPr>
          <a:xfrm>
            <a:off x="0" y="0"/>
            <a:ext cx="9143640" cy="67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  <Words>453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1T05:13:37Z</dcterms:created>
  <dc:creator>Ania</dc:creator>
  <dc:description/>
  <dc:language>en-US</dc:language>
  <cp:lastModifiedBy>Ania</cp:lastModifiedBy>
  <dcterms:modified xsi:type="dcterms:W3CDTF">2021-11-03T07:54:46Z</dcterms:modified>
  <cp:revision>9</cp:revision>
  <dc:subject/>
  <dc:title>1.11.21 понеде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