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AFF2-E9B1-4C18-9EA6-709FC6DE2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2656-7C03-4D3F-8F23-04553B04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3E60-2761-47BE-AB2D-73D262FC7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EB84-9A4F-4E87-B061-0B92E2A19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604F-C057-4864-BE98-C54E97E94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AE01-42F0-4902-B829-284F8698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C68F-43BD-4666-BB26-BAEA5F3B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8F45-4432-44F8-AF96-42760A6F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8C9F-2066-4E31-A12E-CA18D7E4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306C-C54B-49C7-AA18-A8E003A0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7931-A653-4986-8781-246E35F8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17A1-03F8-4A5B-A64B-A4E48F0D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8BD1-E048-4C02-B6AD-C1B1C7B1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1459-5386-4949-89E3-2C0C582D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BB79-F41C-45BD-AA21-CC1C3E12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C3E4-ABD9-450E-A23E-EA35729B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06A9-43E8-40B3-BAC5-20EEF6CCC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758D4-7397-451B-AF85-915B72FDB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FEDDD-E95F-4C9C-94A7-DD000B56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C0ECF-B306-4496-A47B-7D9A24D8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0F822-0ADA-4AFD-A486-B6D36AA2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FEFBB-D0CA-402F-A561-B77E9291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CD3A-0E6D-4F19-9412-FF97F21F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97CF8-9B6C-4EDA-8431-4AC0FD4C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D6D76-F4A2-4226-8463-6F35F87D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E2FCD-30F1-41D6-B251-380D7BB0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18E56-CF7A-4B95-BE52-75DE7ADB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18E16-1C0C-4DCF-BD86-6E75625A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064C8-B826-4309-8C7F-79B275EAB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5DDEF-10B7-4789-A600-6749C9ECD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64B3A-790C-446B-9531-4F8EB8726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94CD7-8B0B-4B2C-B8E6-93F2C016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68DFD-6530-43BB-8B4D-89EE563B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FDCE-3B46-41B8-90DD-483C72EB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8534F-DA05-461B-A4CE-0A8EDA33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43E12-C446-4C46-8112-9BB8893C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D8666-FD8F-4AFA-BE74-BAAAEC3E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E15A3-7156-497F-AE1F-E5FC1514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6DE7C-FA70-4884-8F5B-FF677F87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1F1B7-F984-4B3F-8A0C-E9C17DEF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5ECBF-1569-4A9E-909A-3E816F9A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08A13-96D6-42F7-9D14-A765C59CA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3E2C3-7074-4E68-8020-166153852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7591-227B-43CF-8BE3-4ECC297C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6D9A-5528-42DA-84D5-8CAFE156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FA90-7480-4345-86D5-1FC53A3E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90D4-F703-4AB1-ABF7-EF176DDA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0F3C-E9FC-4112-B385-9E87C4BC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BF35-2BFA-4BCD-A757-2016D7F2521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908C-F437-49C3-B599-4B5BC3B2D00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32C2-6320-4D7C-9A8B-6AE05F03834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94A8-3E69-404D-B39C-9DFA159E1D9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9040" y="334800"/>
            <a:ext cx="7864560" cy="25797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32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6" descr="DETAIL_PICTURE_623275"/>
          <p:cNvPicPr/>
          <p:nvPr/>
        </p:nvPicPr>
        <p:blipFill>
          <a:blip r:embed="rId2"/>
          <a:stretch/>
        </p:blipFill>
        <p:spPr>
          <a:xfrm>
            <a:off x="539640" y="2781360"/>
            <a:ext cx="79200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4617b"/>
                </a:solidFill>
                <a:latin typeface="Calibri"/>
              </a:rPr>
              <a:t>Заключительный этап</a:t>
            </a:r>
            <a:br>
              <a:rPr sz="4500"/>
            </a:br>
            <a:r>
              <a:rPr b="1" i="1" lang="ru-RU" sz="4500" spc="-1" strike="noStrike">
                <a:solidFill>
                  <a:srgbClr val="04617b"/>
                </a:solidFill>
                <a:latin typeface="Calibri"/>
              </a:rPr>
              <a:t>Рефлекс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28760" y="17146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Что объединяет  друзей? (взаимная симпатия и общность интересов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Различаются ли  представления народов о дружб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Что вы чувствовали, когда знакомились  с культурой разных народов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Хотелось бы дружить  с людьми  разных национальностей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4617b"/>
                </a:solidFill>
                <a:latin typeface="Calibri"/>
              </a:rPr>
              <a:t>Авторы проек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Лобасенко Е.Н. – МОУ «СОШ № 18» г.Ухт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тец  Л.А. - МОУ «СОШ № 18» г.Ухт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олубенко Н.В - МОУ «СОШ № 18» г.Ухт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нцова А.А. - МОУ «СОШ № 19» г.Ухт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лайборода А.А. - МОУ «СОШ № 19» г.Ухт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Цвенгер Е.А. - МОУ «СОШ № 20» г.Ухт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няткова О.Ф. - МОУ «СОШ № 20» г.Ухт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колова Г.В. – МОУ «СОШ № 20» г. Ухт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акарова С.В. - МОУ «СОШ № 20» г. Ухт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Жукова Т.В. – МОУ «СОШ№32» г. Ухт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4617b"/>
                </a:solidFill>
                <a:latin typeface="Calibri"/>
              </a:rPr>
              <a:t>Проблема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Constantia"/>
              </a:rPr>
              <a:t>Недостаточная сформированность понятия дружбы в коллективе и между народами нашей страны. Главная задача школы в современном сложном мире – научить детей быть человечными. Именно в начальном школьном возрасте нужно научить детей ценить друзей, заботиться о ближних людях.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4617b"/>
                </a:solidFill>
                <a:latin typeface="Calibri"/>
              </a:rPr>
              <a:t>Цель 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00040" y="18568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onstantia"/>
              </a:rPr>
              <a:t>Способствовать формированию ценностного отношения понятия дружбы детей и дружбы народов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500" spc="-1" strike="noStrike">
                <a:solidFill>
                  <a:srgbClr val="04617b"/>
                </a:solidFill>
                <a:latin typeface="Calibri"/>
              </a:rPr>
              <a:t>Задачи</a:t>
            </a:r>
            <a:endParaRPr b="0" lang="en-US" sz="6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92880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Конкретизировать  понятие «дружба» , показать, как  представители разных народов нашей страны относятся к дружбе; подвести  учащихся  к  выводу, что  понятие дружбы различных  народов совпадают.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Способствовать формированию нравственных качеств обучающихся: умение дружить, беречь дружбу, общаться в коллектив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Активизировать диалог детей и родителей о дружбе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Организовать творческую деятельность школьников по подготовке к фестивалю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4617b"/>
                </a:solidFill>
                <a:latin typeface="Calibri"/>
              </a:rPr>
              <a:t>Методы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поисковые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дискуссионные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игровые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5" descr="GRA1"/>
          <p:cNvPicPr/>
          <p:nvPr/>
        </p:nvPicPr>
        <p:blipFill>
          <a:blip r:embed="rId1"/>
          <a:stretch/>
        </p:blipFill>
        <p:spPr>
          <a:xfrm>
            <a:off x="5003640" y="2997360"/>
            <a:ext cx="372924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4617b"/>
                </a:solidFill>
                <a:latin typeface="Calibri"/>
              </a:rPr>
              <a:t>Риск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28760" y="14284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Пассивность участников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Слабая мотивация школьников и родителей в работе с первоисточниками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Восприятие масштабности подготовки как «лишней» нагрузк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4617b"/>
                </a:solidFill>
                <a:latin typeface="Calibri"/>
              </a:rPr>
              <a:t>Ожидаемые результаты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обучающиеся  будут ознакомлены с понятием «дружба», с тем, как разные народы России относятся к дружбе; они сделают вывод, что  ценность дружбы различных  народов совпадают; культуры разных народов интересны друг друг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научатся сравнивать, анализировать,    выделять  </a:t>
            </a: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существенное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каждый вложит свой вклад в  подготовку и проведение фестиваля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получат положительный опыт творческого взаимодействия   внутри коллектив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i="1" lang="ru-RU" sz="5400" spc="-1" strike="noStrike">
                <a:solidFill>
                  <a:srgbClr val="04617b"/>
                </a:solidFill>
                <a:latin typeface="Calibri"/>
              </a:rPr>
              <a:t>Ход работы</a:t>
            </a:r>
            <a:br>
              <a:rPr sz="5400"/>
            </a:br>
            <a:r>
              <a:rPr b="1" i="1" lang="ru-RU" sz="4400" spc="-1" strike="noStrike">
                <a:solidFill>
                  <a:srgbClr val="04617b"/>
                </a:solidFill>
                <a:latin typeface="Calibri"/>
              </a:rPr>
              <a:t>Подготовительный этап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00040" y="16426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проведение уроков по тем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формирование творческих групп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-поиск пословиц, поговорок, сказок, песен , притч разных народов о дружб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знакомство с традициями,   праздниками, кухней народов Росс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создание сочинений о дружб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-подготовка тематического номера для заключительного концерт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-подготовка материалов для оформления школы (плакаты, стенгазеты, стенды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4617b"/>
                </a:solidFill>
                <a:latin typeface="Calibri"/>
              </a:rPr>
              <a:t>Основной этап</a:t>
            </a:r>
            <a:br>
              <a:rPr sz="4500"/>
            </a:br>
            <a:r>
              <a:rPr b="1" i="1" lang="ru-RU" sz="4500" spc="-1" strike="noStrike">
                <a:solidFill>
                  <a:srgbClr val="04617b"/>
                </a:solidFill>
                <a:latin typeface="Calibri"/>
              </a:rPr>
              <a:t>проведение Фестиваля дружб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686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4617b"/>
                </a:solidFill>
                <a:latin typeface="Constantia"/>
              </a:rPr>
              <a:t>В форме отчета творческих групп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работа с пословицами и поговорками разных народ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инсценирование сказок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исполнение песен и танце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игры разных народов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представление костюм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презентация блюд национальной кухн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11:41:00Z</dcterms:created>
  <dc:creator>школа № 19</dc:creator>
  <dc:description/>
  <dc:language>en-US</dc:language>
  <cp:lastModifiedBy>школа № 19</cp:lastModifiedBy>
  <dcterms:modified xsi:type="dcterms:W3CDTF">2012-03-29T04:13:33Z</dcterms:modified>
  <cp:revision>40</cp:revision>
  <dc:subject/>
  <dc:title>Фестиваль дружбы</dc:title>
</cp:coreProperties>
</file>