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127-E9B4-41FA-BBD6-D27236EC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17D-CE72-49CD-A677-2F552436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D7B-D1D0-4323-B340-2C06855F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C68-93AE-46A9-9559-F129085E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7AE9-8A5E-4A61-91C0-6D4A63D5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B0AE-A656-4510-81B7-6F034E00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85F-6FD6-4A9E-95A4-AB6C94F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FCA-24CF-4083-A432-A8ABF6F2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1E1B-617C-4AFE-9319-BBB27C23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3358-FD46-431A-91BC-11AB2DBB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AF8-2698-4AA0-9864-31286A5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265-7FDA-4514-9781-597B05CF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0FC6-B4F3-409B-9C09-B82DF56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3839-B1A9-4A7B-AF82-60B7310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411-FB30-4C22-AF40-D89533E9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F7B-AB77-4F4A-B8B2-9F186772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3323-78BA-4438-8E43-63BCC0D2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FCA1-DB82-492E-94D2-D91225D4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B5FC-AD04-4EF4-8DB4-BDE1FE90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6402-1ED9-4ECA-B528-F1E6DF6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86F9-704E-4DFC-A355-1BFED444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073E-949B-4BD1-8B27-6EE7846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B0A-159D-4BE5-981D-74B3B8B8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4325-6208-41C6-B01E-B260638C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56DE-4C72-419D-855B-7B4A64E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2B63-8481-4299-9A20-649F216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9E66-A785-463C-A238-EDB03E9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FBAE-4E86-47F8-B279-0150A12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380B-7DB1-4F00-AFF0-3687C307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2EE0-23FD-48F2-8128-AA350A20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FFA7-BF30-4D45-A7E4-A3194012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285BD-79BD-49ED-AE2D-FB0F573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705D-B94C-4431-835F-A37E0C9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9F9-05D2-437F-A43C-89AE45E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D1E9-7FA9-458E-945F-173196E7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3D5A-7BC8-46DA-B89D-589DD0F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7632-3704-49EC-9F40-4C4D5A0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F8D1-0B1A-4972-B116-E9F78C0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A39A-253B-4A25-BB2A-46F3983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1BFF-515F-4B2A-8805-58AC08C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A574-0116-4BB8-8BD9-F3715D1B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C39C-3993-4CB6-B96D-6A7BFB5C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C9FD-1743-4CCD-8DFE-59D9776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326-A122-4A6B-8962-E9378E0D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4E1-75F3-46BA-A33B-59633B21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C6F-7CB1-4747-86DC-C719619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B34-5495-4C2D-8B32-3208317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687-7742-4061-A06F-A3530C4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9E38-F513-43CC-8A1E-0A72F6CBA9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6E72-A036-47DA-A57A-1F50CA85F7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EB4-A415-44BE-8F20-96074253407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DC4-F109-4ECE-AE86-E7D20269C3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864560" cy="2579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DETAIL_PICTURE_623275"/>
          <p:cNvPicPr/>
          <p:nvPr/>
        </p:nvPicPr>
        <p:blipFill>
          <a:blip r:embed="rId2"/>
          <a:stretch/>
        </p:blipFill>
        <p:spPr>
          <a:xfrm>
            <a:off x="539640" y="2781360"/>
            <a:ext cx="7920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Заключительный этап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то объединяет  друзей? (взаимная симпатия и общность интересо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Различаются ли  представления народов о друж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то вы чувствовали, когда знакомились  с культурой разных народов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Хотелось бы дружить  с людьми  разных национальностей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Автор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басенко Е.Н. –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тец  Л.А. -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лубенко Н.В - МОУ «СОШ № 18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нцова А.А. - МОУ «СОШ № 19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йборода А.А. - МОУ «СОШ № 19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венгер Е.А. - МОУ «СОШ № 20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кова О.Ф. - МОУ «СОШ № 20» г.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колова Г.В. – МОУ «СОШ № 20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карова С.В. - МОУ «СОШ № 20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укова Т.В. – МОУ «СОШ№32» г. Ух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Проблем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Недостаточная сформированность понятия дружбы в коллективе и между народами нашей страны. Главная задача школы в современном сложном мире – научить детей быть человечными. Именно в начальном школьном возрасте нужно научить детей ценить друзей, заботиться о ближних людях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004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Способствовать формированию ценностного отношения понятия дружбы детей и дружбы народов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онкретизировать  понятие «дружба» , показать, как  представители разных народов нашей страны относятся к дружбе; подвести  учащихся  к  выводу, что  понятие дружбы различных  народов совпадают.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пособствовать формированию нравственных качеств обучающихся: умение дружить, беречь дружбу, общаться в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ктивизировать диалог детей и родителей о дружб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рганизовать творческую деятельность школьников по подготовке к фестивал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4617b"/>
                </a:solidFill>
                <a:latin typeface="Calibri"/>
              </a:rPr>
              <a:t>Методы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поисковы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дискуссион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гров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GRA1"/>
          <p:cNvPicPr/>
          <p:nvPr/>
        </p:nvPicPr>
        <p:blipFill>
          <a:blip r:embed="rId1"/>
          <a:stretch/>
        </p:blipFill>
        <p:spPr>
          <a:xfrm>
            <a:off x="5003640" y="2997360"/>
            <a:ext cx="37292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Рис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76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Пассивность участник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Слабая мотивация школьников и родителей в работе с первоисточник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осприятие масштабности подготовки как «лишней» нагруз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Calibri"/>
              </a:rPr>
              <a:t>Ожидаемые результа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обучающиеся  будут ознакомлены с понятием «дружба», с тем, как разные народы России относятся к дружбе; они сделают вывод, что  ценность дружбы различных  народов совпадают; культуры разных народов интересны друг друг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аучатся сравнивать, анализировать,    выделять 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ущественное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ждый вложит свой вклад в  подготовку и проведение фестивал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олучат положительный опыт творческого взаимодействия   внутри коллекти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4617b"/>
                </a:solidFill>
                <a:latin typeface="Calibri"/>
              </a:rPr>
              <a:t>Ход работы</a:t>
            </a:r>
            <a:br>
              <a:rPr sz="5400"/>
            </a:br>
            <a:r>
              <a:rPr b="1" i="1" lang="ru-RU" sz="4400" spc="-1" strike="noStrike">
                <a:solidFill>
                  <a:srgbClr val="04617b"/>
                </a:solidFill>
                <a:latin typeface="Calibri"/>
              </a:rPr>
              <a:t>Подготовительный эта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оведение уроков по те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ормирование творческих груп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иск пословиц, поговорок, сказок, песен , притч разных народов о друж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накомство с традициями,   праздниками, кухней народов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оздание сочинений о друж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дготовка тематического номера для заключительного концер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-подготовка материалов для оформления школы (плакаты, стенгазеты, стенды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Основной этап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роведение Фестиваля дружб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onstantia"/>
              </a:rPr>
              <a:t>В форме отчета творческих груп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работа с пословицами и поговорками разных наро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нсценирование сказок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сполнение песен и танц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гры разных народ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едставление костю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езентация блюд национальной кух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1:41:00Z</dcterms:created>
  <dc:creator>школа № 19</dc:creator>
  <dc:description/>
  <dc:language>en-US</dc:language>
  <cp:lastModifiedBy>школа № 19</cp:lastModifiedBy>
  <dcterms:modified xsi:type="dcterms:W3CDTF">2012-03-29T04:13:33Z</dcterms:modified>
  <cp:revision>40</cp:revision>
  <dc:subject/>
  <dc:title>Фестиваль дружбы</dc:title>
</cp:coreProperties>
</file>