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C61-FCD2-4FA6-8F8B-096C04AC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8A2-C7FB-4A7E-BF8C-941A1798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DB3-D779-4B12-B86D-75AB12DB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7C3-7DC3-4303-BC9A-AF790982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EC9-4D50-4B36-979B-438B00B2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DFF-A764-4C1D-B99F-666F2BA5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7E3-878F-415F-BCF6-B1167A85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22E-CDBE-4013-8175-BABA1F22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209-A0CD-4C5A-9421-D03F105E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CB5-342B-4D87-BC50-5C53EE3D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82A-7A8F-4F1B-A9E2-03E007B1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A75-C2C6-46C6-A3BC-E29C620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2C74-4EEE-4238-9E5D-F87E88A96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1714320"/>
            <a:ext cx="8015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Возникновение физической культуры и сп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Администратор\Рабочий стол\10.jpg"/>
          <p:cNvPicPr/>
          <p:nvPr/>
        </p:nvPicPr>
        <p:blipFill>
          <a:blip r:embed="rId1"/>
          <a:stretch/>
        </p:blipFill>
        <p:spPr>
          <a:xfrm>
            <a:off x="428760" y="285840"/>
            <a:ext cx="4512960" cy="2166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Администратор\Рабочий стол\11.jpg"/>
          <p:cNvPicPr/>
          <p:nvPr/>
        </p:nvPicPr>
        <p:blipFill>
          <a:blip r:embed="rId2"/>
          <a:stretch/>
        </p:blipFill>
        <p:spPr>
          <a:xfrm>
            <a:off x="4071960" y="4429080"/>
            <a:ext cx="4676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На время Олимпийских игр прекращались войны. Множество людей стремились попасть на эти зрелища. Зрители сидели на холмах и криками подбадривали соревнующихся. На Олимпийские игры приезжали поэты и писатели. Там они читали свои произведения. Победителей встречал весь город. В городской стене делали пролом, куда на колеснице въезжал победител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Древние состязания породили особый вид деятельности —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порт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Он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включает в себя </a:t>
            </a:r>
            <a:r>
              <a:rPr b="0" i="1" lang="ru-RU" sz="3000" spc="-1" strike="noStrike">
                <a:solidFill>
                  <a:srgbClr val="990099"/>
                </a:solidFill>
                <a:latin typeface="Calibri"/>
              </a:rPr>
              <a:t>тренировки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и </a:t>
            </a:r>
            <a:r>
              <a:rPr b="0" i="1" lang="ru-RU" sz="3000" spc="-1" strike="noStrike">
                <a:solidFill>
                  <a:srgbClr val="990099"/>
                </a:solidFill>
                <a:latin typeface="Calibri"/>
              </a:rPr>
              <a:t>соревн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Соревнования не только помогают определить чемпионов (победителей), но и выявляют физические возможности люд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Администратор\Рабочий стол\9.jpg"/>
          <p:cNvPicPr/>
          <p:nvPr/>
        </p:nvPicPr>
        <p:blipFill>
          <a:blip r:embed="rId1"/>
          <a:stretch/>
        </p:blipFill>
        <p:spPr>
          <a:xfrm>
            <a:off x="1214280" y="3929040"/>
            <a:ext cx="65008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ВРЕМЕННЫЕ 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ЛИМПИЙСКИЕ  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357440" y="499680"/>
            <a:ext cx="45003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осле большого перерыва Олимпийские игры возобновились в 1896 году в Греции. В их возрождении большую роль сыграл выдающийся французский общественный деятель барон </a:t>
            </a:r>
            <a:r>
              <a:rPr b="1" lang="ru-RU" sz="3000" spc="-1" strike="noStrike">
                <a:solidFill>
                  <a:srgbClr val="990099"/>
                </a:solidFill>
                <a:latin typeface="Calibri"/>
              </a:rPr>
              <a:t>Пьер де Кубертен.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С тех пор проведено 27 летних Олимпиад. С 1924 года проводятся зимние Олимпийские игры. На летние и зимние игры съезжаются спортсмены из разных стра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4.gif"/>
          <p:cNvPicPr/>
          <p:nvPr/>
        </p:nvPicPr>
        <p:blipFill>
          <a:blip r:embed="rId1"/>
          <a:srcRect l="4805" t="5816" r="5556" b="6980"/>
          <a:stretch/>
        </p:blipFill>
        <p:spPr>
          <a:xfrm>
            <a:off x="357120" y="500040"/>
            <a:ext cx="3795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овременный 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олимпийский символ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ять переплетённых колец. Они олицетворяют единство пяти континентов и встречу спортсменов всего мира на Олимпийских игр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2857680" y="3429000"/>
            <a:ext cx="1000080" cy="100008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3500280" y="3857760"/>
            <a:ext cx="1000440" cy="100008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4071960" y="3429000"/>
            <a:ext cx="1000080" cy="100008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6"/>
          <p:cNvSpPr/>
          <p:nvPr/>
        </p:nvSpPr>
        <p:spPr>
          <a:xfrm>
            <a:off x="5286240" y="3429000"/>
            <a:ext cx="1000440" cy="10000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7"/>
          <p:cNvSpPr/>
          <p:nvPr/>
        </p:nvSpPr>
        <p:spPr>
          <a:xfrm>
            <a:off x="4714920" y="3857760"/>
            <a:ext cx="1000080" cy="1000080"/>
          </a:xfrm>
          <a:prstGeom prst="ellipse">
            <a:avLst/>
          </a:prstGeom>
          <a:noFill/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760" y="2854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лимпийский девиз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Быстрее, выше, сильнее!».</a:t>
            </a: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лимпийская эмблема </a:t>
            </a:r>
            <a:r>
              <a:rPr b="0" lang="ru-RU" sz="3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—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четание пяти колец с какими-нибудь другими элементам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57120" y="2714760"/>
            <a:ext cx="5715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пример, на эмблеме Игр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XII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Олимпиады, которые проводились в Москве в 1980 году, вместе с олимпийскими кольцами изображён силуэт, напоминающий высотные здания, башни Московского Кремля и беговые дорожки стадио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5.gif"/>
          <p:cNvPicPr/>
          <p:nvPr/>
        </p:nvPicPr>
        <p:blipFill>
          <a:blip r:embed="rId1"/>
          <a:stretch/>
        </p:blipFill>
        <p:spPr>
          <a:xfrm>
            <a:off x="6215040" y="2643120"/>
            <a:ext cx="26431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99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99"/>
                </a:solidFill>
                <a:latin typeface="Calibri"/>
              </a:rPr>
              <a:t>Олимпийский флаг </a:t>
            </a:r>
            <a:r>
              <a:rPr b="0" lang="ru-RU" sz="3000" spc="-1" strike="noStrike">
                <a:solidFill>
                  <a:srgbClr val="990099"/>
                </a:solidFill>
                <a:latin typeface="Calibri"/>
              </a:rPr>
              <a:t>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белое атласное полотнище с олимпийскими кольц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4"/>
          <p:cNvSpPr/>
          <p:nvPr/>
        </p:nvSpPr>
        <p:spPr>
          <a:xfrm flipH="1">
            <a:off x="1500120" y="2571840"/>
            <a:ext cx="928800" cy="4071960"/>
          </a:xfrm>
          <a:prstGeom prst="line">
            <a:avLst/>
          </a:prstGeom>
          <a:ln w="63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илиния 8"/>
          <p:cNvSpPr/>
          <p:nvPr/>
        </p:nvSpPr>
        <p:spPr>
          <a:xfrm>
            <a:off x="2428920" y="2581200"/>
            <a:ext cx="5214960" cy="419040"/>
          </a:xfrm>
          <a:custGeom>
            <a:avLst/>
            <a:gdLst/>
            <a:ahLst/>
            <a:rect l="l" t="t" r="r" b="b"/>
            <a:pathLst>
              <a:path w="5321300" h="234950">
                <a:moveTo>
                  <a:pt x="0" y="0"/>
                </a:moveTo>
                <a:cubicBezTo>
                  <a:pt x="1522412" y="101600"/>
                  <a:pt x="3044825" y="203200"/>
                  <a:pt x="3895725" y="219075"/>
                </a:cubicBezTo>
                <a:cubicBezTo>
                  <a:pt x="4746625" y="234950"/>
                  <a:pt x="4889500" y="119062"/>
                  <a:pt x="5105400" y="95250"/>
                </a:cubicBezTo>
                <a:cubicBezTo>
                  <a:pt x="5321300" y="71438"/>
                  <a:pt x="5176838" y="84137"/>
                  <a:pt x="5191125" y="76200"/>
                </a:cubicBezTo>
                <a:cubicBezTo>
                  <a:pt x="5205412" y="68263"/>
                  <a:pt x="5194300" y="47625"/>
                  <a:pt x="5191125" y="47625"/>
                </a:cubicBezTo>
                <a:cubicBezTo>
                  <a:pt x="5187950" y="47625"/>
                  <a:pt x="5173662" y="73025"/>
                  <a:pt x="5172075" y="762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илиния 9"/>
          <p:cNvSpPr/>
          <p:nvPr/>
        </p:nvSpPr>
        <p:spPr>
          <a:xfrm>
            <a:off x="1857240" y="5143680"/>
            <a:ext cx="5000760" cy="419040"/>
          </a:xfrm>
          <a:custGeom>
            <a:avLst/>
            <a:gdLst/>
            <a:ahLst/>
            <a:rect l="l" t="t" r="r" b="b"/>
            <a:pathLst>
              <a:path w="5321300" h="234950">
                <a:moveTo>
                  <a:pt x="0" y="0"/>
                </a:moveTo>
                <a:cubicBezTo>
                  <a:pt x="1522412" y="101600"/>
                  <a:pt x="3044825" y="203200"/>
                  <a:pt x="3895725" y="219075"/>
                </a:cubicBezTo>
                <a:cubicBezTo>
                  <a:pt x="4746625" y="234950"/>
                  <a:pt x="4889500" y="119062"/>
                  <a:pt x="5105400" y="95250"/>
                </a:cubicBezTo>
                <a:cubicBezTo>
                  <a:pt x="5321300" y="71438"/>
                  <a:pt x="5176838" y="84137"/>
                  <a:pt x="5191125" y="76200"/>
                </a:cubicBezTo>
                <a:cubicBezTo>
                  <a:pt x="5205412" y="68263"/>
                  <a:pt x="5194300" y="47625"/>
                  <a:pt x="5191125" y="47625"/>
                </a:cubicBezTo>
                <a:cubicBezTo>
                  <a:pt x="5187950" y="47625"/>
                  <a:pt x="5173662" y="73025"/>
                  <a:pt x="5172075" y="762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1"/>
          <p:cNvSpPr/>
          <p:nvPr/>
        </p:nvSpPr>
        <p:spPr>
          <a:xfrm flipV="1">
            <a:off x="6718320" y="2717640"/>
            <a:ext cx="779400" cy="256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2857680" y="3429000"/>
            <a:ext cx="1000080" cy="100008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3"/>
          <p:cNvSpPr/>
          <p:nvPr/>
        </p:nvSpPr>
        <p:spPr>
          <a:xfrm>
            <a:off x="3500280" y="3857760"/>
            <a:ext cx="1000440" cy="100008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4"/>
          <p:cNvSpPr/>
          <p:nvPr/>
        </p:nvSpPr>
        <p:spPr>
          <a:xfrm>
            <a:off x="4071960" y="3429000"/>
            <a:ext cx="1000080" cy="100008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5"/>
          <p:cNvSpPr/>
          <p:nvPr/>
        </p:nvSpPr>
        <p:spPr>
          <a:xfrm>
            <a:off x="5286240" y="3429000"/>
            <a:ext cx="1000440" cy="10000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6"/>
          <p:cNvSpPr/>
          <p:nvPr/>
        </p:nvSpPr>
        <p:spPr>
          <a:xfrm>
            <a:off x="4714920" y="3857760"/>
            <a:ext cx="1000080" cy="1000080"/>
          </a:xfrm>
          <a:prstGeom prst="ellipse">
            <a:avLst/>
          </a:prstGeom>
          <a:noFill/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5840" y="1714320"/>
            <a:ext cx="48578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Зажжение </a:t>
            </a:r>
            <a:r>
              <a:rPr b="1" lang="ru-RU" sz="3000" spc="-1" strike="noStrike">
                <a:solidFill>
                  <a:srgbClr val="990099"/>
                </a:solidFill>
                <a:latin typeface="Calibri"/>
              </a:rPr>
              <a:t>олимпийского огня </a:t>
            </a:r>
            <a:r>
              <a:rPr b="0" lang="ru-RU" sz="3000" spc="-1" strike="noStrike">
                <a:solidFill>
                  <a:srgbClr val="990099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 один из главных ритуалов на торжественном открытии Олимпийских игр.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Его доставляют из Олимпии эстафетой к месту проведения игр лучшие спортсмены ми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10.gif"/>
          <p:cNvPicPr/>
          <p:nvPr/>
        </p:nvPicPr>
        <p:blipFill>
          <a:blip r:embed="rId1"/>
          <a:stretch/>
        </p:blipFill>
        <p:spPr>
          <a:xfrm>
            <a:off x="5357880" y="142920"/>
            <a:ext cx="363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ЯТВ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ортсменов и суд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760" y="2214360"/>
            <a:ext cx="8229600" cy="3214440"/>
          </a:xfrm>
          <a:prstGeom prst="rect">
            <a:avLst/>
          </a:prstGeom>
          <a:noFill/>
          <a:ln w="63360">
            <a:solidFill>
              <a:srgbClr val="990099"/>
            </a:solidFill>
            <a:miter/>
          </a:ln>
        </p:spPr>
        <p:txBody>
          <a:bodyPr anchor="t">
            <a:normAutofit/>
          </a:bodyPr>
          <a:p>
            <a:pPr marL="181080"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81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«От имени всех спортсменов я обещаю, что мы будем участвовать в этих Играх, уважая и соблюдая правила, по которым они проводятся, в истинно спортивном духе, во славу спорта и во имя чести своих команд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Талисман Олимпийских игр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это обычно изображение животного, которого особенно любят в стране, где проводятся Иг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лисманом Олимпиады-80 в Москве был бурый медвежонок Миша, Олимпиады-88 в Сеуле — тигрёнок Ходори, Олимпиады-92 в Барселоне - пёс Коби, Олимпиады-96 в Атланте -сказочный зверёк Изз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а последних зимних олимпийских играх спортсмены нашей сборной привозили с собой сказочного зверька Чебураш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Физические упражнения возникли в глубокой древности. Первобытным людям день и ночь надо было защищаться от нападения хищников, противостоять силам природы, добы­вать пищ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Иногда охотники сами становились добычей зверей. Выживали наиболее сильные, ловкие, выносливые, а значит, самые здоровы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Добывая пищу и защищаясь от хищников, люди бросали камни, палки; убегая от зверей, перелезали или перепрыгивали через различные препятств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ие движения выполняют первобытные люди на рисун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ocuments and Settings\Администратор\Рабочий стол\2.gif"/>
          <p:cNvPicPr/>
          <p:nvPr/>
        </p:nvPicPr>
        <p:blipFill>
          <a:blip r:embed="rId1"/>
          <a:srcRect l="4193" t="10168" r="3613" b="0"/>
          <a:stretch/>
        </p:blipFill>
        <p:spPr>
          <a:xfrm>
            <a:off x="357120" y="2076480"/>
            <a:ext cx="85885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кие движения выполняют первобытные люди на рисун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Администратор\Рабочий стол\1.jpg"/>
          <p:cNvPicPr/>
          <p:nvPr/>
        </p:nvPicPr>
        <p:blipFill>
          <a:blip r:embed="rId1"/>
          <a:stretch/>
        </p:blipFill>
        <p:spPr>
          <a:xfrm>
            <a:off x="357120" y="228600"/>
            <a:ext cx="41436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остепенно люди стали замечать, что результат тех или иных движений зависит от определённых приёмов. Например, палка или камень летит дальше, если перед броском сделать </a:t>
            </a:r>
            <a:r>
              <a:rPr b="0" i="1" lang="ru-RU" sz="3000" spc="-1" strike="noStrike">
                <a:solidFill>
                  <a:srgbClr val="990099"/>
                </a:solidFill>
                <a:latin typeface="Calibri"/>
              </a:rPr>
              <a:t>замах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Человек будет бежать быстрее, если немного </a:t>
            </a:r>
            <a:r>
              <a:rPr b="0" i="1" lang="ru-RU" sz="3000" spc="-1" strike="noStrike">
                <a:solidFill>
                  <a:srgbClr val="990099"/>
                </a:solidFill>
                <a:latin typeface="Calibri"/>
              </a:rPr>
              <a:t>наклонит туловище вперёд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;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рыгнет дальше, если </a:t>
            </a:r>
            <a:r>
              <a:rPr b="0" i="1" lang="ru-RU" sz="3000" spc="-1" strike="noStrike">
                <a:solidFill>
                  <a:srgbClr val="990099"/>
                </a:solidFill>
                <a:latin typeface="Calibri"/>
              </a:rPr>
              <a:t>разбежится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и т. 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одметив эти приёмы, люди начали их использовать во время охоты и в труде. Этому они учили своих детей. Так постепенно накапливались </a:t>
            </a:r>
            <a:r>
              <a:rPr b="1" lang="ru-RU" sz="3000" spc="-1" strike="noStrike">
                <a:solidFill>
                  <a:srgbClr val="990099"/>
                </a:solidFill>
                <a:latin typeface="Calibri"/>
              </a:rPr>
              <a:t>элементы культуры движений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которые в дальнейшем составили важную 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часть </a:t>
            </a:r>
            <a:r>
              <a:rPr b="1" lang="ru-RU" sz="3000" spc="-1" strike="noStrike">
                <a:solidFill>
                  <a:srgbClr val="990099"/>
                </a:solidFill>
                <a:latin typeface="Calibri"/>
              </a:rPr>
              <a:t>физической культуры и спорта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42876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Человек также понял, что после многочисленных бросков камень летит дальше. Часто прыгая через ямы и пробегая большие расстояния, охотник замечал, что прыгать и бегать он стал лучш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Другими словами, </a:t>
            </a:r>
            <a:r>
              <a:rPr b="0" i="1" lang="ru-RU" sz="3000" spc="-1" strike="noStrike">
                <a:solidFill>
                  <a:srgbClr val="990099"/>
                </a:solidFill>
                <a:latin typeface="Calibri"/>
              </a:rPr>
              <a:t>повторение движений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(то, что мы сейчас называем упражнениями) помогает не только </a:t>
            </a:r>
            <a:r>
              <a:rPr b="1" lang="ru-RU" sz="3000" spc="-1" strike="noStrike">
                <a:solidFill>
                  <a:srgbClr val="990099"/>
                </a:solidFill>
                <a:latin typeface="Calibri"/>
              </a:rPr>
              <a:t>лучше выполнять само движение, но и совершенствовать весь организ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рошло много – много лет со времени появления людей. Поколения сменяли друг друга. И дети перенимали опыт своих отцов и дедов. В свободное время люди не только отдыхали и развлекались, но готовились сами и готовили своих детей к трудностям жизни, к защите от врагов. Этим целям начали служить различные виды </a:t>
            </a: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упражн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древнегреческом городе Спарте юные граждане (7—20 лет) весь день находились в специальных школах. Там они занимались маршировкой, бегом, прыжками, метанием копья и т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А в древнегреческом городе Олимпия устраивались состязания — Олимпийские игры. Они проводились один раз в четыре года. На Олимпийских играх сильнейшие греческие атлеты состязались в беге, прыжках, метании копья, диска, борьбе, кулачном бою, гонках на колесниц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Перед состязаниями каждый атлет обязан был дать торжественную клятву соблюдать правила честной спортивной борьбы. Среди участников Олимпийских игр не должно было быть ни лжецов, ни воров, ни мошенников.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3.gif"/>
          <p:cNvPicPr/>
          <p:nvPr/>
        </p:nvPicPr>
        <p:blipFill>
          <a:blip r:embed="rId1"/>
          <a:stretch/>
        </p:blipFill>
        <p:spPr>
          <a:xfrm>
            <a:off x="1785960" y="1571760"/>
            <a:ext cx="5643720" cy="5172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 каком  виде  соревнований  участвуют эти атле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mka</dc:creator>
  <dc:description/>
  <dc:language>en-US</dc:language>
  <cp:lastModifiedBy>Ludmila</cp:lastModifiedBy>
  <dcterms:modified xsi:type="dcterms:W3CDTF">2017-09-07T06:18:20Z</dcterms:modified>
  <cp:revision>37</cp:revision>
  <dc:subject/>
  <dc:title>Слайд 1</dc:title>
</cp:coreProperties>
</file>