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3.gif" ContentType="image/gif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8.jpeg" ContentType="image/jpeg"/>
  <Override PartName="/ppt/media/image10.jpeg" ContentType="image/jpeg"/>
  <Override PartName="/ppt/media/image11.gif" ContentType="image/gif"/>
  <Override PartName="/ppt/media/image14.png" ContentType="image/png"/>
  <Override PartName="/ppt/media/image9.png" ContentType="image/png"/>
  <Override PartName="/ppt/media/image6.jpeg" ContentType="image/jpeg"/>
  <Override PartName="/ppt/media/image7.jpeg" ContentType="image/jpe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B447A-E220-4E33-8CC6-B81E1C4BFC2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800D4-4FFF-46D3-94B0-7A8EF1BEAA7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F7F8F-4DBC-464C-A476-5C9DDD853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80D9F-0EED-4B9C-8E6C-F8EE629F3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4D88B-F52F-49DE-B15A-D600FDBDD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F702A-5A3C-443A-8909-DE2A93148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2544E-6B76-4D9F-AE7F-D29C87577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BDD97-1D20-42D9-A77D-CE34D0EFF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631B8-05A8-4CE9-91B7-406E8BA86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1BE52-2921-4847-8763-77E1F9808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662FE-D318-4FFE-999C-BFBD52E18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F19C2-56C7-4648-8CFF-0A890987D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16DFF-8FBC-486E-885B-B16032B94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AB501-BE08-4B6A-8945-E68893060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0635B-AEF1-4FBC-AEF3-E6797F98AAA0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tabletennis.hobby.ru/rules/index.shtml" TargetMode="External"/><Relationship Id="rId2" Type="http://schemas.openxmlformats.org/officeDocument/2006/relationships/hyperlink" Target="http://images.yandex.ru/yandsearch?source=wiz&amp;fp=0&amp;text=&#1085;&#1072;&#1089;&#1090;&#1086;&#1083;&#1100;&#1085;&#1099;&#1081;%20&#1090;&#1077;&#1085;&#1085;&#1080;&#1089;&amp;noreask=1&amp;pos=6&amp;lr=67&amp;rpt=simage&amp;uinfo=ww-1263-wh-682-fw-1021-fh-476-pd-1&amp;img_url=http%3A%2F%2Fcs405928.vk.me%2Fg42369493%2Fd_8bbed04f.jpg" TargetMode="External"/><Relationship Id="rId3" Type="http://schemas.openxmlformats.org/officeDocument/2006/relationships/hyperlink" Target="http://images.yandex.ru/yandsearch?text=&#1085;&#1072;&#1089;&#1090;&#1086;&#1083;&#1100;&#1085;&#1099;&#1081;%20&#1090;&#1077;&#1085;&#1085;&#1080;&#1089;%20&#1088;&#1072;&#1079;&#1084;&#1077;&#1088;%20&#1089;&#1090;&#1086;&#1083;&#1072;&amp;fp=0&amp;pos=6&amp;uinfo=ww-1263-wh-682-fw-1038-fh-476-pd1&amp;rpt=simage&amp;img_url=http%3A%2F%2Fnews.bbcimg.co.uk%2Fmedia%2Fimages%2F41395000%2Fgif%2F_41395290_table_tennis2_416.gif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122"/>
          <p:cNvSpPr/>
          <p:nvPr/>
        </p:nvSpPr>
        <p:spPr>
          <a:xfrm flipV="1">
            <a:off x="4284720" y="5949360"/>
            <a:ext cx="165564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1"/>
          <p:cNvSpPr/>
          <p:nvPr/>
        </p:nvSpPr>
        <p:spPr>
          <a:xfrm>
            <a:off x="1100520" y="907920"/>
            <a:ext cx="6892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omic Sans MS"/>
              </a:rPr>
              <a:t>Настольный тенни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omic Sans MS"/>
              </a:rPr>
              <a:t>Правила игр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4"/>
          <p:cNvSpPr/>
          <p:nvPr/>
        </p:nvSpPr>
        <p:spPr>
          <a:xfrm>
            <a:off x="3786120" y="4214880"/>
            <a:ext cx="4038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читель физической культур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КОУ Казанакской ООШ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обец А.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i="1" lang="ru-RU" sz="4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Правильный возврат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793760" y="2646360"/>
            <a:ext cx="4380120" cy="38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оданный или возвращенный мяч следует ударить так, чтобы он пролетел над или вокруг комплекта сетки и коснулся (один раз) половины стола соперника сразу или после касаний комплекта сет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Рисунок 1" descr=""/>
          <p:cNvPicPr/>
          <p:nvPr/>
        </p:nvPicPr>
        <p:blipFill>
          <a:blip r:embed="rId1"/>
          <a:stretch/>
        </p:blipFill>
        <p:spPr>
          <a:xfrm>
            <a:off x="0" y="2205000"/>
            <a:ext cx="4788000" cy="43308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i="1" lang="ru-RU" sz="4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Порядок игры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95280" y="1773000"/>
            <a:ext cx="874872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5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В одиночных встречах подающий должен первым выполнить правильную подачу, принимающий должен затем выполнить правильный возврат, после чего подающий и принимающий поочередно выполняют правильный возвра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Рисунок 1" descr=""/>
          <p:cNvPicPr/>
          <p:nvPr/>
        </p:nvPicPr>
        <p:blipFill>
          <a:blip r:embed="rId1"/>
          <a:stretch/>
        </p:blipFill>
        <p:spPr>
          <a:xfrm>
            <a:off x="2484360" y="4221000"/>
            <a:ext cx="4826160" cy="180504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i="1" lang="ru-RU" sz="4400" spc="-1" strike="noStrike">
                <a:solidFill>
                  <a:srgbClr val="ffffff"/>
                </a:solidFill>
                <a:latin typeface="Comic Sans MS"/>
              </a:rPr>
              <a:t>Переигровка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0" y="1773000"/>
            <a:ext cx="914400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Розыгрыш переигрывается, есл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ри подаче мяч, пролетая «над или вокруг» комплекта сетки, коснется его (при условии, что во всех других отношениях подача выполнена правильно) или принимающий (или его партнер) помешает мяч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одача выполнена, когда принимающий (пара) не готов к приему мяча, при условии, что никто из принимающих не пытался отбить мяч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Ошибка при выполнении правильной подачи, правильного возврата или какого-либо другого требования правил игры произошла помимо воли игрок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Игра прервана судьей или судьей-ассистент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i="1" lang="ru-RU" sz="4400" spc="-1" strike="noStrike">
                <a:solidFill>
                  <a:srgbClr val="ffffff"/>
                </a:solidFill>
                <a:latin typeface="Comic Sans MS"/>
              </a:rPr>
              <a:t>Очко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0" y="1773000"/>
            <a:ext cx="914400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ts val="2599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Когда розыгрыш не переигрывается, игрок выигрывает очко, есл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ts val="2599"/>
              </a:lnSpc>
              <a:spcBef>
                <a:spcPts val="9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его соперник не выполнил правильную подач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ts val="2599"/>
              </a:lnSpc>
              <a:spcBef>
                <a:spcPts val="9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его соперник не выполнил правильный возврат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ts val="2599"/>
              </a:lnSpc>
              <a:spcBef>
                <a:spcPts val="9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после его правильной подачи или правильного возврата мяч до удара его соперника коснётся чего-либо, кроме комплекта сетк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ts val="2599"/>
              </a:lnSpc>
              <a:spcBef>
                <a:spcPts val="9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мяч, после того, как он был отбит соперником, пролетит над концевой линией стороны игровой поверхности данного игрока, не коснувшись е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ts val="2599"/>
              </a:lnSpc>
              <a:spcBef>
                <a:spcPts val="9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его соперник мешает мячу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ts val="2599"/>
              </a:lnSpc>
              <a:spcBef>
                <a:spcPts val="9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его соперник ударяет мяч дважды подряд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его соперник ударяет мяч стороной ракетки, поверхность которой не соответствует требования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i="1" lang="ru-RU" sz="4400" spc="-1" strike="noStrike">
                <a:solidFill>
                  <a:srgbClr val="ffffff"/>
                </a:solidFill>
                <a:latin typeface="Comic Sans MS"/>
              </a:rPr>
              <a:t>Партия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8920" y="2060640"/>
            <a:ext cx="547236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артию выигрывает игрок (пара), первым набравший 11 очков, если только оба игрока (пары) не набрали по 10 очков; в этом случае партия будет выиграна игроком (парой), который первым наберет на 2 очка больше соперника (пары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Рисунок 1" descr=""/>
          <p:cNvPicPr/>
          <p:nvPr/>
        </p:nvPicPr>
        <p:blipFill>
          <a:blip r:embed="rId1"/>
          <a:stretch/>
        </p:blipFill>
        <p:spPr>
          <a:xfrm>
            <a:off x="5219640" y="3645000"/>
            <a:ext cx="3600360" cy="285732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1" i="1" lang="ru-RU" sz="4400" spc="-1" strike="noStrike">
                <a:solidFill>
                  <a:srgbClr val="ffffff"/>
                </a:solidFill>
                <a:latin typeface="Comic Sans MS"/>
              </a:rPr>
              <a:t>Выбор подачи, приема и сторон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0" y="1844280"/>
            <a:ext cx="91440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раво выбрать стартовый порядок подачи, приема и сторону определяют жребием; выигравший это право, может выбрать: подачу или прием первым, начать встречу на определенной им стороне сто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Рисунок 1" descr=""/>
          <p:cNvPicPr/>
          <p:nvPr/>
        </p:nvPicPr>
        <p:blipFill>
          <a:blip r:embed="rId1"/>
          <a:stretch/>
        </p:blipFill>
        <p:spPr>
          <a:xfrm>
            <a:off x="2411280" y="4076640"/>
            <a:ext cx="4532400" cy="220176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802800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i="1" lang="ru-RU" sz="4400" spc="-1" strike="noStrike">
                <a:solidFill>
                  <a:srgbClr val="ffffff"/>
                </a:solidFill>
                <a:latin typeface="Comic Sans MS"/>
              </a:rPr>
              <a:t>Нарушение порядка подачи, приема или смены сторон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0" y="1844280"/>
            <a:ext cx="91440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Если игрок подает или принимает не в очередь, игра должна быть остановлена, как только ошибка обнаружена, а затем возобновлена с подачи и приема тех игроков, которым следовало подавать и принимать в соответствии с очередностью, установленной в начале встречи; в парных играх - в порядке очередности подач, определенных парой, получившей право первой подавать в партии, в течение которой обнаружена ошиб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Если игроки не поменялись сторонам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когда им следовало это сделать, игр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должна быть прервана судь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Рисунок 1" descr=""/>
          <p:cNvPicPr/>
          <p:nvPr/>
        </p:nvPicPr>
        <p:blipFill>
          <a:blip r:embed="rId1"/>
          <a:stretch/>
        </p:blipFill>
        <p:spPr>
          <a:xfrm>
            <a:off x="6588000" y="4508640"/>
            <a:ext cx="2006640" cy="200808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omic Sans MS"/>
              </a:rPr>
              <a:t>Список источник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0" y="1773000"/>
            <a:ext cx="914400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Comic Sans MS"/>
                <a:hlinkClick r:id="rId1"/>
              </a:rPr>
              <a:t>http://tabletennis.hobby.ru/rules/index.s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Comic Sans MS"/>
                <a:hlinkClick r:id="rId2"/>
              </a:rPr>
              <a:t>http://images.yandex.ru/yandsearch?source=wiz&amp;fp=0&amp;text=%D0%BD%D0%B0%D1%81%D1%82%D0%BE%D0%BB%D1%8C%D0%BD%D1%8B%D0%B9%20%D1%82%D0%B5%D0%BD%D0%BD%D0%B8%D1%81&amp;noreask=1&amp;pos=6&amp;lr=67&amp;rpt=simage&amp;uinfo=ww-1263-wh-682-fw-1021-fh-476-pd-1&amp;img_url=http%3A%2F%2Fcs405928.vk.me%2Fg42369493%2Fd_8bbed04f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Comic Sans MS"/>
                <a:hlinkClick r:id="rId3"/>
              </a:rPr>
              <a:t>http://images.yandex.ru/yandsearch?text=%D0%BD%D0%B0%D1%81%D1%82%D0%BE%D0%BB%D1%8C%D0%BD%D1%8B%D0%B9%20%D1%82%D0%B5%D0%BD%D0%BD%D0%B8%D1%81%20%D1%80%D0%B0%D0%B7%D0%BC%D0%B5%D1%80%20%D1%81%D1%82%D0%BE%D0%BB%D0%B0&amp;fp=0&amp;pos=6&amp;uinfo=ww-1263-wh-682-fw-1038-fh-476-pd1&amp;rpt=simage&amp;img_url=http%3A%2F%2Fnews.bbcimg.co.uk%2Fmedia%2Fimages%2F41395000%2Fgif%2F_41395290_table_tennis2_416.g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Comic Sans MS"/>
              </a:rPr>
              <a:t>http://images.yandex.ru/yandsearch?text=%D0%BD%D0%B0%D1%81%D1%82%D0%BE%D0%BB%D1%8C%D0%BD%D1%8B%D0%B9%20%D1%82%D0%B5%D0%BD%D0%BD%D0%B8%D1%81%20%D0%9A%D0%BE%D0%BC%D0%BF%D0%BB%D0%B5%D0%BA%D1%82%20%D1%81%D0%B5%D1%82%D0%BA%D0%B8&amp;fp=0&amp;pos=16&amp;uinfo=ww-1263-wh-682-fw-1038-fh-476-pd-1&amp;rpt=simage&amp;img_url=http%3A%2F%2Fimage.vcene.ua%2Fdata%2Fproducts%2F640946%2Fi-yashima-competition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http://images.yandex.ru/yandsearch?text=%D0%BD%D0%B0%D1%81%D1%82%D0%BE%D0%BB%D1%8C%D0%BD%D1%8B%D0%B9%20%D1%82%D0%B5%D0%BD%D0%BD%D0%B8%D1%81%20%D0%BC%D1%8F%D1%87&amp;fp=0&amp;pos=1&amp;uinfo=ww-1263-wh-682-fw-1038-fh-476-pd-1&amp;rpt=simage&amp;img_url=http%3A%2F%2Fd.wikimart.ru%2Fce%2F9d%2Fb2aa32e9-4c0e-43da-9b47-8fce9d5aaddd.jpe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Comic Sans MS"/>
              </a:rPr>
              <a:t>Содерж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1628280"/>
            <a:ext cx="9144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36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Сто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36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Комплект сет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36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Мя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36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Ракет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36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Опреде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36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mic Sans MS"/>
              </a:rPr>
              <a:t>Правильная подач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36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Правильный возвра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36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Порядок иг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36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mic Sans MS"/>
              </a:rPr>
              <a:t>Переигров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36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mic Sans MS"/>
              </a:rPr>
              <a:t>Очк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36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mic Sans MS"/>
              </a:rPr>
              <a:t>Парт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36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mic Sans MS"/>
              </a:rPr>
              <a:t>Выбор подачи, приема и стор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36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mic Sans MS"/>
              </a:rPr>
              <a:t>Нарушение порядка подачи, приема или смены стор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buNone/>
              <a:tabLst>
                <a:tab algn="l" pos="36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buNone/>
              <a:tabLst>
                <a:tab algn="l" pos="36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buNone/>
              <a:tabLst>
                <a:tab algn="l" pos="36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Рисунок 1" descr=""/>
          <p:cNvPicPr/>
          <p:nvPr/>
        </p:nvPicPr>
        <p:blipFill>
          <a:blip r:embed="rId1"/>
          <a:stretch/>
        </p:blipFill>
        <p:spPr>
          <a:xfrm>
            <a:off x="4572000" y="2060640"/>
            <a:ext cx="3922560" cy="35989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50920" y="404640"/>
            <a:ext cx="82296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i="1" lang="ru-RU" sz="4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Стол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9280" y="1773000"/>
            <a:ext cx="860436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Верхняя поверхность стола, называемая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«игровой поверхностью», длиной 2,74 м и шириной 1,525 м, должна быть прямоугольной и лежать в горизонтальной плоскости на высоте 76 см от пол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Рисунок 2" descr=""/>
          <p:cNvPicPr/>
          <p:nvPr/>
        </p:nvPicPr>
        <p:blipFill>
          <a:blip r:embed="rId1"/>
          <a:stretch/>
        </p:blipFill>
        <p:spPr>
          <a:xfrm>
            <a:off x="1835280" y="3408480"/>
            <a:ext cx="5362560" cy="31194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i="1" lang="ru-RU" sz="4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Комплект сетки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0" y="1628280"/>
            <a:ext cx="9144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Комплект сетки состоит из собственно сетки, подвесного шнура и опорных стое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Сетку подвешивают на шнур, привязанный с каждого конца к вертикальной части стоек высотой 15,25 см; длина выступающих частей стоек не должна превышать 15,25 см в сторону от боковых ли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Рисунок 1" descr=""/>
          <p:cNvPicPr/>
          <p:nvPr/>
        </p:nvPicPr>
        <p:blipFill>
          <a:blip r:embed="rId1"/>
          <a:stretch/>
        </p:blipFill>
        <p:spPr>
          <a:xfrm>
            <a:off x="4484520" y="3589200"/>
            <a:ext cx="4629240" cy="29498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i="1" lang="ru-RU" sz="4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Мяч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8000" y="2421000"/>
            <a:ext cx="485928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Мяч должен быть сферическим, диаметром 40 м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Масса мяча должна быть 2,7 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Мяч должен быть изготовлен из целлулоида или подобной пластмассы белого или оранжевого цвета, матовым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Рисунок 1" descr=""/>
          <p:cNvPicPr/>
          <p:nvPr/>
        </p:nvPicPr>
        <p:blipFill>
          <a:blip r:embed="rId2"/>
          <a:stretch/>
        </p:blipFill>
        <p:spPr>
          <a:xfrm>
            <a:off x="4795920" y="2565360"/>
            <a:ext cx="4348080" cy="29066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i="1" lang="ru-RU" sz="4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Ракетка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1844280"/>
            <a:ext cx="91440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Ракетка может быть любого размера, формы и массы, но ее лопасть должна быть плоской и жестк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о крайней мере, 85% лопасти по толщине должно быть из натурального дерев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Рисунок 1" descr=""/>
          <p:cNvPicPr/>
          <p:nvPr/>
        </p:nvPicPr>
        <p:blipFill>
          <a:blip r:embed="rId1"/>
          <a:stretch/>
        </p:blipFill>
        <p:spPr>
          <a:xfrm>
            <a:off x="539640" y="3481560"/>
            <a:ext cx="4500720" cy="3019320"/>
          </a:xfrm>
          <a:prstGeom prst="rect">
            <a:avLst/>
          </a:prstGeom>
          <a:ln w="0">
            <a:noFill/>
          </a:ln>
        </p:spPr>
      </p:pic>
      <p:pic>
        <p:nvPicPr>
          <p:cNvPr id="67" name="Рисунок 2" descr=""/>
          <p:cNvPicPr/>
          <p:nvPr/>
        </p:nvPicPr>
        <p:blipFill>
          <a:blip r:embed="rId2"/>
          <a:stretch/>
        </p:blipFill>
        <p:spPr>
          <a:xfrm>
            <a:off x="4653000" y="3444840"/>
            <a:ext cx="3933720" cy="30416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i="1" lang="ru-RU" sz="4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Определения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0" y="1844280"/>
            <a:ext cx="91440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398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«Розыгрыш» - период времени, когда мяч находится в игр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398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«Переигровка» - розыгрыш, результат которого не засчита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398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«Очко» - розыгрыш, результат которого засчита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398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«Рука с ракеткой» - рука, держащая ракетк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398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«Свободная рука» - рука без ракет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398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Игрок «ударяет» мяч, если он касается мяча своей ракеткой, держа ее рукой, или своей рукой (с ракеткой) ниже запясть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398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«Подающий» - игрок, который должен первым ударить по мячу в розыгрыш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398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«Принимающий» - игрок, который должен вторым ударить по мячу в розыгрыш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Определ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0" y="1915920"/>
            <a:ext cx="91440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«Судья» - лицо, назначенное контролировать встреч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5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«Судья-ассистент» - лицо, назначенное содействовать судье в принятии определенных реш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5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онятие игрок «надевает или носит» включает в себя все, что на нем было надето или что он носил в начале розыгрыш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5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Мяч считается прошедшим «над или вокруг» комплекта сетки, если он пролетел как угодно, но не между сеткой и стойкой сетки или между сеткой и игровой поверхность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5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«Концевую линию» следует рассматривать продолжающейся неопределенно долго в обоих направления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i="1" lang="ru-RU" sz="4400" spc="-1" strike="noStrike">
                <a:solidFill>
                  <a:srgbClr val="ffffff"/>
                </a:solidFill>
                <a:latin typeface="Comic Sans MS"/>
              </a:rPr>
              <a:t>Правильная подача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0" y="2060280"/>
            <a:ext cx="91440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одающий должен подбросить мяч только рукой так, чтобы мяч  взлетел  не менее чем на 16см после того, как он покинул ладонь свободной руки подающего и опустился, не коснувшись чего-либо до удара по нему ракетк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Рисунок 1" descr=""/>
          <p:cNvPicPr/>
          <p:nvPr/>
        </p:nvPicPr>
        <p:blipFill>
          <a:blip r:embed="rId1"/>
          <a:stretch/>
        </p:blipFill>
        <p:spPr>
          <a:xfrm>
            <a:off x="1908000" y="3860640"/>
            <a:ext cx="5380200" cy="24307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Рита</cp:lastModifiedBy>
  <dcterms:modified xsi:type="dcterms:W3CDTF">2021-11-03T13:09:35Z</dcterms:modified>
  <cp:revision>692</cp:revision>
  <dc:subject/>
  <dc:title>Diapositiva 1</dc:title>
</cp:coreProperties>
</file>