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525-CE15-4BDD-B266-933FA564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9C9-3BCD-4CBC-9B0C-5525DC54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442-C2F6-45B3-9BE7-60F19BD0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4C5-B205-4B40-838C-70A7A4EA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825-1538-4144-B768-E51005F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378-B8DD-4837-B9F2-45FC117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D76-42B3-4174-A609-00CDEFE9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321-AA35-477E-9D58-79963803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D7C-D16F-4243-A67A-55E152B3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3AF-321D-4FBB-9646-8484DB18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62E-A476-4CE7-AAEA-A5709122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E92-D3D0-487A-8D09-C5D3DBC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CC14-49BA-46DC-BC79-594014CCE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1700280"/>
            <a:ext cx="8373960" cy="25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именьшее общее кратное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7398000" y="26028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3760" y="1700280"/>
            <a:ext cx="8373960" cy="25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именьшее общее кратное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415280" y="26028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71640" y="404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на простые множители числа 75, 60 и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11280" y="1341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 =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19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 =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476360" y="1773360"/>
            <a:ext cx="28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908000" y="1773360"/>
            <a:ext cx="28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484360" y="1773360"/>
            <a:ext cx="28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1547640" y="2421000"/>
            <a:ext cx="2890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2050920" y="2421000"/>
            <a:ext cx="2890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11280" y="328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!! 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835280" y="4581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К(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5950080"/>
            <a:ext cx="8650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611280" y="2492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=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4284720" y="5084640"/>
            <a:ext cx="288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4716360" y="5084640"/>
            <a:ext cx="28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5292720" y="5084640"/>
            <a:ext cx="28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5796000" y="5084640"/>
            <a:ext cx="288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6299280" y="5084640"/>
            <a:ext cx="2887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900000" y="189000"/>
            <a:ext cx="2387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60520" y="1268280"/>
            <a:ext cx="856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найти наименьшее общее кратное нескольких натуральных чисел, над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ть их на простые множит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124000" y="260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НОД(96;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55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258920" y="170028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1557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916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403280" y="1844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22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403280" y="2276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11280" y="26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403280" y="263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5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403280" y="2997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55640" y="3284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403280" y="3284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755640" y="3573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484360" y="162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3203640" y="177156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348000" y="162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629080" y="19875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348000" y="19875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2629080" y="23479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3348000" y="2708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2700360" y="306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2700360" y="3429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348000" y="234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2627280" y="2708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3348000" y="306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3419640" y="3500280"/>
            <a:ext cx="28728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1763640" y="4005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К(9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8" descr=""/>
          <p:cNvPicPr/>
          <p:nvPr/>
        </p:nvPicPr>
        <p:blipFill>
          <a:blip r:embed="rId1"/>
          <a:stretch/>
        </p:blipFill>
        <p:spPr>
          <a:xfrm>
            <a:off x="0" y="4581360"/>
            <a:ext cx="1909800" cy="2052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0"/>
          <p:cNvSpPr/>
          <p:nvPr/>
        </p:nvSpPr>
        <p:spPr>
          <a:xfrm>
            <a:off x="7093080" y="4005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7667640" y="4005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2195640" y="4941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2771640" y="4941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608360" y="3284640"/>
            <a:ext cx="41212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30200" y="1700280"/>
            <a:ext cx="8461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ейцы знали только три совершенных числа. Этими числами являются например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и 28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 = 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ёртое чис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128 стало известн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еке нашей э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431640" y="179280"/>
            <a:ext cx="84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 (6-й век до н.э.) и его ученики изучали вопрос о делимости чисел. Число, равное сумме всех его делителей (без самого числа), они называли совершенным чис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из уч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3, 184(а, б), 185(а, 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646360" cy="2844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3276720" y="345600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7,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7, 211 (а), 215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4788000" y="3141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определение наименьшего общего кратного натуральных чисел (Н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алгоритм нахождения 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1116000" y="26028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Oval 3"/>
          <p:cNvSpPr/>
          <p:nvPr/>
        </p:nvSpPr>
        <p:spPr>
          <a:xfrm>
            <a:off x="7524720" y="184464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4284720" y="1916280"/>
            <a:ext cx="93672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627280" y="1916280"/>
            <a:ext cx="93672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5940360" y="1916280"/>
            <a:ext cx="1008000" cy="938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00000" y="2060640"/>
            <a:ext cx="8654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740720" y="206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219640" y="1916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835280" y="177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564000" y="177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877080" y="1773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084720" y="2060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971640" y="21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627280" y="2060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427640" y="2133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579760" cy="27734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2"/>
          <p:cNvSpPr/>
          <p:nvPr/>
        </p:nvSpPr>
        <p:spPr>
          <a:xfrm>
            <a:off x="1763640" y="2205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3564000" y="2205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219640" y="227664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6948360" y="227664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4716360" y="476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пропущен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1116000" y="26028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ем у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4360" y="126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тные числам 10 и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4360" y="206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2852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547640" y="2060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; 20; 30; 40; 50; 60; 70; 80; 90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547640" y="28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; 30; 45; 60; 75; 90;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5280" y="364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общие кратные чисел 10 и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2916360" y="256536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6588000" y="249228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16360" y="2565360"/>
            <a:ext cx="36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268360" y="3357720"/>
            <a:ext cx="36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492360" y="335772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4716360" y="335772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468360" y="4437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наименьшее общее кратное чисел 10 и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4284720" y="530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755640" y="404640"/>
            <a:ext cx="7848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3780000" y="2349360"/>
            <a:ext cx="26319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29811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55640" y="18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им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9640" y="62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Володи 75 см, а шаг Кати 60 см. На каком наименьшем расстоянии они оба сделают по целому числу шаг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2379600" cy="308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656000" cy="324036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>
            <a:off x="971640" y="573408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58920" y="59500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6156360" y="5157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443640" y="5373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635280" y="2492280"/>
            <a:ext cx="7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39640" y="476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сантиметров пути должно быть кратным и 75, и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5280" y="2060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2852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16000" y="206064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; 150; 225; 300; 375; 450; 525; 600; 675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34920" y="28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; 120; 180; 240; 300; 360; 420; 480; 540;600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95280" y="364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общие кратные чисел 75 и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492360" y="2565360"/>
            <a:ext cx="503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6732720" y="249228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4067280" y="3357720"/>
            <a:ext cx="576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101080" y="3357720"/>
            <a:ext cx="5745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468360" y="4437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наименьшее общее кратное чисел 75 и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4284720" y="530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24000" y="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39640" y="141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шем числа, кратные 75 и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379600" cy="308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1656000" cy="324000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684360" y="4941720"/>
            <a:ext cx="1655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00000" y="5084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6804000" y="4653000"/>
            <a:ext cx="11527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948360" y="4941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95280" y="189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овательно наименьшим расстоянием, на котором Володя и Катя сделают целое число шагов, будет 300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95640" y="1413000"/>
            <a:ext cx="7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348000" y="2421000"/>
            <a:ext cx="25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при этом шагов сделает Володя и сколько Кат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5280" y="5589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: 75 = 4(ша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932360" y="551664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: 60 = 5(шаг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68360" y="476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126828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меньшим общим кратным натураль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ют наименьшее натуральное число, которое кратно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579760" cy="27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003640" y="306864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сывают НОК(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356000" y="46530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Д(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00720" y="5589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Д(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7:07:56Z</dcterms:created>
  <dc:creator>User</dc:creator>
  <dc:description/>
  <dc:language>en-US</dc:language>
  <cp:lastModifiedBy>User</cp:lastModifiedBy>
  <dcterms:modified xsi:type="dcterms:W3CDTF">2021-10-11T16:35:12Z</dcterms:modified>
  <cp:revision>7</cp:revision>
  <dc:subject/>
  <dc:title>Наименьшее общее кратное.  урок математики, 6 класс, УМК Н.Я. Виленкин</dc:title>
</cp:coreProperties>
</file>