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F3CE-D43E-440D-A783-DD0CCF9861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CA8D-FE07-4A3B-BCD4-D8B6304925C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K:\ProPowerPoint\Шаблоны\ПРИРОДА\Поле\Pole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Box 6"/>
          <p:cNvSpPr/>
          <p:nvPr/>
        </p:nvSpPr>
        <p:spPr>
          <a:xfrm>
            <a:off x="7483680" y="653580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ston"/>
              </a:rPr>
              <a:t>ProPowerPoint.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K:\ProPowerPoint\Шаблоны\ПРИРОДА\Поле\Pole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7483680" y="653580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ston"/>
              </a:rPr>
              <a:t>ProPowerPoint.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K:\ProPowerPoint\Шаблоны\ПРИРОДА\Поле\Po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е пропус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текста – это то, о чём в нём говорит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может отражаться в заголовке тек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умаем вмест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их словах выражена тема текс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каких словах выражена главная мысл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уйте главную мысль текст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s://ds04.infourok.ru/uploads/ex/10f4/000da583-497b26d3/img2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ПРАЖНЕНИЕ 1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Объект 3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79464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Bookman Old Style"/>
              </a:rPr>
              <a:t>Работа с текстом (письменно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заглавить, списать текс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пределить тему и основную мысль текс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..л..дая верба была самым весёл..м, самым наря…н..м дер..вцем  (во)   всём переле…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а ст..яла на самом кр…ю оврага среди ольховых кустов. Её темно-красные ветки были украшены бел..ми шелковист..ми комоч(?)ками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https://i.artfile.ru/2560x1920_816028_%5bwww.ArtFile.ru%5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ые вопросы на с. 55 (по пар.6-2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ся к контрольной рабо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064360" cy="208908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мысль текс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2852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онятие об основной мысли тек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отличие основной мысли текста от его 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к теме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 из вас легко писать сочин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что такое  ТЕМА СОЧИНЕНИЯ? Как вы это понимае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к вы думаете, интересно ли писать об обычном чайни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1"/>
          <a:stretch/>
        </p:blipFill>
        <p:spPr>
          <a:xfrm>
            <a:off x="4427640" y="3357720"/>
            <a:ext cx="376848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этическая пяти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41000"/>
            <a:ext cx="5843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затый чайник знамен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юбое время год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 когда сто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ажная по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ых-пых, горячий вкусный ч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нит скуку и печа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– с медом, он – с варенье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удесным настроень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.Мори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E:\Все для презентаций\Картинки предметы\chay_chashki_apelsin_kozhura_badyan_anis_korica_palochki_chaynik_85019_602x339.jpg"/>
          <p:cNvPicPr/>
          <p:nvPr/>
        </p:nvPicPr>
        <p:blipFill>
          <a:blip r:embed="rId1"/>
          <a:stretch/>
        </p:blipFill>
        <p:spPr>
          <a:xfrm>
            <a:off x="5219640" y="1413000"/>
            <a:ext cx="2611440" cy="14698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" descr=""/>
          <p:cNvPicPr/>
          <p:nvPr/>
        </p:nvPicPr>
        <p:blipFill>
          <a:blip r:embed="rId2"/>
          <a:stretch/>
        </p:blipFill>
        <p:spPr>
          <a:xfrm>
            <a:off x="7373880" y="4660920"/>
            <a:ext cx="1505160" cy="14479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" descr=""/>
          <p:cNvPicPr/>
          <p:nvPr/>
        </p:nvPicPr>
        <p:blipFill>
          <a:blip r:embed="rId3"/>
          <a:stretch/>
        </p:blipFill>
        <p:spPr>
          <a:xfrm>
            <a:off x="7975440" y="692280"/>
            <a:ext cx="111456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"/>
          <p:cNvPicPr/>
          <p:nvPr/>
        </p:nvPicPr>
        <p:blipFill>
          <a:blip r:embed="rId4"/>
          <a:stretch/>
        </p:blipFill>
        <p:spPr>
          <a:xfrm>
            <a:off x="6188040" y="2792520"/>
            <a:ext cx="27129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седуе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8920" y="76464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тема этого стихотворения (о чем здесь говорится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чайн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чем нам о нём рассказывают? В чём хотят убеди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дуйтесь простым вещам, умейте разглядеть необычное в обыденном – и жизнь ваша будет интерес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стихотворение получилось интересны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1"/>
          <a:stretch/>
        </p:blipFill>
        <p:spPr>
          <a:xfrm>
            <a:off x="6804000" y="1484280"/>
            <a:ext cx="11145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1960"/>
            <a:ext cx="8229600" cy="114300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к рассуждени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ихотворении Юнны Мориц чайник словно оживает: приобретает портретные черты (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зат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голос (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ых-п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общественное положение (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овится знамени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чай, наполняющий чайник, создает настроение (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гонит скуку и печа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чудесным настроени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различает понятия «ТЕМА» И «ОСНОВНАЯ МЫСЛЬ ТЕКСТА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</a:t>
            </a:r>
            <a:r>
              <a:rPr b="1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использует данную тем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того, чтобы </a:t>
            </a:r>
            <a:r>
              <a:rPr b="1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ыразить основную мыс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7451640" y="2421000"/>
            <a:ext cx="15051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Что называется темой текс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Тема текста – то, о чем говорится в текс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2. Что такое основная мысль текс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Основная мысль текста – то, в чём убеждает нас авт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умаем вмест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товарищ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 по лесу два товарища и выскочил на них медведь. Один бросился бежать, влез на дерево и спрятался, а другой остался на дороге. Деваться ему было некуда – бросился он на землю и притворился мертв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 подошел к нему и стал нюхать, он и дышать перестал. Медведь понюхал ему лицо, подумал, что мертвый, и отош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медведь ушел, тот слез с дерева и смеется: «Ну что, - говорит, – медведь тебе на ухо говорил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 он сказал мне, что плохие люди те, которые в опасности от товарищей убегаю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Н.Толсто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3T19:16:37Z</dcterms:created>
  <dc:creator>Людмила</dc:creator>
  <dc:description>http://propowerpoint.ru - Бесплатные шаблоны для презентаций. Полезные советы и уроки  PowerPoint .</dc:description>
  <dc:language>en-US</dc:language>
  <cp:lastModifiedBy>Иван</cp:lastModifiedBy>
  <dcterms:modified xsi:type="dcterms:W3CDTF">2021-11-03T08:41:51Z</dcterms:modified>
  <cp:revision>2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90000000000010243100207f8000400038000</vt:lpwstr>
  </property>
</Properties>
</file>