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FC4E-F935-4D86-BD68-56F1A4B6F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2B06-F6D7-49CF-94AC-DDFF8689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F496-4935-46C2-9848-4E92BC1D9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1B40-6A4E-4C26-B95D-99BB63898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4E85-A208-4ED5-9845-E4CC5189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1F63-73AA-42ED-B3E7-9E02BC5D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D034-5C12-4EC2-AB7B-B60544D7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AA63-4BF8-4B53-B219-D39469A4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DFF1-7643-46C2-BBB9-FCCD195B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88C4-F46E-4C5B-AE59-1EAF2086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E5B2-813A-431E-8924-7D2B61B6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CEDC-D50F-471B-AD02-527C7CA9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0199-8298-44C6-886F-5BEEEFAA8A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915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0000"/>
                </a:solidFill>
                <a:latin typeface="Times New Roman"/>
              </a:rPr>
              <a:t>Письмо   ветерану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3640" y="3645000"/>
            <a:ext cx="85690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ассный  час  2 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Памятка: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Зачин: приветствие, обращение. («Здравствуйте», «многоуважаемый»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Информационная часть: основная информация, которую нужно передать. (Интересуются здоровьем. Высказывают причину, цель написания письма. «Приветствую», «обращаюсь», «хочу рассказать», «ценю ваше мнение», «глубоко благодарен», «хочу рассказать о своих»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Концовка, заключение, состоящее из подписи и выражения знаков почтения («До свидания!», «Всего хорошего!», «С благодарностью к вам…» Ребята, почти в каждом письме могут стоять две буквы –Р.С. или Р.S.. Это означает, что автор письма хотел бы поделиться ещё одной важной мысль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читайте пословицы, которые написаны на дос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· Жизнь прожить – не поле перей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· Жизнь одна на добрые дел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Что эти пословицы означают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1557000"/>
            <a:ext cx="86421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0000"/>
                </a:solidFill>
                <a:latin typeface="Times New Roman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3640" y="2421000"/>
            <a:ext cx="8569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чить детей правильно писать личные письм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вать у детей умение передавать свои эмоциональные чувства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вать интерес к истор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ть активную жизненную позицию, чувство сопережив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спитывать уважение, почитание старших и пожилых людей, к дому, семь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699920"/>
            <a:ext cx="86425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0000"/>
                </a:solidFill>
                <a:latin typeface="Times New Roman"/>
              </a:rPr>
              <a:t>Значение слов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997360"/>
            <a:ext cx="856944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теран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евая поч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чтальо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исьм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дреса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ловари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тер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евая поч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чтальо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исьм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дреса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тник Отече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д почтового обслуживания в войсковых част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ужащий почтового  ведом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кст, переписка(эпистолярный жанр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астник переписки, предполагаемый получатель пись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етера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ядом с нами живут ветераны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прошли по дорогам войны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усть болят у них старые раны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 по-прежнему духом сильн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теранам нельзя на покой уходит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гда мир вновь тревогой объят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юди новой войны не должны допустит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ночам ветераны не спят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м погибших друзей не забыть никогд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отя в этом и нет их вин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 в душе рядом с ними они навсегд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не могут уйти от войн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тому ветераны себя не щадят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з волнения жить - не для них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рким пламенем жизни сердца их горят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борьбу вдохновляя други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етера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ивут на земле ветераны войны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лдатскому братству как прежде верн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них на груди орден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них на висках седин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ивут среди нас ветераны вой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 небом просторным, среди тишин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только ночами порой не до сна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чами врывается в сердце войн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ивут среди нас ветераны войны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 подвиге их забывать не должны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и и взрослые всей страны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4" descr="http://im1-tub-ru.yandex.net/i?id=120998025-03-72&amp;n=21"/>
          <p:cNvPicPr/>
          <p:nvPr/>
        </p:nvPicPr>
        <p:blipFill>
          <a:blip r:embed="rId1"/>
          <a:stretch/>
        </p:blipFill>
        <p:spPr>
          <a:xfrm>
            <a:off x="611280" y="1916280"/>
            <a:ext cx="2592360" cy="20890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http://im2-tub-ru.yandex.net/i?id=314137621-14-72&amp;n=21"/>
          <p:cNvPicPr/>
          <p:nvPr/>
        </p:nvPicPr>
        <p:blipFill>
          <a:blip r:embed="rId2"/>
          <a:stretch/>
        </p:blipFill>
        <p:spPr>
          <a:xfrm>
            <a:off x="3619440" y="1916280"/>
            <a:ext cx="1905120" cy="20174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6" descr="http://im3-tub-ru.yandex.net/i?id=194338608-71-72&amp;n=21"/>
          <p:cNvPicPr/>
          <p:nvPr/>
        </p:nvPicPr>
        <p:blipFill>
          <a:blip r:embed="rId3"/>
          <a:stretch/>
        </p:blipFill>
        <p:spPr>
          <a:xfrm>
            <a:off x="6084720" y="1989000"/>
            <a:ext cx="2152800" cy="18716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7" descr="http://im7-tub-ru.yandex.net/i?id=32992594-10-72&amp;n=21"/>
          <p:cNvPicPr/>
          <p:nvPr/>
        </p:nvPicPr>
        <p:blipFill>
          <a:blip r:embed="rId4"/>
          <a:stretch/>
        </p:blipFill>
        <p:spPr>
          <a:xfrm>
            <a:off x="684360" y="4221000"/>
            <a:ext cx="2447640" cy="21607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8" descr="http://im2-tub-ru.yandex.net/i?id=45010321-14-72&amp;n=21"/>
          <p:cNvPicPr/>
          <p:nvPr/>
        </p:nvPicPr>
        <p:blipFill>
          <a:blip r:embed="rId5"/>
          <a:stretch/>
        </p:blipFill>
        <p:spPr>
          <a:xfrm>
            <a:off x="3564000" y="4149720"/>
            <a:ext cx="2268360" cy="18604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9" descr="http://im7-tub-ru.yandex.net/i?id=66924492-47-72&amp;n=21"/>
          <p:cNvPicPr/>
          <p:nvPr/>
        </p:nvPicPr>
        <p:blipFill>
          <a:blip r:embed="rId6"/>
          <a:stretch/>
        </p:blipFill>
        <p:spPr>
          <a:xfrm>
            <a:off x="6156360" y="4149720"/>
            <a:ext cx="2211480" cy="1787400"/>
          </a:xfrm>
          <a:prstGeom prst="rect">
            <a:avLst/>
          </a:prstGeom>
          <a:ln w="0">
            <a:noFill/>
          </a:ln>
        </p:spPr>
      </p:pic>
      <p:pic>
        <p:nvPicPr>
          <p:cNvPr id="60" name="Mark_Bernes-Temnaja_noch_.mp3" descr=""/>
          <p:cNvPicPr/>
          <p:nvPr/>
        </p:nvPicPr>
        <p:blipFill>
          <a:blip r:embed="rId7"/>
          <a:stretch/>
        </p:blipFill>
        <p:spPr>
          <a:xfrm>
            <a:off x="8675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208926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62864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. Исаковск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т маленький белый листок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ылаю в землянку к теб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бы строчками этими мог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о думать в бою обо мн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давая пощады врагу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б, в землянке порой находясь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л: любовь я твою берегу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поминаю тебя каждый ча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учит ветеран твое письм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И может вспомнит и свое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 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торое писал с войн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мой любимым и родным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 Смахнет слезу, помянет друг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  Как  им бывало туго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    Как до победы долго шли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    Как верили в нее они.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5T17:28:10Z</dcterms:created>
  <dc:creator>Владелец</dc:creator>
  <dc:description/>
  <dc:language>en-US</dc:language>
  <cp:lastModifiedBy>Владелец</cp:lastModifiedBy>
  <dcterms:modified xsi:type="dcterms:W3CDTF">2014-04-26T05:06:17Z</dcterms:modified>
  <cp:revision>13</cp:revision>
  <dc:subject/>
  <dc:title>Письмо   ветерану.</dc:title>
</cp:coreProperties>
</file>