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DD2C-233D-4EE0-B456-272A9423D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5C4B-456C-4642-96C2-EA264BDAD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71B4-5F4A-4AC8-AFC2-149134062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E499-7E88-4F18-8C56-1F57C2325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F1E2D-7611-4D97-BA4B-D791FCF63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90447-79D7-4769-B738-88A2FB0ED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B3C59-AB48-4766-A7AE-B6147ADCC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74B74-B13D-470C-A282-F39E4CB00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8BEFB-A79C-4795-A9C1-231282274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D21B9-48F3-4DC1-A7BB-B08EEC30F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22F5F-DFA3-44AC-A38E-D593D36C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A2BF-5DB2-4E97-8AAE-3DA5DDAAC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ADAFA-546E-403D-9C96-15E4BD79B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4A12D-8D04-41FB-BEEF-31D77666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4202F-E230-4FAF-B253-6493FCEB4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F9A5C-2F52-41C9-857A-D378728BB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9FA99-9BF0-4F9E-871B-2C590CF6A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BEFD-29A2-4A56-B64C-61BD95A06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85BE-CB57-47A1-A2C9-246C8C7DA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A0B1-D866-403C-96FF-53829738F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1B03-BF6A-4E92-A754-75A7E1658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BF1B-A68A-4B9D-A29D-D76CB05E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E895-84BA-4EC8-9340-C9E08D5B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F544-B64E-49A5-A0AC-3A99AF2C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D2D57-A574-4EA7-AD21-075D6E5AF8C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A829A-BBB5-48B1-9146-09BE9582EE2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4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3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03280" y="90756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Здравствуй,  школа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618920" y="321264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ервые  уроки  математик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 6 класс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2678040" y="4292640"/>
            <a:ext cx="412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omic Sans MS"/>
              </a:rPr>
              <a:t>Повторение. Уравнен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4632480" y="6035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6870600" cy="112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Решение уравнений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356000" y="1557000"/>
            <a:ext cx="388152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2,8 – х = 0,1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0" name="Picture 4" descr=""/>
          <p:cNvPicPr/>
          <p:nvPr/>
        </p:nvPicPr>
        <p:blipFill>
          <a:blip r:embed="rId1"/>
          <a:stretch/>
        </p:blipFill>
        <p:spPr>
          <a:xfrm rot="20849400">
            <a:off x="1403280" y="1916280"/>
            <a:ext cx="2525760" cy="360180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5"/>
          <p:cNvSpPr/>
          <p:nvPr/>
        </p:nvSpPr>
        <p:spPr>
          <a:xfrm>
            <a:off x="4643280" y="2708280"/>
            <a:ext cx="38815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3,2х = 12,8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AutoShape 7"/>
          <p:cNvSpPr/>
          <p:nvPr/>
        </p:nvSpPr>
        <p:spPr>
          <a:xfrm>
            <a:off x="4427640" y="1989000"/>
            <a:ext cx="3095640" cy="720720"/>
          </a:xfrm>
          <a:custGeom>
            <a:avLst/>
            <a:gdLst>
              <a:gd name="textAreaLeft" fmla="*/ 706680 w 3095640"/>
              <a:gd name="textAreaRight" fmla="*/ 2388960 w 3095640"/>
              <a:gd name="textAreaTop" fmla="*/ 164520 h 720720"/>
              <a:gd name="textAreaBottom" fmla="*/ 5562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х = 2,67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Rectangle 8"/>
          <p:cNvSpPr/>
          <p:nvPr/>
        </p:nvSpPr>
        <p:spPr>
          <a:xfrm>
            <a:off x="3851280" y="4076640"/>
            <a:ext cx="4537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5,9х + 2,3х = 27,88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AutoShape 9"/>
          <p:cNvSpPr/>
          <p:nvPr/>
        </p:nvSpPr>
        <p:spPr>
          <a:xfrm>
            <a:off x="4427640" y="3284640"/>
            <a:ext cx="3095640" cy="720720"/>
          </a:xfrm>
          <a:custGeom>
            <a:avLst/>
            <a:gdLst>
              <a:gd name="textAreaLeft" fmla="*/ 706680 w 3095640"/>
              <a:gd name="textAreaRight" fmla="*/ 2388960 w 3095640"/>
              <a:gd name="textAreaTop" fmla="*/ 164520 h 720720"/>
              <a:gd name="textAreaBottom" fmla="*/ 5562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ff99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х = 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AutoShape 10"/>
          <p:cNvSpPr/>
          <p:nvPr/>
        </p:nvSpPr>
        <p:spPr>
          <a:xfrm>
            <a:off x="4500720" y="4653000"/>
            <a:ext cx="3095640" cy="720720"/>
          </a:xfrm>
          <a:custGeom>
            <a:avLst/>
            <a:gdLst>
              <a:gd name="textAreaLeft" fmla="*/ 706680 w 3095640"/>
              <a:gd name="textAreaRight" fmla="*/ 2388960 w 3095640"/>
              <a:gd name="textAreaTop" fmla="*/ 164520 h 720720"/>
              <a:gd name="textAreaBottom" fmla="*/ 5562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х = 3,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3492360" y="5373720"/>
            <a:ext cx="5042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13 + 3,2х + 0,4х = 4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AutoShape 12"/>
          <p:cNvSpPr/>
          <p:nvPr/>
        </p:nvSpPr>
        <p:spPr>
          <a:xfrm>
            <a:off x="4500720" y="5877000"/>
            <a:ext cx="3095640" cy="720720"/>
          </a:xfrm>
          <a:custGeom>
            <a:avLst/>
            <a:gdLst>
              <a:gd name="textAreaLeft" fmla="*/ 706680 w 3095640"/>
              <a:gd name="textAreaRight" fmla="*/ 2388960 w 3095640"/>
              <a:gd name="textAreaTop" fmla="*/ 164520 h 720720"/>
              <a:gd name="textAreaBottom" fmla="*/ 5562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х = 7,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0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Задача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303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Comic Sans MS"/>
              </a:rPr>
              <a:t>Из одного и того же пункта одновременно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Comic Sans MS"/>
              </a:rPr>
              <a:t>в противоположных направлениях вышл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Comic Sans MS"/>
              </a:rPr>
              <a:t>Гена и Чарли. Через 3 часа расстоя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Comic Sans MS"/>
              </a:rPr>
              <a:t>между ними стало 21 км. Найдите скорость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Comic Sans MS"/>
              </a:rPr>
              <a:t>Чарли, если скорость Гены 4 км/ч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tretch/>
        </p:blipFill>
        <p:spPr>
          <a:xfrm>
            <a:off x="3419640" y="4410000"/>
            <a:ext cx="1896840" cy="24480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" descr=""/>
          <p:cNvPicPr/>
          <p:nvPr/>
        </p:nvPicPr>
        <p:blipFill>
          <a:blip r:embed="rId2"/>
          <a:stretch/>
        </p:blipFill>
        <p:spPr>
          <a:xfrm>
            <a:off x="4284720" y="4437000"/>
            <a:ext cx="1638360" cy="2421000"/>
          </a:xfrm>
          <a:prstGeom prst="rect">
            <a:avLst/>
          </a:prstGeom>
          <a:ln w="0">
            <a:noFill/>
          </a:ln>
        </p:spPr>
      </p:pic>
      <p:sp>
        <p:nvSpPr>
          <p:cNvPr id="242" name="Oval 6"/>
          <p:cNvSpPr/>
          <p:nvPr/>
        </p:nvSpPr>
        <p:spPr>
          <a:xfrm>
            <a:off x="539640" y="3933720"/>
            <a:ext cx="1513080" cy="576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ef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4 км/ч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Oval 7"/>
          <p:cNvSpPr/>
          <p:nvPr/>
        </p:nvSpPr>
        <p:spPr>
          <a:xfrm>
            <a:off x="7020000" y="3933720"/>
            <a:ext cx="1512720" cy="576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ef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? км/ч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AutoShape 9"/>
          <p:cNvSpPr/>
          <p:nvPr/>
        </p:nvSpPr>
        <p:spPr>
          <a:xfrm rot="5400000">
            <a:off x="4499280" y="3861720"/>
            <a:ext cx="360360" cy="3816360"/>
          </a:xfrm>
          <a:custGeom>
            <a:avLst/>
            <a:gdLst>
              <a:gd name="textAreaLeft" fmla="*/ 0 w 360360"/>
              <a:gd name="textAreaRight" fmla="*/ 129960 w 36036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Oval 10"/>
          <p:cNvSpPr/>
          <p:nvPr/>
        </p:nvSpPr>
        <p:spPr>
          <a:xfrm>
            <a:off x="3924360" y="6021360"/>
            <a:ext cx="1512720" cy="576360"/>
          </a:xfrm>
          <a:prstGeom prst="ellipse">
            <a:avLst/>
          </a:prstGeom>
          <a:gradFill rotWithShape="0">
            <a:gsLst>
              <a:gs pos="0">
                <a:srgbClr val="fff8fb"/>
              </a:gs>
              <a:gs pos="100000">
                <a:srgbClr val="ff99cc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1км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Oval 11"/>
          <p:cNvSpPr/>
          <p:nvPr/>
        </p:nvSpPr>
        <p:spPr>
          <a:xfrm>
            <a:off x="3924360" y="4221000"/>
            <a:ext cx="1512720" cy="576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ff99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3 ч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0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5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8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0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521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523" dur="2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8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8" name="Picture 3" descr=""/>
          <p:cNvPicPr/>
          <p:nvPr/>
        </p:nvPicPr>
        <p:blipFill>
          <a:blip r:embed="rId1"/>
          <a:stretch/>
        </p:blipFill>
        <p:spPr>
          <a:xfrm>
            <a:off x="5003640" y="4221000"/>
            <a:ext cx="1897200" cy="24480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4" descr=""/>
          <p:cNvPicPr/>
          <p:nvPr/>
        </p:nvPicPr>
        <p:blipFill>
          <a:blip r:embed="rId2"/>
          <a:stretch/>
        </p:blipFill>
        <p:spPr>
          <a:xfrm>
            <a:off x="2484360" y="4365720"/>
            <a:ext cx="1559160" cy="23032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5" descr=""/>
          <p:cNvPicPr/>
          <p:nvPr/>
        </p:nvPicPr>
        <p:blipFill>
          <a:blip r:embed="rId3"/>
          <a:stretch/>
        </p:blipFill>
        <p:spPr>
          <a:xfrm>
            <a:off x="611280" y="1773360"/>
            <a:ext cx="1685880" cy="24066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6" descr=""/>
          <p:cNvPicPr/>
          <p:nvPr/>
        </p:nvPicPr>
        <p:blipFill>
          <a:blip r:embed="rId4"/>
          <a:stretch/>
        </p:blipFill>
        <p:spPr>
          <a:xfrm>
            <a:off x="6516720" y="1700280"/>
            <a:ext cx="2185920" cy="2593800"/>
          </a:xfrm>
          <a:prstGeom prst="rect">
            <a:avLst/>
          </a:prstGeom>
          <a:ln w="0">
            <a:noFill/>
          </a:ln>
        </p:spPr>
      </p:pic>
      <p:sp>
        <p:nvSpPr>
          <p:cNvPr id="252" name="AutoShape 12"/>
          <p:cNvSpPr/>
          <p:nvPr/>
        </p:nvSpPr>
        <p:spPr>
          <a:xfrm>
            <a:off x="2124000" y="2205000"/>
            <a:ext cx="4753080" cy="2282760"/>
          </a:xfrm>
          <a:custGeom>
            <a:avLst/>
            <a:gdLst>
              <a:gd name="textAreaLeft" fmla="*/ 1085040 w 4753080"/>
              <a:gd name="textAreaRight" fmla="*/ 3668040 w 4753080"/>
              <a:gd name="textAreaTop" fmla="*/ 520920 h 2282760"/>
              <a:gd name="textAreaBottom" fmla="*/ 1761840 h 2282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ef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тр 10 № 2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ознакомьтесь, герои нашего урока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2268360" y="2852640"/>
            <a:ext cx="1897200" cy="2448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"/>
          <p:cNvPicPr/>
          <p:nvPr/>
        </p:nvPicPr>
        <p:blipFill>
          <a:blip r:embed="rId2"/>
          <a:stretch/>
        </p:blipFill>
        <p:spPr>
          <a:xfrm>
            <a:off x="324000" y="1628640"/>
            <a:ext cx="1558800" cy="23036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"/>
          <p:cNvPicPr/>
          <p:nvPr/>
        </p:nvPicPr>
        <p:blipFill>
          <a:blip r:embed="rId3"/>
          <a:stretch/>
        </p:blipFill>
        <p:spPr>
          <a:xfrm>
            <a:off x="4716360" y="1773360"/>
            <a:ext cx="1685880" cy="240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"/>
          <p:cNvPicPr/>
          <p:nvPr/>
        </p:nvPicPr>
        <p:blipFill>
          <a:blip r:embed="rId4"/>
          <a:stretch/>
        </p:blipFill>
        <p:spPr>
          <a:xfrm>
            <a:off x="6588000" y="2708280"/>
            <a:ext cx="2186280" cy="259380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8"/>
          <p:cNvSpPr/>
          <p:nvPr/>
        </p:nvSpPr>
        <p:spPr>
          <a:xfrm>
            <a:off x="250920" y="4149720"/>
            <a:ext cx="2016000" cy="4827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Чарл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2195640" y="2133720"/>
            <a:ext cx="2016000" cy="482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Ген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Rectangle 10"/>
          <p:cNvSpPr/>
          <p:nvPr/>
        </p:nvSpPr>
        <p:spPr>
          <a:xfrm>
            <a:off x="4284720" y="4292640"/>
            <a:ext cx="2016000" cy="482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Барбос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6732720" y="2133720"/>
            <a:ext cx="2016000" cy="482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Мот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Text Box 12"/>
          <p:cNvSpPr/>
          <p:nvPr/>
        </p:nvSpPr>
        <p:spPr>
          <a:xfrm>
            <a:off x="2268360" y="5516640"/>
            <a:ext cx="5853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знайте массу Моти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(в килограммах), если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4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84000" y="188640"/>
            <a:ext cx="662436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7,28 : 1,2 =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: 0,6 =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* 0,1 =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* 10 =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Picture 5" descr=""/>
          <p:cNvPicPr/>
          <p:nvPr/>
        </p:nvPicPr>
        <p:blipFill>
          <a:blip r:embed="rId1"/>
          <a:stretch/>
        </p:blipFill>
        <p:spPr>
          <a:xfrm>
            <a:off x="5003640" y="1413000"/>
            <a:ext cx="1395720" cy="19904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"/>
          <p:cNvPicPr/>
          <p:nvPr/>
        </p:nvPicPr>
        <p:blipFill>
          <a:blip r:embed="rId2"/>
          <a:stretch/>
        </p:blipFill>
        <p:spPr>
          <a:xfrm>
            <a:off x="3276720" y="0"/>
            <a:ext cx="1533240" cy="191628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7"/>
          <p:cNvSpPr/>
          <p:nvPr/>
        </p:nvSpPr>
        <p:spPr>
          <a:xfrm>
            <a:off x="5003640" y="692280"/>
            <a:ext cx="2016360" cy="482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Ген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Picture 8" descr=""/>
          <p:cNvPicPr/>
          <p:nvPr/>
        </p:nvPicPr>
        <p:blipFill>
          <a:blip r:embed="rId3"/>
          <a:stretch/>
        </p:blipFill>
        <p:spPr>
          <a:xfrm>
            <a:off x="2124000" y="1413000"/>
            <a:ext cx="1365480" cy="2016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"/>
          <p:cNvPicPr/>
          <p:nvPr/>
        </p:nvPicPr>
        <p:blipFill>
          <a:blip r:embed="rId4"/>
          <a:stretch/>
        </p:blipFill>
        <p:spPr>
          <a:xfrm>
            <a:off x="5148360" y="4437000"/>
            <a:ext cx="2039760" cy="242100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10"/>
          <p:cNvSpPr/>
          <p:nvPr/>
        </p:nvSpPr>
        <p:spPr>
          <a:xfrm>
            <a:off x="179280" y="1557360"/>
            <a:ext cx="2016360" cy="482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Чарл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6372360" y="2276640"/>
            <a:ext cx="2016000" cy="482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Барбос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12" descr=""/>
          <p:cNvPicPr/>
          <p:nvPr/>
        </p:nvPicPr>
        <p:blipFill>
          <a:blip r:embed="rId5"/>
          <a:stretch/>
        </p:blipFill>
        <p:spPr>
          <a:xfrm>
            <a:off x="611280" y="2997360"/>
            <a:ext cx="1533600" cy="19159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3" descr=""/>
          <p:cNvPicPr/>
          <p:nvPr/>
        </p:nvPicPr>
        <p:blipFill>
          <a:blip r:embed="rId6"/>
          <a:stretch/>
        </p:blipFill>
        <p:spPr>
          <a:xfrm>
            <a:off x="3708360" y="2924280"/>
            <a:ext cx="1365120" cy="201600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14"/>
          <p:cNvSpPr/>
          <p:nvPr/>
        </p:nvSpPr>
        <p:spPr>
          <a:xfrm>
            <a:off x="324000" y="5013360"/>
            <a:ext cx="2016000" cy="482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Ген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Rectangle 15"/>
          <p:cNvSpPr/>
          <p:nvPr/>
        </p:nvSpPr>
        <p:spPr>
          <a:xfrm>
            <a:off x="5148360" y="3860640"/>
            <a:ext cx="2016000" cy="4827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Чарл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Picture 16" descr=""/>
          <p:cNvPicPr/>
          <p:nvPr/>
        </p:nvPicPr>
        <p:blipFill>
          <a:blip r:embed="rId7"/>
          <a:stretch/>
        </p:blipFill>
        <p:spPr>
          <a:xfrm>
            <a:off x="2484360" y="4867200"/>
            <a:ext cx="1395360" cy="199080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17"/>
          <p:cNvSpPr/>
          <p:nvPr/>
        </p:nvSpPr>
        <p:spPr>
          <a:xfrm>
            <a:off x="395280" y="5950080"/>
            <a:ext cx="2016000" cy="482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Барбос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Rectangle 18"/>
          <p:cNvSpPr/>
          <p:nvPr/>
        </p:nvSpPr>
        <p:spPr>
          <a:xfrm>
            <a:off x="7128000" y="6165720"/>
            <a:ext cx="2016000" cy="4827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Мот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AutoShape 19"/>
          <p:cNvSpPr/>
          <p:nvPr/>
        </p:nvSpPr>
        <p:spPr>
          <a:xfrm>
            <a:off x="5148360" y="333360"/>
            <a:ext cx="1655640" cy="1274760"/>
          </a:xfrm>
          <a:custGeom>
            <a:avLst/>
            <a:gdLst>
              <a:gd name="textAreaLeft" fmla="*/ 378000 w 1655640"/>
              <a:gd name="textAreaRight" fmla="*/ 1277640 w 1655640"/>
              <a:gd name="textAreaTop" fmla="*/ 290880 h 1274760"/>
              <a:gd name="textAreaBottom" fmla="*/ 983880 h 1274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14,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AutoShape 20"/>
          <p:cNvSpPr/>
          <p:nvPr/>
        </p:nvSpPr>
        <p:spPr>
          <a:xfrm>
            <a:off x="539640" y="3429000"/>
            <a:ext cx="1656000" cy="1274760"/>
          </a:xfrm>
          <a:custGeom>
            <a:avLst/>
            <a:gdLst>
              <a:gd name="textAreaLeft" fmla="*/ 378000 w 1656000"/>
              <a:gd name="textAreaRight" fmla="*/ 1278000 w 1656000"/>
              <a:gd name="textAreaTop" fmla="*/ 290880 h 1274760"/>
              <a:gd name="textAreaBottom" fmla="*/ 983880 h 1274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14,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AutoShape 21"/>
          <p:cNvSpPr/>
          <p:nvPr/>
        </p:nvSpPr>
        <p:spPr>
          <a:xfrm>
            <a:off x="5219640" y="3429000"/>
            <a:ext cx="1656000" cy="1274760"/>
          </a:xfrm>
          <a:custGeom>
            <a:avLst/>
            <a:gdLst>
              <a:gd name="textAreaLeft" fmla="*/ 378000 w 1656000"/>
              <a:gd name="textAreaRight" fmla="*/ 1278000 w 1656000"/>
              <a:gd name="textAreaTop" fmla="*/ 290880 h 1274760"/>
              <a:gd name="textAreaBottom" fmla="*/ 983880 h 1274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1,4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AutoShape 22"/>
          <p:cNvSpPr/>
          <p:nvPr/>
        </p:nvSpPr>
        <p:spPr>
          <a:xfrm>
            <a:off x="1763640" y="1700280"/>
            <a:ext cx="1656000" cy="1274760"/>
          </a:xfrm>
          <a:custGeom>
            <a:avLst/>
            <a:gdLst>
              <a:gd name="textAreaLeft" fmla="*/ 378000 w 1656000"/>
              <a:gd name="textAreaRight" fmla="*/ 1278000 w 1656000"/>
              <a:gd name="textAreaTop" fmla="*/ 290880 h 1274760"/>
              <a:gd name="textAreaBottom" fmla="*/ 983880 h 1274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1,4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AutoShape 23"/>
          <p:cNvSpPr/>
          <p:nvPr/>
        </p:nvSpPr>
        <p:spPr>
          <a:xfrm>
            <a:off x="6516720" y="1916280"/>
            <a:ext cx="1655640" cy="1274760"/>
          </a:xfrm>
          <a:custGeom>
            <a:avLst/>
            <a:gdLst>
              <a:gd name="textAreaLeft" fmla="*/ 378000 w 1655640"/>
              <a:gd name="textAreaRight" fmla="*/ 1277640 w 1655640"/>
              <a:gd name="textAreaTop" fmla="*/ 290880 h 1274760"/>
              <a:gd name="textAreaBottom" fmla="*/ 983880 h 1274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2,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AutoShape 24"/>
          <p:cNvSpPr/>
          <p:nvPr/>
        </p:nvSpPr>
        <p:spPr>
          <a:xfrm>
            <a:off x="2268360" y="5157720"/>
            <a:ext cx="1656000" cy="1274760"/>
          </a:xfrm>
          <a:custGeom>
            <a:avLst/>
            <a:gdLst>
              <a:gd name="textAreaLeft" fmla="*/ 378000 w 1656000"/>
              <a:gd name="textAreaRight" fmla="*/ 1278000 w 1656000"/>
              <a:gd name="textAreaTop" fmla="*/ 290880 h 1274760"/>
              <a:gd name="textAreaBottom" fmla="*/ 983880 h 1274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2,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AutoShape 25"/>
          <p:cNvSpPr/>
          <p:nvPr/>
        </p:nvSpPr>
        <p:spPr>
          <a:xfrm>
            <a:off x="7056360" y="5013360"/>
            <a:ext cx="2087640" cy="1274760"/>
          </a:xfrm>
          <a:custGeom>
            <a:avLst/>
            <a:gdLst>
              <a:gd name="textAreaLeft" fmla="*/ 476640 w 2087640"/>
              <a:gd name="textAreaRight" fmla="*/ 1611000 w 2087640"/>
              <a:gd name="textAreaTop" fmla="*/ 290880 h 1274760"/>
              <a:gd name="textAreaBottom" fmla="*/ 983880 h 1274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7cd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24(кг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Line 26"/>
          <p:cNvSpPr/>
          <p:nvPr/>
        </p:nvSpPr>
        <p:spPr>
          <a:xfrm flipH="1">
            <a:off x="1619280" y="1197000"/>
            <a:ext cx="3960720" cy="259236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Line 27"/>
          <p:cNvSpPr/>
          <p:nvPr/>
        </p:nvSpPr>
        <p:spPr>
          <a:xfrm flipH="1" flipV="1">
            <a:off x="2700000" y="2636640"/>
            <a:ext cx="3095640" cy="1152360"/>
          </a:xfrm>
          <a:prstGeom prst="line">
            <a:avLst/>
          </a:prstGeom>
          <a:ln w="7632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Line 28"/>
          <p:cNvSpPr/>
          <p:nvPr/>
        </p:nvSpPr>
        <p:spPr>
          <a:xfrm flipH="1">
            <a:off x="3276360" y="2637000"/>
            <a:ext cx="3600360" cy="2879640"/>
          </a:xfrm>
          <a:prstGeom prst="line">
            <a:avLst/>
          </a:prstGeom>
          <a:ln w="763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7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7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8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7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5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50560" y="151920"/>
            <a:ext cx="73054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ри решении примеров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какие правила вам встретились, которые мы еще не повторяли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25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Чтобы умножить десятичную дробь на 10, 100, 1000 и т.д., надо в этой дроби перенести запятую на столько цифр вправо, сколько нулей стоят в множителе после единицы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2700360" y="4797360"/>
            <a:ext cx="5040360" cy="914400"/>
          </a:xfrm>
          <a:prstGeom prst="rect">
            <a:avLst/>
          </a:prstGeom>
          <a:gradFill rotWithShape="0">
            <a:gsLst>
              <a:gs pos="0">
                <a:srgbClr val="ffef66"/>
              </a:gs>
              <a:gs pos="50000">
                <a:srgbClr val="fffffb"/>
              </a:gs>
              <a:gs pos="100000">
                <a:srgbClr val="ffef66"/>
              </a:gs>
            </a:gsLst>
            <a:lin ang="5400000"/>
          </a:gra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2,4 * 10 = 2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50560" y="151920"/>
            <a:ext cx="73054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ри решении примеров  какие правила вам встретились, которые мы еще не повторяли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25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Чтобы умножить число на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0,1; 0,01; 0,001 надо перенести запятую влево на столько цифр, сколько нулей стоит перед единицей в множител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700360" y="4797360"/>
            <a:ext cx="5040360" cy="914400"/>
          </a:xfrm>
          <a:prstGeom prst="rect">
            <a:avLst/>
          </a:prstGeom>
          <a:gradFill rotWithShape="0">
            <a:gsLst>
              <a:gs pos="0">
                <a:srgbClr val="ffef66"/>
              </a:gs>
              <a:gs pos="50000">
                <a:srgbClr val="ffffff"/>
              </a:gs>
              <a:gs pos="100000">
                <a:srgbClr val="ffef66"/>
              </a:gs>
            </a:gsLst>
            <a:lin ang="5400000"/>
          </a:gra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14,4 * 0,1 = 1,4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388360" cy="135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спомним правила деления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десятичных  дробей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на 10; 100; 1000 и т.д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86920" y="1989000"/>
            <a:ext cx="7696440" cy="18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: 10 =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324000" y="2133720"/>
            <a:ext cx="2447640" cy="84132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50000">
                <a:srgbClr val="ffffff"/>
              </a:gs>
              <a:gs pos="100000">
                <a:srgbClr val="ffccff"/>
              </a:gs>
            </a:gsLst>
            <a:lin ang="5400000"/>
          </a:gradFill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Подсказка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9" name="Picture 5" descr=""/>
          <p:cNvPicPr/>
          <p:nvPr/>
        </p:nvPicPr>
        <p:blipFill>
          <a:blip r:embed="rId1"/>
          <a:stretch/>
        </p:blipFill>
        <p:spPr>
          <a:xfrm>
            <a:off x="2916360" y="1628640"/>
            <a:ext cx="2246040" cy="2665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"/>
          <p:cNvPicPr/>
          <p:nvPr/>
        </p:nvPicPr>
        <p:blipFill>
          <a:blip r:embed="rId2"/>
          <a:stretch/>
        </p:blipFill>
        <p:spPr>
          <a:xfrm>
            <a:off x="6659640" y="2565360"/>
            <a:ext cx="704880" cy="83664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9"/>
          <p:cNvSpPr/>
          <p:nvPr/>
        </p:nvSpPr>
        <p:spPr>
          <a:xfrm>
            <a:off x="0" y="4149720"/>
            <a:ext cx="8769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Чтобы разделить десятичную дробь на 10; 100; 1000…, надо перенести запятую в этой дроби на столько цифр влево, сколько нулей стоит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           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после единицы в делител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Rectangle 10"/>
          <p:cNvSpPr/>
          <p:nvPr/>
        </p:nvSpPr>
        <p:spPr>
          <a:xfrm>
            <a:off x="4284720" y="5950080"/>
            <a:ext cx="4174920" cy="76500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50000">
                <a:srgbClr val="ffffff"/>
              </a:gs>
              <a:gs pos="100000">
                <a:srgbClr val="ffccff"/>
              </a:gs>
            </a:gsLst>
            <a:lin ang="5400000"/>
          </a:gradFill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24 : 10 = 2,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203" nodeType="clickEffect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8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ычислите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71280" y="1125360"/>
            <a:ext cx="381636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4,38 : 10 =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2,6 : 10 =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304,6 : 100 =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618 : 100 =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324,6 : 1000 =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6,8 : 1000=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6188040" y="2492280"/>
            <a:ext cx="2955960" cy="381636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5"/>
          <p:cNvSpPr/>
          <p:nvPr/>
        </p:nvSpPr>
        <p:spPr>
          <a:xfrm>
            <a:off x="3708360" y="1125360"/>
            <a:ext cx="1513080" cy="43344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f8fff8"/>
              </a:gs>
              <a:gs pos="100000">
                <a:srgbClr val="99ff99"/>
              </a:gs>
            </a:gsLst>
            <a:lin ang="5400000"/>
          </a:gra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0,438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3708360" y="1628640"/>
            <a:ext cx="1513080" cy="43344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ffffff"/>
              </a:gs>
              <a:gs pos="100000">
                <a:srgbClr val="99ff99"/>
              </a:gs>
            </a:gsLst>
            <a:lin ang="5400000"/>
          </a:gra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1,26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4211640" y="2781360"/>
            <a:ext cx="1512720" cy="43344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ffffff"/>
              </a:gs>
              <a:gs pos="100000">
                <a:srgbClr val="99ff99"/>
              </a:gs>
            </a:gsLst>
            <a:lin ang="5400000"/>
          </a:gra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3,046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Rectangle 8"/>
          <p:cNvSpPr/>
          <p:nvPr/>
        </p:nvSpPr>
        <p:spPr>
          <a:xfrm>
            <a:off x="4211640" y="3284640"/>
            <a:ext cx="1512720" cy="43344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ffffff"/>
              </a:gs>
              <a:gs pos="100000">
                <a:srgbClr val="99ff99"/>
              </a:gs>
            </a:gsLst>
            <a:lin ang="5400000"/>
          </a:gra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6,18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4500720" y="4365720"/>
            <a:ext cx="1512720" cy="43344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ffffff"/>
              </a:gs>
              <a:gs pos="100000">
                <a:srgbClr val="99ff99"/>
              </a:gs>
            </a:gsLst>
            <a:lin ang="5400000"/>
          </a:gra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0,3246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4500720" y="4869000"/>
            <a:ext cx="1512720" cy="43308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ffffff"/>
              </a:gs>
              <a:gs pos="100000">
                <a:srgbClr val="99ff99"/>
              </a:gs>
            </a:gsLst>
            <a:lin ang="5400000"/>
          </a:gra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0,0068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6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6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8360" cy="13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спомним правила деления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на 0,1; 0,01; 0,001 и т.д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78920" y="1844280"/>
            <a:ext cx="7696440" cy="184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: 0,1 =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324000" y="1989000"/>
            <a:ext cx="2447640" cy="8416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mic Sans MS"/>
              </a:rPr>
              <a:t>Подсказка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0" y="4149720"/>
            <a:ext cx="8769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Чтобы разделить десятичную дробь на 0,1; 0,01; 0,001…, надо перенести в ней запятую  на столько цифр вправо, сколько в делителе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            </a:t>
            </a: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стоит нулей перед единице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4284720" y="5950080"/>
            <a:ext cx="4174920" cy="7650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1,44 : 0,1 = 14,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7" name="Picture 9" descr=""/>
          <p:cNvPicPr/>
          <p:nvPr/>
        </p:nvPicPr>
        <p:blipFill>
          <a:blip r:embed="rId1"/>
          <a:stretch/>
        </p:blipFill>
        <p:spPr>
          <a:xfrm>
            <a:off x="5724360" y="1341360"/>
            <a:ext cx="1901880" cy="28083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0" descr=""/>
          <p:cNvPicPr/>
          <p:nvPr/>
        </p:nvPicPr>
        <p:blipFill>
          <a:blip r:embed="rId2"/>
          <a:stretch/>
        </p:blipFill>
        <p:spPr>
          <a:xfrm>
            <a:off x="3564000" y="2349360"/>
            <a:ext cx="63504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5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336" nodeType="clickEffect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0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1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ычислите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71280" y="1125360"/>
            <a:ext cx="381636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4,38 : 0,1 =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2,6 : 0,1 =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3,046 : 0,01 =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0, 618 : 0,01 =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3,246 : 0,001 =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0, 0068 : 0,001=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1" name="Picture 4" descr=""/>
          <p:cNvPicPr/>
          <p:nvPr/>
        </p:nvPicPr>
        <p:blipFill>
          <a:blip r:embed="rId1"/>
          <a:stretch/>
        </p:blipFill>
        <p:spPr>
          <a:xfrm>
            <a:off x="6188040" y="2492280"/>
            <a:ext cx="2955960" cy="381636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5"/>
          <p:cNvSpPr/>
          <p:nvPr/>
        </p:nvSpPr>
        <p:spPr>
          <a:xfrm>
            <a:off x="3708360" y="1125360"/>
            <a:ext cx="1513080" cy="43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ff99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43,8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3708360" y="1628640"/>
            <a:ext cx="1513080" cy="43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ff99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126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4211640" y="2781360"/>
            <a:ext cx="1512720" cy="43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ff99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304,6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Rectangle 8"/>
          <p:cNvSpPr/>
          <p:nvPr/>
        </p:nvSpPr>
        <p:spPr>
          <a:xfrm>
            <a:off x="4211640" y="3284640"/>
            <a:ext cx="1512720" cy="43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ff99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61,8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Rectangle 9"/>
          <p:cNvSpPr/>
          <p:nvPr/>
        </p:nvSpPr>
        <p:spPr>
          <a:xfrm>
            <a:off x="4572000" y="4365720"/>
            <a:ext cx="1512720" cy="43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ff99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3246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Rectangle 10"/>
          <p:cNvSpPr/>
          <p:nvPr/>
        </p:nvSpPr>
        <p:spPr>
          <a:xfrm>
            <a:off x="4572000" y="4869000"/>
            <a:ext cx="1512720" cy="43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ff99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6,8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0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3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8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1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9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10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0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1000" fill="hold"/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1000" fill="hold"/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9T04:53:31Z</dcterms:created>
  <dc:creator>Каратанова</dc:creator>
  <dc:description/>
  <dc:language>en-US</dc:language>
  <cp:lastModifiedBy>User</cp:lastModifiedBy>
  <dcterms:modified xsi:type="dcterms:W3CDTF">2021-09-06T12:10:10Z</dcterms:modified>
  <cp:revision>11</cp:revision>
  <dc:subject/>
  <dc:title>Здравствуй,  школа!</dc:title>
</cp:coreProperties>
</file>